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EB59A06-837E-4FFA-B4EB-B56BFE4007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366BC755-44A4-4FC5-8F4B-2E51DDE0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6B09EBF-C06B-4D87-BED1-8CCD9E7E01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5523292-7867-4045-B1B7-9035D68082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B2EAE04-00FC-437F-BB36-45DFAB6438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CE0669D-853B-45A8-A2A1-3488DAD3F5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EFCEA917-CDE1-49F1-9B4B-D583185184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DBBE58B8-C145-41C8-AEE9-F8D6A7C4E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0A95416-3DDE-46C5-AE41-EBCE076318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AE7B912-C563-4793-B4AB-1C5A1AD78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C75A760-AE62-487E-8DE7-B1812FEE83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5A8759E-795A-4393-89C5-E4225AB9B4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F7AB1556-D581-4E19-B56F-36D5D1E0E3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5F5DAC59-1F80-4905-9466-2C878D0847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7A18823E-B34D-419C-87C7-EC74EC4FFC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6CE2A33-9388-414F-AAD6-CB1F29953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41CE72E-DD5D-41EC-BC84-BBC239BCE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46C8121-89D9-43D2-B477-A927B136E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028-BB44-4277-82AA-33876A18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603B-2ABD-4ABA-B946-D389EC83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16A-C52B-4DE8-8887-654B7804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D50-321D-467B-BF74-7C97FDD6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177-F1FB-4321-B709-46AEBE97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D56-7271-4A1F-8FA6-76A14D07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92C-A70C-44FC-8CB1-D6B902C0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E9EF-79B7-4417-9B04-ED9EC4F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15A4-2A3C-485D-B530-46141ADD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4FD-C336-4B3E-A34C-83727C8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EBE0-A77F-4AA9-87E9-D98ABE58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3F4-1E24-4860-9553-31952BF8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EB7B-F7C5-4F03-857E-EFE3D6C3D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C574-2234-4BB3-B40C-5606F17E0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37260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1</a:t>
            </a:r>
            <a:br>
              <a:rPr sz="4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eakers"/>
          <p:cNvPicPr/>
          <p:nvPr/>
        </p:nvPicPr>
        <p:blipFill>
          <a:blip r:embed="rId1"/>
          <a:stretch/>
        </p:blipFill>
        <p:spPr>
          <a:xfrm>
            <a:off x="1905120" y="2209680"/>
            <a:ext cx="4495680" cy="4121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3BBA-BDBB-4BFE-92C2-4CD3F9F2F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efficients IN FRONT of the entire formulas to balance the equation so that it obeys the law of conservation of mass. However, the coefficient of 1 is omitted from the front of the formu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-176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n burns in the presence of oxygen to produce carbon monox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keleton or base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914400" y="3733920"/>
            <a:ext cx="7543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3962520"/>
            <a:ext cx="2133720" cy="1069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iatomic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2133720" y="4191120"/>
            <a:ext cx="213336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143000" y="5029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number of atoms of each element on both sides of the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828800" y="58672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828800" y="6248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324480" y="5867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6324480" y="62485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276720" y="57913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This is a balance equation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67C6-A82C-4CF0-A6EF-461D8DE50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6324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les for Balanc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ect formul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the reactants an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between more than one reactant and product if necess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reactants and product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he number of atom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ty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ing 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elem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at a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dding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effic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eeded (the numbers in front)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balancing the H and O until la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nt - save O until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st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HECK to make sure equatio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qual amount of each element on both si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o make sure all coefficients are in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w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ole number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5F80-6D12-41F6-B4A8-E196402A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83908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ng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alance an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hange the formula you are describing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a different compound than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t a coefficient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Cl is okay, but Na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 is 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3352680" y="228600"/>
            <a:ext cx="213372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ev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4D4C-5F43-4BEB-8D03-F40B19EA0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lance the Following Chemical Equ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93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hydrogen and oxygen are mixed, a spark will initiate a rapid reaction.  The product of the reaction is 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1: Write the proper equation - correct formulas for reactants and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– hydrogen and oxyg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-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52480" y="335268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791320" y="3429000"/>
            <a:ext cx="1066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350532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39625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2: Count the number of atoms of each type appearing on both sid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1371600" y="4267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638680" y="426708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20574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888000" y="4270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6250320" y="4267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80773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0" y="4876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ep 3: Balance atoms one at a time by adding coeffici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1447920" y="5334120"/>
            <a:ext cx="2895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"/>
          <p:cNvSpPr/>
          <p:nvPr/>
        </p:nvSpPr>
        <p:spPr>
          <a:xfrm>
            <a:off x="3200400" y="55627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5803920" y="5334120"/>
            <a:ext cx="826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5562720" y="53341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6781680" y="4724280"/>
            <a:ext cx="236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lacing a coefficient of 2 in front of water balances the O but unbalances the hydr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 flipH="1" flipV="1">
            <a:off x="5791320" y="5791320"/>
            <a:ext cx="914400" cy="761760"/>
          </a:xfrm>
          <a:prstGeom prst="line">
            <a:avLst/>
          </a:prstGeom>
          <a:ln w="31680">
            <a:solidFill>
              <a:srgbClr val="cc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1219320" y="53341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2057400" y="5851440"/>
            <a:ext cx="3200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Placing a coefficient of 2 in front of H</a:t>
            </a:r>
            <a:r>
              <a:rPr b="0" lang="en-US" sz="2000" spc="-1" strike="noStrike" baseline="-25000">
                <a:solidFill>
                  <a:srgbClr val="cc0099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rebalances the hydro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3"/>
          <p:cNvSpPr/>
          <p:nvPr/>
        </p:nvSpPr>
        <p:spPr>
          <a:xfrm flipH="1" flipV="1">
            <a:off x="1371240" y="5790960"/>
            <a:ext cx="609480" cy="685800"/>
          </a:xfrm>
          <a:prstGeom prst="line">
            <a:avLst/>
          </a:prstGeom>
          <a:ln w="31680">
            <a:solidFill>
              <a:srgbClr val="cc0099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8305920" y="61722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8153280" y="6248520"/>
            <a:ext cx="5335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40E-96A5-4ABB-914D-AC3C88BB2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lanced Chemical Equ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properly balanced chemical e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H</a:t>
            </a:r>
            <a:r>
              <a:rPr b="0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the same number and kinds of each element in the reactants and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hydrogen and 2 oxygen atoms in th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hydrogen and 2 oxygen atoms in the produc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343400" y="2286000"/>
            <a:ext cx="175248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1354-35BE-4067-ABEE-2E1DF2F6E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2407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Examples/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AgN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Cu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Cu(N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A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Mg + _N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M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P + _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P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Na +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NaO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_C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_CO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_H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1000" y="113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89728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4215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164720" y="1143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09480" y="213372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057400" y="21337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3488040" y="2049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2100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168768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3259440" y="3040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6210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19926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86892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5193000" y="40305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5922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2209680" y="495288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3792600" y="4952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5421600" y="49449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9CF0-47E4-4B95-8C02-814533121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15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tion 11.2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e the five general types of reac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dict the products of the five general types of reac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51E6-51B1-4D71-A1BB-76B252E94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51055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illions of re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’t remember them all, but luckily they will fall into several catego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learn 5 major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recognize reaction type by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B9E1-F4D1-4DD4-94F7-836A31951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58672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ynthesis 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+B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ecomposition Rea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Arial"/>
              </a:rPr>
              <a:t>Single Replace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+ BC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 + A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 + CD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C + B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Combus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75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ygen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s a react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and either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CO as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136-4EED-4B1B-8E81-52385453B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32448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ynthesis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re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= pu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substances to form 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w substance (a comp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a +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predict the products if the reactants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 +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g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4343400" y="5943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1C7C-FAC1-4C69-A25E-CA8470C8B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7467480" cy="137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1.1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bing Chemical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write a word eq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how to write a skeleton equ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the steps for writing a balanced chemical equ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0214-0ED9-4251-B323-3CCF9A51C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Decomposition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ompose = fall ap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ound breaks down into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wo or m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mpler produ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eacta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products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NaCl                     2Na + 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CaO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eat, sunlight, electricity, etc.) is usually requ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1676520" y="2895480"/>
                <a:ext cx="2246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electricity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1752480" y="3581280"/>
                <a:ext cx="144792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179" name="Group 14"/>
          <p:cNvGrpSpPr/>
          <p:nvPr/>
        </p:nvGrpSpPr>
        <p:grpSpPr>
          <a:xfrm>
            <a:off x="462960" y="4952880"/>
            <a:ext cx="8046000" cy="2727720"/>
            <a:chOff x="462960" y="4952880"/>
            <a:chExt cx="8046000" cy="2727720"/>
          </a:xfrm>
        </p:grpSpPr>
        <mc:AlternateContent>
          <mc:Choice xmlns:a14="http://schemas.microsoft.com/office/drawing/2010/main" Requires="a14">
            <p:sp>
              <p:nvSpPr>
                <p:cNvPr id="180" name="Object 6"/>
                <p:cNvSpPr txBox="1"/>
                <p:nvPr/>
              </p:nvSpPr>
              <p:spPr>
                <a:xfrm>
                  <a:off x="2530440" y="4962600"/>
                  <a:ext cx="285588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rPr>
                              <m:lit/>
                              <m:nor/>
                            </m:rPr>
                            <m:t xml:space="preserve">  electricity  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81" name="Text Box 7"/>
            <p:cNvSpPr/>
            <p:nvPr/>
          </p:nvSpPr>
          <p:spPr>
            <a:xfrm>
              <a:off x="4575240" y="5040360"/>
              <a:ext cx="32428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g) +  O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8"/>
            <p:cNvSpPr/>
            <p:nvPr/>
          </p:nvSpPr>
          <p:spPr>
            <a:xfrm>
              <a:off x="839160" y="4952880"/>
              <a:ext cx="14216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O(l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9"/>
            <p:cNvSpPr/>
            <p:nvPr/>
          </p:nvSpPr>
          <p:spPr>
            <a:xfrm>
              <a:off x="853920" y="56484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0"/>
            <p:cNvSpPr/>
            <p:nvPr/>
          </p:nvSpPr>
          <p:spPr>
            <a:xfrm>
              <a:off x="549000" y="4962600"/>
              <a:ext cx="46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1"/>
            <p:cNvSpPr/>
            <p:nvPr/>
          </p:nvSpPr>
          <p:spPr>
            <a:xfrm>
              <a:off x="4665240" y="5038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2"/>
            <p:cNvSpPr/>
            <p:nvPr/>
          </p:nvSpPr>
          <p:spPr>
            <a:xfrm>
              <a:off x="6301080" y="6611760"/>
              <a:ext cx="496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3"/>
            <p:cNvSpPr/>
            <p:nvPr/>
          </p:nvSpPr>
          <p:spPr>
            <a:xfrm>
              <a:off x="462960" y="6218280"/>
              <a:ext cx="804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youtube.com/watch?v=m_21KafrwRc&amp;feature=related (3:18 m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://www.youtube.com/watch?v=__gHPblNumM&amp;feature=related (6:23 min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0EE5-548A-4B14-AFCD-4148F2F2B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5333760" cy="67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9900"/>
                </a:solidFill>
                <a:latin typeface="Arial"/>
              </a:rPr>
              <a:t>Single Replac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lement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repla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other in a compou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 must be an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will be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  +  NaCl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KCl + 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n +  2HCl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ZnCl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AB11-00B8-491D-B3D0-8EFFA6F3A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0199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ants are always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wo compou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roducts are always </a:t>
            </a:r>
            <a:r>
              <a:rPr b="1" lang="en-US" sz="2800" spc="-1" strike="noStrike">
                <a:solidFill>
                  <a:srgbClr val="9966ff"/>
                </a:solidFill>
                <a:latin typeface="Arial"/>
              </a:rPr>
              <a:t>two different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s the exchange of positive ions between 2 compou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wo things replace each oth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tants must be two </a:t>
            </a:r>
            <a:r>
              <a:rPr b="1" lang="en-US" sz="3000" spc="-1" strike="noStrike">
                <a:solidFill>
                  <a:srgbClr val="9966ff"/>
                </a:solidFill>
                <a:latin typeface="Arial"/>
              </a:rPr>
              <a:t>ionic</a:t>
            </a: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9966ff"/>
                </a:solidFill>
                <a:latin typeface="Arial"/>
              </a:rPr>
              <a:t>compounds</a:t>
            </a:r>
            <a:r>
              <a:rPr b="0" lang="en-US" sz="3000" spc="-1" strike="noStrike">
                <a:solidFill>
                  <a:srgbClr val="9966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aOH +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?????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ositive ions change pla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200" spc="-1" strike="noStrike" baseline="30000">
                <a:solidFill>
                  <a:srgbClr val="ff33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200" spc="-1" strike="noStrike" baseline="30000">
                <a:solidFill>
                  <a:srgbClr val="0033cc"/>
                </a:solidFill>
                <a:latin typeface="Arial"/>
              </a:rPr>
              <a:t>+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H + </a:t>
            </a: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400" spc="-1" strike="noStrike">
                <a:solidFill>
                  <a:srgbClr val="ff3300"/>
                </a:solidFill>
                <a:latin typeface="Arial"/>
              </a:rPr>
              <a:t>Fe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H)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3400" spc="-1" strike="noStrike">
                <a:solidFill>
                  <a:srgbClr val="0033cc"/>
                </a:solidFill>
                <a:latin typeface="Arial"/>
              </a:rPr>
              <a:t>N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opY3FLrPTa4 (1:30 mi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DCA3-4043-4960-9A3F-A4E771ED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9112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ly, a compound composed of only C, H, (and maybe O) is reacted with oxygen – usually called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releases energy in the form of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bus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products will be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mbustion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ompl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products will be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C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q6eIqNpdvlw&amp;NR=1 (1:32 min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EEFA-B63A-4148-8464-63FE0114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: an equat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a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balance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der to follow the Law of Conservation of M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only be balanced by changing 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oeffic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VER SUBSCRIPTS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pecial symbols to indicate physical state, if heat or energy is required,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 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tell what type of reaction is occurring by looking a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c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youtube.com/watch?v=i-HHvx1VC_8&amp;NR=1 (1:29 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72F6-0E46-451F-B0E7-6FD51F238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81240" y="-30528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entifying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ynthe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Single replacement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el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compou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if the reaction occu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ff"/>
                </a:solidFill>
                <a:latin typeface="Arial"/>
              </a:rPr>
              <a:t>Double replacement</a:t>
            </a:r>
            <a:r>
              <a:rPr b="0" lang="en-US" sz="2000" spc="-1" strike="noStrike">
                <a:solidFill>
                  <a:srgbClr val="99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compou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different compoun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Combus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the reactants will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always be one of the products – the other product will either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youtube.com/watch?v=tE4668aarck 1:36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youtube.com/watch?v=ul4xRy8hcsQ (5:12 mi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61A6-19DE-4384-BAC2-5980DAC0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mical Re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24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reactions occur everyday, everywhere.  There are thousands of different reactions that occ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80880" y="22096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</a:rPr>
              <a:t>Diges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igestion"/>
          <p:cNvPicPr/>
          <p:nvPr/>
        </p:nvPicPr>
        <p:blipFill>
          <a:blip r:embed="rId1"/>
          <a:stretch/>
        </p:blipFill>
        <p:spPr>
          <a:xfrm>
            <a:off x="380880" y="2666880"/>
            <a:ext cx="1227240" cy="14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3276720" y="2209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hotosynthe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photosynthesis"/>
          <p:cNvPicPr/>
          <p:nvPr/>
        </p:nvPicPr>
        <p:blipFill>
          <a:blip r:embed="rId2"/>
          <a:stretch/>
        </p:blipFill>
        <p:spPr>
          <a:xfrm>
            <a:off x="3048120" y="2666880"/>
            <a:ext cx="2286000" cy="1309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609588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ff"/>
                </a:solidFill>
                <a:latin typeface="Arial"/>
              </a:rPr>
              <a:t>Respi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mitochondria"/>
          <p:cNvPicPr/>
          <p:nvPr/>
        </p:nvPicPr>
        <p:blipFill>
          <a:blip r:embed="rId3"/>
          <a:stretch/>
        </p:blipFill>
        <p:spPr>
          <a:xfrm>
            <a:off x="6324480" y="2666880"/>
            <a:ext cx="962280" cy="1390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0"/>
          <p:cNvSpPr/>
          <p:nvPr/>
        </p:nvSpPr>
        <p:spPr>
          <a:xfrm>
            <a:off x="1219320" y="44956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Baking Cook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cookies"/>
          <p:cNvPicPr/>
          <p:nvPr/>
        </p:nvPicPr>
        <p:blipFill>
          <a:blip r:embed="rId4"/>
          <a:stretch/>
        </p:blipFill>
        <p:spPr>
          <a:xfrm>
            <a:off x="914400" y="4952880"/>
            <a:ext cx="2209680" cy="1468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4572000" y="44197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Explosion of the Hindenbur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hindenburg"/>
          <p:cNvPicPr/>
          <p:nvPr/>
        </p:nvPicPr>
        <p:blipFill>
          <a:blip r:embed="rId5"/>
          <a:stretch/>
        </p:blipFill>
        <p:spPr>
          <a:xfrm>
            <a:off x="5105520" y="4876920"/>
            <a:ext cx="2133360" cy="15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F96C-4E9C-4E90-9DF3-13F89158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64008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chemical reactio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228960" y="1257120"/>
            <a:ext cx="93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two parts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an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the substances you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the substances you end up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actants turn into the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ants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rrow is read as y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2743200" y="3962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3EE-B234-4387-954C-BC35F223F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7704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mbols used in Equ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solid:  Ag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gas: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liquid: 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fter the formula = dissolved in water, an aqueous solution: Na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lt water s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d after a product indicates a gas has been produced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d after a product indicates a precipitate has been produced: P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70C5-CAED-4B15-AA97-0B775AA3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80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ols used in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dicates a reversible reaction (more la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s that heat or energy is supplied to the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4"/>
          <p:cNvGrpSpPr/>
          <p:nvPr/>
        </p:nvGrpSpPr>
        <p:grpSpPr>
          <a:xfrm>
            <a:off x="762120" y="1371600"/>
            <a:ext cx="1295280" cy="152280"/>
            <a:chOff x="762120" y="1371600"/>
            <a:chExt cx="1295280" cy="152280"/>
          </a:xfrm>
        </p:grpSpPr>
        <p:sp>
          <p:nvSpPr>
            <p:cNvPr id="78" name="Line 5"/>
            <p:cNvSpPr/>
            <p:nvPr/>
          </p:nvSpPr>
          <p:spPr>
            <a:xfrm>
              <a:off x="762120" y="1523880"/>
              <a:ext cx="129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6"/>
            <p:cNvSpPr/>
            <p:nvPr/>
          </p:nvSpPr>
          <p:spPr>
            <a:xfrm>
              <a:off x="1905120" y="1371600"/>
              <a:ext cx="152280" cy="152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7"/>
          <p:cNvGrpSpPr/>
          <p:nvPr/>
        </p:nvGrpSpPr>
        <p:grpSpPr>
          <a:xfrm>
            <a:off x="685440" y="1752480"/>
            <a:ext cx="1295640" cy="152640"/>
            <a:chOff x="685440" y="1752480"/>
            <a:chExt cx="1295640" cy="152640"/>
          </a:xfrm>
        </p:grpSpPr>
        <p:sp>
          <p:nvSpPr>
            <p:cNvPr id="81" name="Line 8"/>
            <p:cNvSpPr/>
            <p:nvPr/>
          </p:nvSpPr>
          <p:spPr>
            <a:xfrm flipH="1">
              <a:off x="685800" y="1752480"/>
              <a:ext cx="129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"/>
            <p:cNvSpPr/>
            <p:nvPr/>
          </p:nvSpPr>
          <p:spPr>
            <a:xfrm flipH="1" flipV="1">
              <a:off x="685440" y="1752480"/>
              <a:ext cx="152280" cy="15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762120" y="3505320"/>
                <a:ext cx="592128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,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      heat        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0F2B-0642-4A1E-9BC5-E2A8C155E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6316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we begin to balance chemical equations lets talk about what the term balanced means by using an equation for the production of a bicyc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basic components needed to manufacture a bicyc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+ wheel + handlebar + pedal = bik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equation shows the reactants and produ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f we were responsible for ordering the parts to make the bike?  Is this equation suffici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DDEB-A24D-44AF-BEBD-F93FA8E5E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know how many of each component is needed to manufacture th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rame, 2 wheels, 1 handlebar, and 2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se symbols the formula for our bike would be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quation for the manufacture of the bike would becom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+ W + H + P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problem with our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not a balanced equation – the number of parts do not equal the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not the same number of each part on the left as there is on the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r equation should b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+ 2W + H + 2P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W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now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quation showing the same number of each part on the left and on the righ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A27-9CC7-4FB7-AA90-90EA82CB8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82296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alanc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hemic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is true for a balanc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ember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s can not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roy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n ordinary reaction – the atoms are mer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rran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breaking and forming of bo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chemical change, mass is con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toms in the products are the same atoms that were in the reactants – they are just rearrang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w of Conservation of 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anced equation has the same number of atoms of each elemen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n both s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20:47:26Z</dcterms:created>
  <dc:creator>Kelly Morgan</dc:creator>
  <dc:description/>
  <dc:language>en-US</dc:language>
  <cp:lastModifiedBy>cti</cp:lastModifiedBy>
  <dcterms:modified xsi:type="dcterms:W3CDTF">2014-04-18T18:33:18Z</dcterms:modified>
  <cp:revision>200</cp:revision>
  <dc:subject/>
  <dc:title>Chapter 2:  Matter and Change</dc:title>
</cp:coreProperties>
</file>