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1E7B7BE7-4906-45A1-AEE5-26E06D5C1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F27496A-9D74-4B2A-B2E1-5EA83ED88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E6750A1-D5B4-4443-A92C-80D2DA9C7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A3C9CCAF-F153-4A5E-8256-C2EF4D6E7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616F79D-10C6-48F6-B353-876A2C5F9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66134F8-E61A-41D0-B3F0-B574FF335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2040729-37DE-43FA-9F89-5E6BA788D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2288711-C58E-4B7E-A077-DD5154087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A32D0C1-245E-4EE3-B2BF-25E94B4CB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BFD72FF-BF1D-40CB-B33C-EA320306F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8AB2A39F-8665-45C2-A999-60C9D67CB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45D2345-033A-4030-A7DC-48521BEAB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16EEC9E-DE7B-42F7-89C0-899753D61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BB37542-5728-49F3-A50A-42EABB754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A5BBBA70-4E2F-4BE1-9CC5-DCEAA4892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E5EBBF0-6274-4D72-8B1D-0A3EC5C7C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1D7F4FB7-322D-4D67-9A0C-30D5605E7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7FDB360-35F1-451B-8723-348CA2E5E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23B-9D41-4A18-8AAF-A73CD3FB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F55-BFEB-4EED-8E90-641E8C3A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C3A-CED5-4209-86B9-F95E4239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871-55C8-4C9D-BC6F-E0498A33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685-AFDE-4F11-B478-789864B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0AE-284A-4378-9EBA-17E506D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8E6-470D-488B-80B0-8CC756D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5D6-F054-4153-967C-8335F199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9CD-F6CC-4873-8936-FDD778C8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CC1-8E1A-45EA-8958-AA6A196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51F-B973-4E5C-91A3-D676A9F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E93-D974-46CD-A9EA-B909C55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8F9-57EE-4459-927E-9F377144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EC24-FD1A-4D44-925A-97EA4787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7260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eakers"/>
          <p:cNvPicPr/>
          <p:nvPr/>
        </p:nvPicPr>
        <p:blipFill>
          <a:blip r:embed="rId1"/>
          <a:stretch/>
        </p:blipFill>
        <p:spPr>
          <a:xfrm>
            <a:off x="1905120" y="2209680"/>
            <a:ext cx="4495680" cy="4121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0534-4C85-426C-94A1-2CCA4F82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efficients IN FRONT of the entire formulas to balance the equation so that it obeys the law of conservation of mass. However, the coefficient of 1 is omitted from the front of th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burns in the presence of oxygen to produce carbon monox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eleton or base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14400" y="3733920"/>
            <a:ext cx="754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3962520"/>
            <a:ext cx="2133720" cy="106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iatomic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2133720" y="4191120"/>
            <a:ext cx="213336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43000" y="5029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number of atoms of each element on both sides of th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828800" y="5867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8288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324480" y="5867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324480" y="6248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276720" y="57913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his is a balance equation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48C-13A0-4C60-86D2-9AA8376B2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6324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Balanc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ect formu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the reactants an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between more than one reactant and product if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reactants and product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number of atom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ing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lem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at a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needed (the numbers in front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balancing the H and O until la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nt - save O until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CK to make sure equation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qual amount of each element on both si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o make sure all coefficients are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F5D-A440-4B11-8DD7-7CD80A169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alance an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ange the formula you are describ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a different compound tha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 a coefficient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is okay, but Na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is 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3352680" y="228600"/>
            <a:ext cx="2133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6527-3E6B-485C-8DF4-6CCD6670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e the Following Chemical Equ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ydrogen and oxygen are mixed, a spark will initiate a rapid reaction.  The product of the reaction is 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ep 1: Write the proper equation - correct formulas for reactants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– hydrogen and oxy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-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52480" y="335268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91320" y="3429000"/>
            <a:ext cx="1066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50532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39625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ep 2: Count the number of atoms of each type appearing on both si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7160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638680" y="426708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74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888000" y="4270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25032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80773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ep 3: Balance atoms one at a time by adding coeffici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447920" y="533412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3200400" y="5562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5803920" y="533412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562720" y="5334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781680" y="4724280"/>
            <a:ext cx="236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Placing a coefficient of 2 in front of water balances the O but unbalances the hydr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H="1" flipV="1">
            <a:off x="5791320" y="5791320"/>
            <a:ext cx="914400" cy="761760"/>
          </a:xfrm>
          <a:prstGeom prst="line">
            <a:avLst/>
          </a:prstGeom>
          <a:ln w="31680">
            <a:solidFill>
              <a:srgbClr val="cc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1219320" y="5334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057400" y="5851440"/>
            <a:ext cx="3200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Placing a coefficient of 2 in front of H</a:t>
            </a:r>
            <a:r>
              <a:rPr b="0" lang="en-US" sz="2000" spc="-1" strike="noStrike" baseline="-25000">
                <a:solidFill>
                  <a:srgbClr val="cc00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balances the hydr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 flipH="1" flipV="1">
            <a:off x="1371240" y="5790960"/>
            <a:ext cx="609480" cy="685800"/>
          </a:xfrm>
          <a:prstGeom prst="line">
            <a:avLst/>
          </a:prstGeom>
          <a:ln w="31680">
            <a:solidFill>
              <a:srgbClr val="cc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8305920" y="61722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8153280" y="6248520"/>
            <a:ext cx="533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812-694E-4EDF-921D-96A9D558C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d Chem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properly balanced chemical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 same number and kinds of each element in the reactants and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hydrogen and 2 oxygen atoms in th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hydrogen and 2 oxygen atoms in the produ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343400" y="228600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2B75-7111-4D48-AEF1-864AD9E8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407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Examples/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AgN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Cu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Cu(N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A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Mg + _N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M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P + _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P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Na + _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NaO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C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C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1000" y="113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89728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42152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16472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09480" y="21337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057400" y="21337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488040" y="204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21000" y="304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687680" y="304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259440" y="304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2100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99260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86892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19300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922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2209680" y="49528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7926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5421600" y="494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67D-784A-48D3-9F11-06E4C4DCE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11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five general types of re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 the products of the five general types of re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3C9-B006-4094-A05D-914C8056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1055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illions of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’t remember them all, but luckily they will fall into several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earn 5 major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recognize reaction type by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352-A5E9-44B6-BAF1-0723AE18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58672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nthesis 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+B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ecomposition 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Single Replacem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 + A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Double Replacem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 + CD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C + 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Combus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s a rea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either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CO a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0AD-0ADB-40BA-977B-640954F4D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thesi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re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= pu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substances to form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 substance (a comp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a +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redict the products if the reactant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 +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343400" y="594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DC01-4322-4278-AEA3-F804693F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467480" cy="13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ing 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write a word eq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write a skeleton eq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steps for writing a balanced chemical equ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B63-4D3B-471A-8B0F-1D9C401B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ompose = fall ap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breaks down into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wo or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er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acta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product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aCl                     2Na +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CaO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eat, sunlight, electricity, etc.) is usually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676520" y="2895480"/>
                <a:ext cx="2246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52480" y="3581280"/>
                <a:ext cx="14479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9" name="Group 14"/>
          <p:cNvGrpSpPr/>
          <p:nvPr/>
        </p:nvGrpSpPr>
        <p:grpSpPr>
          <a:xfrm>
            <a:off x="462960" y="4952880"/>
            <a:ext cx="8046000" cy="2727720"/>
            <a:chOff x="462960" y="4952880"/>
            <a:chExt cx="8046000" cy="2727720"/>
          </a:xfrm>
        </p:grpSpPr>
        <mc:AlternateContent>
          <mc:Choice xmlns:a14="http://schemas.microsoft.com/office/drawing/2010/main" Requires="a14">
            <p:sp>
              <p:nvSpPr>
                <p:cNvPr id="180" name="Object 6"/>
                <p:cNvSpPr txBox="1"/>
                <p:nvPr/>
              </p:nvSpPr>
              <p:spPr>
                <a:xfrm>
                  <a:off x="2530440" y="4962600"/>
                  <a:ext cx="28558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  electricity  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Text Box 7"/>
            <p:cNvSpPr/>
            <p:nvPr/>
          </p:nvSpPr>
          <p:spPr>
            <a:xfrm>
              <a:off x="4575240" y="5040360"/>
              <a:ext cx="32428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g) +  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839160" y="4952880"/>
              <a:ext cx="1421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(l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853920" y="56484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49000" y="4962600"/>
              <a:ext cx="4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4665240" y="5038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301080" y="6611760"/>
              <a:ext cx="496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462960" y="6218280"/>
              <a:ext cx="804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www.youtube.com/watch?v=m_21KafrwRc&amp;feature=related (3:18 mi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www.youtube.com/watch?v=__gHPblNumM&amp;feature=related (6:23 min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0BC-CB03-405A-99D0-B843B1C19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533376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00"/>
                </a:solidFill>
                <a:latin typeface="Arial"/>
              </a:rPr>
              <a:t>Single Replac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lement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epl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other in a comp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 must be an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will be 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+  NaCl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KCl + 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+  2HCl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Zn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C1F-BC78-472C-89CF-96A628C97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0199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Double Re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 are always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wo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ts are always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wo different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the exchange of positive ions between 2 com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wo things replace each oth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tants must be two </a:t>
            </a:r>
            <a:r>
              <a:rPr b="1" lang="en-US" sz="3000" spc="-1" strike="noStrike">
                <a:solidFill>
                  <a:srgbClr val="9966ff"/>
                </a:solidFill>
                <a:latin typeface="Arial"/>
              </a:rPr>
              <a:t>ionic</a:t>
            </a: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66ff"/>
                </a:solidFill>
                <a:latin typeface="Arial"/>
              </a:rPr>
              <a:t>compounds</a:t>
            </a: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OH +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?????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itive ions change pl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ff33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H + </a:t>
            </a: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H)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youtube.com/watch?v=opY3FLrPTa4 (1:30 mi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93E-A24A-4C2C-829F-6365A530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, a compound composed of only C, H, (and maybe O) is reacted with oxygen – usually called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releases energy in the form of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mbus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products will be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mbus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products will be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q6eIqNpdvlw&amp;NR=1 (1:32 mi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7D9D-4CD6-43C7-AB08-B10DA24E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 an equa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balanc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der to follow the Law of Conservation of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be balanced by changing 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VER SUBSCRIPT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pecial symbols to indicate physical state, if heat or energy is required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ell what type of reaction is occurring by looking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youtube.com/watch?v=i-HHvx1VC_8&amp;NR=1 (1:29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354A-CDD0-4503-B410-9757D5DF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81240" y="-30528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mp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ingle replacement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mp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will b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comp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if the reaction 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Double replacement</a:t>
            </a: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compou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different compou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Combu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lways be one of the products – the other product will either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tE4668aarck 1:36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youtube.com/watch?v=ul4xRy8hcsQ (5:12 mi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7CF-C190-4616-8F3E-435758A6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ccur everyday, everywhere.  There are thousands of different reactions that occ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08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Di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igestion"/>
          <p:cNvPicPr/>
          <p:nvPr/>
        </p:nvPicPr>
        <p:blipFill>
          <a:blip r:embed="rId1"/>
          <a:stretch/>
        </p:blipFill>
        <p:spPr>
          <a:xfrm>
            <a:off x="380880" y="2666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27672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photosynthesis"/>
          <p:cNvPicPr/>
          <p:nvPr/>
        </p:nvPicPr>
        <p:blipFill>
          <a:blip r:embed="rId2"/>
          <a:stretch/>
        </p:blipFill>
        <p:spPr>
          <a:xfrm>
            <a:off x="3048120" y="2666880"/>
            <a:ext cx="2286000" cy="1309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095880" y="2209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mitochondria"/>
          <p:cNvPicPr/>
          <p:nvPr/>
        </p:nvPicPr>
        <p:blipFill>
          <a:blip r:embed="rId3"/>
          <a:stretch/>
        </p:blipFill>
        <p:spPr>
          <a:xfrm>
            <a:off x="6324480" y="2666880"/>
            <a:ext cx="962280" cy="139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1219320" y="4495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aking Cook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ookies"/>
          <p:cNvPicPr/>
          <p:nvPr/>
        </p:nvPicPr>
        <p:blipFill>
          <a:blip r:embed="rId4"/>
          <a:stretch/>
        </p:blipFill>
        <p:spPr>
          <a:xfrm>
            <a:off x="914400" y="4952880"/>
            <a:ext cx="2209680" cy="1468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4572000" y="44197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Explosion of the Hindenbu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hindenburg"/>
          <p:cNvPicPr/>
          <p:nvPr/>
        </p:nvPicPr>
        <p:blipFill>
          <a:blip r:embed="rId5"/>
          <a:stretch/>
        </p:blipFill>
        <p:spPr>
          <a:xfrm>
            <a:off x="5105520" y="4876920"/>
            <a:ext cx="213336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712-6D4B-42D6-9A6A-D32BC595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4008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chemical rea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28960" y="1257120"/>
            <a:ext cx="93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two part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the substances you st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the substances you end up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actants turn into th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ants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row is read as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743200" y="3962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39B2-C79C-4ECE-B113-94A5530E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bols used in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solid:  A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gas: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liquid: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dissolved in water, an aqueous solution: N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lt water 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d after a product indicates a gas has been produced: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d after a product indicates a precipitate has been produced: P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24A-21E5-4517-9BFF-96D2EAEA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8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es a reversible reaction (more la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s that heat or energy is supplied to the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762120" y="1371600"/>
            <a:ext cx="1295280" cy="152280"/>
            <a:chOff x="762120" y="1371600"/>
            <a:chExt cx="1295280" cy="152280"/>
          </a:xfrm>
        </p:grpSpPr>
        <p:sp>
          <p:nvSpPr>
            <p:cNvPr id="78" name="Line 5"/>
            <p:cNvSpPr/>
            <p:nvPr/>
          </p:nvSpPr>
          <p:spPr>
            <a:xfrm>
              <a:off x="762120" y="1523880"/>
              <a:ext cx="129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905120" y="1371600"/>
              <a:ext cx="15228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7"/>
          <p:cNvGrpSpPr/>
          <p:nvPr/>
        </p:nvGrpSpPr>
        <p:grpSpPr>
          <a:xfrm>
            <a:off x="685440" y="1752480"/>
            <a:ext cx="1295640" cy="152640"/>
            <a:chOff x="685440" y="1752480"/>
            <a:chExt cx="1295640" cy="152640"/>
          </a:xfrm>
        </p:grpSpPr>
        <p:sp>
          <p:nvSpPr>
            <p:cNvPr id="81" name="Line 8"/>
            <p:cNvSpPr/>
            <p:nvPr/>
          </p:nvSpPr>
          <p:spPr>
            <a:xfrm flipH="1">
              <a:off x="685800" y="1752480"/>
              <a:ext cx="129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H="1" flipV="1">
              <a:off x="685440" y="1752480"/>
              <a:ext cx="15228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762120" y="3505320"/>
                <a:ext cx="59212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,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hea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DAB-2589-4CF5-9349-BD21155E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6316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begin to balance chemical equations lets talk about what the term balanced means by using an equation for the production of a bi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basic components needed to manufacture a bicy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+ wheel + handlebar + pedal = b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quation shows the reactants and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were responsible for ordering the parts to make the bike?  Is this equation suffici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DA6-48B3-42FD-A0DE-BF8357A5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know how many of each component is needed to manufacture th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ame, 2 wheels, 1 handlebar, and 2 ped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se symbols the formula for our bike would be F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quation for the manufacture of the bike would beco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+ W + H + P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problem with ou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not a balanced equation – the number of parts do not equal the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the same number of each part on the left as there is on the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equation should b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+ 2W + H + 2P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now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quation showing the same number of each part on the left and on the rig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4E35-791D-482A-852A-9CA68547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is true for a balanc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an no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o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n ordinary reaction – the atoms are mer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rr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breaking and forming of b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hemical change, mass is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toms in the products are the same atoms that were in the reactants – they are just rearrang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anced equation has the same number of atoms of each elemen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both s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20:47:26Z</dcterms:created>
  <dc:creator>Kelly Morgan</dc:creator>
  <dc:description/>
  <dc:language>en-US</dc:language>
  <cp:lastModifiedBy>cti</cp:lastModifiedBy>
  <dcterms:modified xsi:type="dcterms:W3CDTF">2014-04-18T18:33:18Z</dcterms:modified>
  <cp:revision>200</cp:revision>
  <dc:subject/>
  <dc:title>Chapter 2:  Matter and Change</dc:title>
</cp:coreProperties>
</file>