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30DD-01E6-4BB4-87AD-614C98FF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D4C5-96FA-4561-B25B-AFF3548C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B1E-B052-49A4-AAA1-76D674CD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77FC-A951-45CB-8FE4-BB7015A3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930E-24E1-4AEE-B847-01E91684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3FB3-3C46-45F3-9AD0-8CDFA3B6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CE2A-E2C1-4BE3-BBFE-40724258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7EF5-FAB0-4557-8AA9-1C75BBA9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7B64-62D7-45E5-AB95-CE2E637D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FFFD-218D-43FD-808C-928B4BA3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79A2-8F72-4849-8D81-2E398184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E564-80FE-4B31-9A63-B31195B6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E9AB-66BF-48F6-B061-7AE534BA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FA32-3EFB-4D37-9317-BFBF1AB3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0E9F-6754-4020-89D7-3571EA94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0B21-9795-497F-A4C6-F66E5F82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80B0-6055-44EC-BA4E-DE6F7BB8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B509-C1DB-401C-A639-CFE93A94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58C8-0961-41B9-8C1C-A007C75F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EC0-2E4E-4C1A-8549-EA140EF9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09AD-775B-4771-897E-20060A47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80B-F9E9-4609-BE9C-F608D1E5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D135-422F-4364-BD43-207C4810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43F-E976-4606-A096-63A6EFC2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D977-6D64-4A81-9134-B19050354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6CDB-82DE-464A-B069-1B9DD80286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bd71"/>
                </a:solidFill>
                <a:latin typeface="Arial"/>
              </a:rPr>
              <a:t>The Crime Scene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bd71"/>
                </a:solidFill>
                <a:latin typeface="Arial"/>
              </a:rPr>
              <a:t>Collecting Evidence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2327040"/>
            <a:ext cx="2362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Bag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a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4" descr="Rape Kit"/>
          <p:cNvPicPr/>
          <p:nvPr/>
        </p:nvPicPr>
        <p:blipFill>
          <a:blip r:embed="rId1"/>
          <a:stretch/>
        </p:blipFill>
        <p:spPr>
          <a:xfrm>
            <a:off x="2819520" y="1509840"/>
            <a:ext cx="6324480" cy="53481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bd71"/>
                </a:solidFill>
                <a:latin typeface="Arial"/>
              </a:rPr>
              <a:t>Collecting Controls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rint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NA Sampl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Hai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Other evidence from possible suspects or victims for comparison to evidenc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ollecting </a:t>
            </a:r>
            <a:r>
              <a:rPr b="0" lang="en-US" sz="6000" spc="-1" strike="noStrike">
                <a:solidFill>
                  <a:srgbClr val="dbbd71"/>
                </a:solidFill>
                <a:latin typeface="Arial"/>
              </a:rPr>
              <a:t>Controls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o You Need a Warrant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Approaching a Crime Scene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685800" y="1238400"/>
          <a:ext cx="7924680" cy="56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38400"/>
                    <a:ext cx="7924680" cy="56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6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bd71"/>
                </a:solidFill>
                <a:latin typeface="Arial"/>
              </a:rPr>
              <a:t>Approaching a Crime Scene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ersonal Safety and the well being of victims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reserve and Isolate the crime scene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Record the crime scene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7" descr="Police Line Do Not Cross 1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9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bd71"/>
                </a:solidFill>
                <a:latin typeface="Arial"/>
              </a:rPr>
              <a:t>Recording the Crime Scene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6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hotograph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ketch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Not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4" descr="Chair"/>
          <p:cNvPicPr/>
          <p:nvPr/>
        </p:nvPicPr>
        <p:blipFill>
          <a:blip r:embed="rId1"/>
          <a:stretch/>
        </p:blipFill>
        <p:spPr>
          <a:xfrm>
            <a:off x="6114960" y="1523880"/>
            <a:ext cx="3029040" cy="40388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9" name="Object 6"/>
          <p:cNvGraphicFramePr/>
          <p:nvPr/>
        </p:nvGraphicFramePr>
        <p:xfrm>
          <a:off x="2895480" y="3754440"/>
          <a:ext cx="4267440" cy="31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3754440"/>
                    <a:ext cx="4267440" cy="31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4"/>
          <p:cNvGraphicFramePr/>
          <p:nvPr/>
        </p:nvGraphicFramePr>
        <p:xfrm>
          <a:off x="152280" y="506520"/>
          <a:ext cx="8839440" cy="64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06520"/>
                    <a:ext cx="8839440" cy="64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ough Sketch to Fin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84872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bd71"/>
                </a:solidFill>
                <a:latin typeface="Arial"/>
              </a:rPr>
              <a:t>Notes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atch to sketch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Use a key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Quick, short, bullete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can you not see from the photo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bd71"/>
                </a:solidFill>
                <a:latin typeface="Arial"/>
              </a:rPr>
              <a:t>Photography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cen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ultiple view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ntran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i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indow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4724280" y="1523880"/>
            <a:ext cx="4419720" cy="56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Evidenc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ose up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erspectiv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ultiple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ngl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5" descr="CAMERA"/>
          <p:cNvPicPr/>
          <p:nvPr/>
        </p:nvPicPr>
        <p:blipFill>
          <a:blip r:embed="rId1"/>
          <a:stretch/>
        </p:blipFill>
        <p:spPr>
          <a:xfrm>
            <a:off x="3657600" y="4343400"/>
            <a:ext cx="1752480" cy="1539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bbd71"/>
                </a:solidFill>
                <a:latin typeface="Arial"/>
              </a:rPr>
              <a:t>Collecting Evidence</a:t>
            </a:r>
            <a:r>
              <a:rPr b="0" lang="en-US" sz="6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Victim's clothing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ingernail scraping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Head and pubic hair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Blood (for typing purposes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4" descr="Hair Brush 2"/>
          <p:cNvPicPr/>
          <p:nvPr/>
        </p:nvPicPr>
        <p:blipFill>
          <a:blip r:embed="rId1"/>
          <a:stretch/>
        </p:blipFill>
        <p:spPr>
          <a:xfrm>
            <a:off x="2590920" y="47242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6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aginal, anal, and oral swab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covered bullets from the body and/or surrounding are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and swabs or washings from shooting victi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8" descr="Swabs"/>
          <p:cNvPicPr/>
          <p:nvPr/>
        </p:nvPicPr>
        <p:blipFill>
          <a:blip r:embed="rId1"/>
          <a:stretch/>
        </p:blipFill>
        <p:spPr>
          <a:xfrm>
            <a:off x="5181480" y="3886200"/>
            <a:ext cx="3200400" cy="2982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12 Gauge Shot Gun @ 1 inch"/>
          <p:cNvPicPr/>
          <p:nvPr/>
        </p:nvPicPr>
        <p:blipFill>
          <a:blip r:embed="rId2"/>
          <a:stretch/>
        </p:blipFill>
        <p:spPr>
          <a:xfrm>
            <a:off x="1066680" y="3921120"/>
            <a:ext cx="3353040" cy="29368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4"/>
          <p:cNvSpPr/>
          <p:nvPr/>
        </p:nvSpPr>
        <p:spPr>
          <a:xfrm>
            <a:off x="-76320" y="64612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02:45:51Z</dcterms:created>
  <dc:creator>Dann</dc:creator>
  <dc:description/>
  <dc:language>en-US</dc:language>
  <cp:lastModifiedBy>cti</cp:lastModifiedBy>
  <dcterms:modified xsi:type="dcterms:W3CDTF">2014-08-30T14:00:59Z</dcterms:modified>
  <cp:revision>7</cp:revision>
  <dc:subject/>
  <dc:title>The Crime Scene</dc:title>
</cp:coreProperties>
</file>