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D530-1F1F-4B87-A091-D8CA02D9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4C9C-9983-4D0E-8CCD-9BC92D1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7151-7B87-4A08-BB34-DA2A3E02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D896-900A-4CB0-AE2F-09506C95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C7B0-0183-448A-8FAC-0266D524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E645-AE16-4642-815B-ADCB8CAA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D717-1BCF-4EFB-86F5-62CF7B66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7AEC-B212-4B80-9018-82B0082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867-C3CC-4BA2-80BC-15909BDA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06D-69DA-48FC-B937-A5352C60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F38C-FCB1-4C82-8A7C-9B14CA8D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79AE-28D5-47ED-9F78-D7539586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4277-3AA7-4115-9724-0DA5A63F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A8BA-CE91-46EE-8251-F31193C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73B6-A0CA-45A0-9F78-D1150260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D9D3-F6BD-4EA3-ABC4-F56764A4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1880-EE9A-4316-903F-2800AC54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205-4AA8-4CA2-A225-3D8F953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497-2BA8-4235-892E-6034C78F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FF71-1AE0-452B-976A-6CF1D515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BF1-0A8F-4836-9274-8A7089E8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6A59-35EB-4222-BA1E-7813BFB6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276-C716-4DC7-BE56-C1B1F455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7D2-CCFC-403F-84FE-539BC339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B154-8157-4A37-86E6-3CEA92F94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CAD-99C3-46C5-9DB4-1911F73856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The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llecting Evidenc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2327040"/>
            <a:ext cx="2362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ag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a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Rape Kit"/>
          <p:cNvPicPr/>
          <p:nvPr/>
        </p:nvPicPr>
        <p:blipFill>
          <a:blip r:embed="rId1"/>
          <a:stretch/>
        </p:blipFill>
        <p:spPr>
          <a:xfrm>
            <a:off x="2819520" y="1509840"/>
            <a:ext cx="6324480" cy="5348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llecting Control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r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NA Samp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ai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Other evidence from possible suspects or victims for comparison to evidenc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ollecting </a:t>
            </a: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Control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o You Need a Warrant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Approaching a Crime Scene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685800" y="1238400"/>
          <a:ext cx="79246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38400"/>
                    <a:ext cx="79246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Approaching a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rsonal Safety and the well being of victims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reserve and Isolate the crime scen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Record the crime scene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Police Line Do Not Cross 1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Recording the Crime Scene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6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hotograph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ketch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Not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4" descr="Chair"/>
          <p:cNvPicPr/>
          <p:nvPr/>
        </p:nvPicPr>
        <p:blipFill>
          <a:blip r:embed="rId1"/>
          <a:stretch/>
        </p:blipFill>
        <p:spPr>
          <a:xfrm>
            <a:off x="6114960" y="1523880"/>
            <a:ext cx="3029040" cy="40388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9" name="Object 6"/>
          <p:cNvGraphicFramePr/>
          <p:nvPr/>
        </p:nvGraphicFramePr>
        <p:xfrm>
          <a:off x="2895480" y="3754440"/>
          <a:ext cx="4267440" cy="310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3754440"/>
                    <a:ext cx="4267440" cy="31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4"/>
          <p:cNvGraphicFramePr/>
          <p:nvPr/>
        </p:nvGraphicFramePr>
        <p:xfrm>
          <a:off x="152280" y="506520"/>
          <a:ext cx="8839440" cy="64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06520"/>
                    <a:ext cx="8839440" cy="64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ough Sketch to Fin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848720" y="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Notes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atch to sketch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Use a ke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Quick, short, bulleted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What can you not see from the photo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Photography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cen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ltiple view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tra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i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4724280" y="1523880"/>
            <a:ext cx="4419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viden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ose up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erspectiv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ultiple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ngl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CAMERA"/>
          <p:cNvPicPr/>
          <p:nvPr/>
        </p:nvPicPr>
        <p:blipFill>
          <a:blip r:embed="rId1"/>
          <a:stretch/>
        </p:blipFill>
        <p:spPr>
          <a:xfrm>
            <a:off x="3657600" y="4343400"/>
            <a:ext cx="1752480" cy="1539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bbd71"/>
                </a:solidFill>
                <a:latin typeface="Arial"/>
              </a:rPr>
              <a:t>Collecting Evidence</a:t>
            </a:r>
            <a:r>
              <a:rPr b="0" lang="en-US" sz="6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Victim's clothing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ngernail scraping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ad and pubic hair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lood (for typing purpose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Hair Brush 2"/>
          <p:cNvPicPr/>
          <p:nvPr/>
        </p:nvPicPr>
        <p:blipFill>
          <a:blip r:embed="rId1"/>
          <a:stretch/>
        </p:blipFill>
        <p:spPr>
          <a:xfrm>
            <a:off x="2590920" y="4724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7848720" y="64612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76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aginal, anal, and oral swab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covered bullets from the body and/or surrounding ar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and swabs or washings from shooting victi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8" descr="Swabs"/>
          <p:cNvPicPr/>
          <p:nvPr/>
        </p:nvPicPr>
        <p:blipFill>
          <a:blip r:embed="rId1"/>
          <a:stretch/>
        </p:blipFill>
        <p:spPr>
          <a:xfrm>
            <a:off x="5181480" y="3886200"/>
            <a:ext cx="3200400" cy="2982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12 Gauge Shot Gun @ 1 inch"/>
          <p:cNvPicPr/>
          <p:nvPr/>
        </p:nvPicPr>
        <p:blipFill>
          <a:blip r:embed="rId2"/>
          <a:stretch/>
        </p:blipFill>
        <p:spPr>
          <a:xfrm>
            <a:off x="1066680" y="3921120"/>
            <a:ext cx="3353040" cy="293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4"/>
          <p:cNvSpPr/>
          <p:nvPr/>
        </p:nvSpPr>
        <p:spPr>
          <a:xfrm>
            <a:off x="-76320" y="64612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sapp.c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02:45:51Z</dcterms:created>
  <dc:creator>Dann</dc:creator>
  <dc:description/>
  <dc:language>en-US</dc:language>
  <cp:lastModifiedBy>cti</cp:lastModifiedBy>
  <dcterms:modified xsi:type="dcterms:W3CDTF">2014-08-30T14:00:59Z</dcterms:modified>
  <cp:revision>7</cp:revision>
  <dc:subject/>
  <dc:title>The Crime Scene</dc:title>
</cp:coreProperties>
</file>