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978F-D31D-448C-903E-DE12B6FC0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1B02-84A2-484E-995A-83A0F161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ECF6-D9AE-4512-A5AE-7C05813AC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FA95-6F82-45A6-A330-F95DA0B05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FE98-21F1-453B-9C7B-2C0396DA5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D909-F143-47D0-A5EC-4B121972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87F9-13A8-46AC-AA73-03EE67C0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E3A2-ED50-44E7-B370-9178DFEB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7271-CC48-407E-9FB5-D4EC76B6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457B-5EAD-473F-9EE9-C92F757E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8C1F-2DA2-4D9F-9AC7-48E01E7D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0224-894E-43A6-89AD-CD73E275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32AF-F517-4A53-9FF9-FBA8394F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E6B7-4AAF-4A2F-A88E-1C5AACDA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1BC9-EAAE-45F6-994F-20958268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1461-3099-45C6-A16A-8B3CB62EE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119F-27A7-40D0-B284-B3AB2FFA8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07B3-789F-4202-AF13-36D483DB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32CB-4AF7-457D-810C-95261728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BE0F-B567-4A1D-AB9C-6E5E2145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30B0-B1A4-4E7D-BB1C-726439FF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52DE-BDA0-4B0E-BC4F-5A752AC2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14DE-1CE3-4E25-AC7D-176DA050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D9D9-744C-4689-9BFF-8CC3AD67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2F50-42C9-4F13-9584-B45E4A68C9E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>
              <a:gd name="textAreaLeft" fmla="*/ 0 w 152640"/>
              <a:gd name="textAreaRight" fmla="*/ 153000 w 15264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>
              <a:gd name="textAreaLeft" fmla="*/ 0 w 152280"/>
              <a:gd name="textAreaRight" fmla="*/ 152640 w 15228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449360"/>
                <a:gd name="textAreaBottom" fmla="*/ 1449720 h 1449360"/>
              </a:gdLst>
              <a:ahLst/>
              <a:rect l="textAreaLeft" t="textAreaTop" r="textAreaRight" b="textAreaBottom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0B57-4E4D-414C-B59F-3F8EC9785061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rensic Chemistr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7848720" y="64612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Times New Roman"/>
              </a:rPr>
              <a:t>bsapp.com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90360" y="228600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11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Physical Science Unit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1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Biology Unit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1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Firearms Unit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1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Photography Unit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sic Services Provided by Crime Laborator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7848720" y="64612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Times New Roman"/>
              </a:rPr>
              <a:t>bsapp.com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Glass%20Fracture%205"/>
          <p:cNvPicPr/>
          <p:nvPr/>
        </p:nvPicPr>
        <p:blipFill>
          <a:blip r:embed="rId1"/>
          <a:stretch/>
        </p:blipFill>
        <p:spPr>
          <a:xfrm>
            <a:off x="5791320" y="304812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7760" y="228240"/>
            <a:ext cx="770904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hysical Science Uni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02840" indent="-402840">
              <a:spcBef>
                <a:spcPts val="1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92929"/>
                </a:solidFill>
                <a:latin typeface="Arial"/>
              </a:rPr>
              <a:t>Chemistry (drugs, explosives)</a:t>
            </a:r>
            <a:endParaRPr b="0" lang="en-US" sz="5400" spc="-1" strike="noStrike">
              <a:solidFill>
                <a:srgbClr val="292929"/>
              </a:solidFill>
              <a:latin typeface="Arial"/>
            </a:endParaRPr>
          </a:p>
          <a:p>
            <a:pPr marL="402840" indent="-402840">
              <a:spcBef>
                <a:spcPts val="1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92929"/>
                </a:solidFill>
                <a:latin typeface="Arial"/>
              </a:rPr>
              <a:t>Physics (glass, scratches)</a:t>
            </a:r>
            <a:endParaRPr b="0" lang="en-US" sz="5400" spc="-1" strike="noStrike">
              <a:solidFill>
                <a:srgbClr val="292929"/>
              </a:solidFill>
              <a:latin typeface="Arial"/>
            </a:endParaRPr>
          </a:p>
          <a:p>
            <a:pPr marL="402840" indent="-402840">
              <a:spcBef>
                <a:spcPts val="1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92929"/>
                </a:solidFill>
                <a:latin typeface="Arial"/>
              </a:rPr>
              <a:t>Geology (soil, rocks)</a:t>
            </a:r>
            <a:endParaRPr b="0" lang="en-US" sz="5400" spc="-1" strike="noStrike">
              <a:solidFill>
                <a:srgbClr val="292929"/>
              </a:solidFill>
              <a:latin typeface="Arial"/>
            </a:endParaRPr>
          </a:p>
          <a:p>
            <a:pPr marL="4028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0" y="13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2" name="Picture 6" descr="Speed%20tablets%203"/>
          <p:cNvPicPr/>
          <p:nvPr/>
        </p:nvPicPr>
        <p:blipFill>
          <a:blip r:embed="rId2"/>
          <a:stretch/>
        </p:blipFill>
        <p:spPr>
          <a:xfrm>
            <a:off x="6858000" y="1554120"/>
            <a:ext cx="2286000" cy="18748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8"/>
          <p:cNvSpPr/>
          <p:nvPr/>
        </p:nvSpPr>
        <p:spPr>
          <a:xfrm>
            <a:off x="-1440" y="241812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Times New Roman"/>
              </a:rPr>
              <a:t>     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04" name="Object 5"/>
          <p:cNvGraphicFramePr/>
          <p:nvPr/>
        </p:nvGraphicFramePr>
        <p:xfrm>
          <a:off x="1143000" y="-1765440"/>
          <a:ext cx="7086600" cy="260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-1765440"/>
                    <a:ext cx="7086600" cy="26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Rectangle 9"/>
          <p:cNvSpPr/>
          <p:nvPr/>
        </p:nvSpPr>
        <p:spPr>
          <a:xfrm>
            <a:off x="-2160" y="38278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Times New Roman"/>
              </a:rPr>
              <a:t>      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-1080" y="5218560"/>
            <a:ext cx="134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Times New Roman"/>
              </a:rPr>
              <a:t>    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  <a:ea typeface="Times New Roman"/>
              </a:rPr>
              <a:t>    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7848720" y="64612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Times New Roman"/>
              </a:rPr>
              <a:t>bsapp.com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Biology Un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796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434160">
              <a:spcBef>
                <a:spcPts val="11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Bloodstains 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11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Body fluids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11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Hair and fiber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11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Botanical materials (wood and plants). 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5334120" y="1523880"/>
          <a:ext cx="3809880" cy="260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523880"/>
                    <a:ext cx="3809880" cy="26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Picture 6" descr="Human Hairs [2] x100"/>
          <p:cNvPicPr/>
          <p:nvPr/>
        </p:nvPicPr>
        <p:blipFill>
          <a:blip r:embed="rId3"/>
          <a:stretch/>
        </p:blipFill>
        <p:spPr>
          <a:xfrm>
            <a:off x="5638680" y="5394240"/>
            <a:ext cx="3505320" cy="14637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8"/>
          <p:cNvSpPr/>
          <p:nvPr/>
        </p:nvSpPr>
        <p:spPr>
          <a:xfrm>
            <a:off x="0" y="64612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Times New Roman"/>
              </a:rPr>
              <a:t>bsapp.com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357 Colt Revolver with ammo 1"/>
          <p:cNvPicPr/>
          <p:nvPr/>
        </p:nvPicPr>
        <p:blipFill>
          <a:blip r:embed="rId1"/>
          <a:stretch/>
        </p:blipFill>
        <p:spPr>
          <a:xfrm>
            <a:off x="4724280" y="838080"/>
            <a:ext cx="3079800" cy="32767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Firearms Un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0840" indent="-420840">
              <a:spcBef>
                <a:spcPts val="11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Firearms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11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Bullets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11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Cartridge &amp; Shells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11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Ammunition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spcBef>
                <a:spcPts val="11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Garments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20" name="Object 4"/>
          <p:cNvGraphicFramePr/>
          <p:nvPr/>
        </p:nvGraphicFramePr>
        <p:xfrm>
          <a:off x="5029200" y="4608360"/>
          <a:ext cx="3657600" cy="224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29200" y="4608360"/>
                    <a:ext cx="3657600" cy="22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Picture 8" descr="Mushroomed 38's [3]"/>
          <p:cNvPicPr/>
          <p:nvPr/>
        </p:nvPicPr>
        <p:blipFill>
          <a:blip r:embed="rId4"/>
          <a:stretch/>
        </p:blipFill>
        <p:spPr>
          <a:xfrm>
            <a:off x="7964640" y="2209680"/>
            <a:ext cx="1179360" cy="31244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0"/>
          <p:cNvSpPr/>
          <p:nvPr/>
        </p:nvSpPr>
        <p:spPr>
          <a:xfrm>
            <a:off x="0" y="64612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Times New Roman"/>
              </a:rPr>
              <a:t>bsapp.com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Functions of Forensic Scientis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7848720" y="64612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Times New Roman"/>
              </a:rPr>
              <a:t>bsapp.com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lect and Analyz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ysical Eviden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13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29" name="Object 4"/>
          <p:cNvGraphicFramePr/>
          <p:nvPr/>
        </p:nvGraphicFramePr>
        <p:xfrm>
          <a:off x="1523880" y="1546200"/>
          <a:ext cx="7620120" cy="531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546200"/>
                    <a:ext cx="7620120" cy="53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Text Box 6"/>
          <p:cNvSpPr/>
          <p:nvPr/>
        </p:nvSpPr>
        <p:spPr>
          <a:xfrm>
            <a:off x="0" y="64612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Times New Roman"/>
              </a:rPr>
              <a:t>bsapp.com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67844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mands &amp; Constrai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11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When and where do we collect?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1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How do we collect?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11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2929"/>
                </a:solidFill>
                <a:latin typeface="Arial"/>
              </a:rPr>
              <a:t>For what purpose?</a:t>
            </a: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848720" y="64612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92929"/>
                </a:solidFill>
                <a:latin typeface="Times New Roman"/>
              </a:rPr>
              <a:t>bsapp.com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9T01:53:20Z</dcterms:created>
  <dc:creator>Dann</dc:creator>
  <dc:description/>
  <dc:language>en-US</dc:language>
  <cp:lastModifiedBy>cti</cp:lastModifiedBy>
  <dcterms:modified xsi:type="dcterms:W3CDTF">2014-08-28T15:20:10Z</dcterms:modified>
  <cp:revision>5</cp:revision>
  <dc:subject/>
  <dc:title>Introduction</dc:title>
</cp:coreProperties>
</file>