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1E1D-FA0C-4516-8A42-F6320710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820A-107D-452F-A537-3DC01E33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264C-5C6A-4102-8BC7-E0709CCA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5C03-F6E5-419D-AE34-B2A8B63B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EC0F-4737-4A68-9CEE-5B724D09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1A69-9ECB-4CC1-A0DF-28AAF15D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1F30-09B6-46DB-A583-35452889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A2D3-E6A5-4DA4-AEB4-BD658516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43B0-8A55-4E59-B7C0-2CCEE081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D3CC-8279-435F-B817-D5C4A6C2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EB45-7DE2-4B8A-81CE-0622163F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7E9A-A117-47A8-B382-1C056453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2A5D-9EB1-45F2-88E4-BB106E9B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61E3-CD3D-478F-874B-A4F42247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B903-4B91-4C88-B9A6-6993B3A1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70A0-C3D4-47E9-929F-5532B96D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386D-97B3-4F0D-846C-37C45F57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5CDD-B0F3-4E46-AA3A-783AAB2B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BFA8-5A87-4A91-99B0-54671AE0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4980-282F-4DA8-8467-1EA3A964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E5CC-E061-47A9-AE75-3D2F3488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D860-78DE-4DD1-8F24-A22332B7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FACF-6254-4E5A-B6E1-7E6732EF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2B08-8D9C-418D-A22F-A698AD20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122D-9DAD-4862-8A71-5B3ACA1340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D998-F823-4A1D-A1E5-1505CF46755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rensic Chemistr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784872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90360" y="228600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Physical Science Unit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Biology Unit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Firearms Unit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Photography Unit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ic Services Provided by Crime Laborato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784872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Glass%20Fracture%205"/>
          <p:cNvPicPr/>
          <p:nvPr/>
        </p:nvPicPr>
        <p:blipFill>
          <a:blip r:embed="rId1"/>
          <a:stretch/>
        </p:blipFill>
        <p:spPr>
          <a:xfrm>
            <a:off x="5791320" y="304812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7760" y="228240"/>
            <a:ext cx="77090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ysical Science Un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02840" indent="-402840">
              <a:spcBef>
                <a:spcPts val="1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92929"/>
                </a:solidFill>
                <a:latin typeface="Arial"/>
              </a:rPr>
              <a:t>Chemistry (drugs, explosives)</a:t>
            </a:r>
            <a:endParaRPr b="0" lang="en-US" sz="54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1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92929"/>
                </a:solidFill>
                <a:latin typeface="Arial"/>
              </a:rPr>
              <a:t>Physics (glass, scratches)</a:t>
            </a:r>
            <a:endParaRPr b="0" lang="en-US" sz="54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1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92929"/>
                </a:solidFill>
                <a:latin typeface="Arial"/>
              </a:rPr>
              <a:t>Geology (soil, rocks)</a:t>
            </a:r>
            <a:endParaRPr b="0" lang="en-US" sz="54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2" name="Picture 6" descr="Speed%20tablets%203"/>
          <p:cNvPicPr/>
          <p:nvPr/>
        </p:nvPicPr>
        <p:blipFill>
          <a:blip r:embed="rId2"/>
          <a:stretch/>
        </p:blipFill>
        <p:spPr>
          <a:xfrm>
            <a:off x="6858000" y="1554120"/>
            <a:ext cx="2286000" cy="18748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-1440" y="24181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04" name="Object 5"/>
          <p:cNvGraphicFramePr/>
          <p:nvPr/>
        </p:nvGraphicFramePr>
        <p:xfrm>
          <a:off x="1143000" y="-1765440"/>
          <a:ext cx="7086600" cy="26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-1765440"/>
                    <a:ext cx="708660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9"/>
          <p:cNvSpPr/>
          <p:nvPr/>
        </p:nvSpPr>
        <p:spPr>
          <a:xfrm>
            <a:off x="-2160" y="38278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Times New Roman"/>
              </a:rPr>
              <a:t>      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-1080" y="5218560"/>
            <a:ext cx="134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784872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Biology Un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43416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Bloodstains 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Body fluids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Hair and fiber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Botanical materials (wood and plants). 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5334120" y="1523880"/>
          <a:ext cx="3809880" cy="26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523880"/>
                    <a:ext cx="3809880" cy="26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6" descr="Human Hairs [2] x100"/>
          <p:cNvPicPr/>
          <p:nvPr/>
        </p:nvPicPr>
        <p:blipFill>
          <a:blip r:embed="rId3"/>
          <a:stretch/>
        </p:blipFill>
        <p:spPr>
          <a:xfrm>
            <a:off x="5638680" y="5394240"/>
            <a:ext cx="3505320" cy="14637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357 Colt Revolver with ammo 1"/>
          <p:cNvPicPr/>
          <p:nvPr/>
        </p:nvPicPr>
        <p:blipFill>
          <a:blip r:embed="rId1"/>
          <a:stretch/>
        </p:blipFill>
        <p:spPr>
          <a:xfrm>
            <a:off x="4724280" y="838080"/>
            <a:ext cx="3079800" cy="32767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Firearms Un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420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Firearms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Bullets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Cartridge &amp; Shells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Ammunition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Garments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5029200" y="4608360"/>
          <a:ext cx="3657600" cy="224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9200" y="4608360"/>
                    <a:ext cx="3657600" cy="22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Picture 8" descr="Mushroomed 38's [3]"/>
          <p:cNvPicPr/>
          <p:nvPr/>
        </p:nvPicPr>
        <p:blipFill>
          <a:blip r:embed="rId4"/>
          <a:stretch/>
        </p:blipFill>
        <p:spPr>
          <a:xfrm>
            <a:off x="7964640" y="2209680"/>
            <a:ext cx="1179360" cy="31244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0"/>
          <p:cNvSpPr/>
          <p:nvPr/>
        </p:nvSpPr>
        <p:spPr>
          <a:xfrm>
            <a:off x="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Functions of Forensic Scientis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84872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ect and Analyz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ysical Evide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13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1523880" y="1546200"/>
          <a:ext cx="7620120" cy="53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46200"/>
                    <a:ext cx="7620120" cy="53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6"/>
          <p:cNvSpPr/>
          <p:nvPr/>
        </p:nvSpPr>
        <p:spPr>
          <a:xfrm>
            <a:off x="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6784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mands &amp; Constrai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When and where do we collect?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How do we collect?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For what purpose?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84872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01:53:20Z</dcterms:created>
  <dc:creator>Dann</dc:creator>
  <dc:description/>
  <dc:language>en-US</dc:language>
  <cp:lastModifiedBy>cti</cp:lastModifiedBy>
  <dcterms:modified xsi:type="dcterms:W3CDTF">2014-08-28T15:20:10Z</dcterms:modified>
  <cp:revision>5</cp:revision>
  <dc:subject/>
  <dc:title>Introduction</dc:title>
</cp:coreProperties>
</file>