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COMPFX2.WAV" ContentType="audio/x-wav"/>
  <Override PartName="/ppt/media/image1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F417-33CB-41F5-B1B4-E785CF9C8F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E60-E207-411E-8082-1B8DBCA0FD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4F4-E36B-426B-9E0A-F15FD78C37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B4F4-F5EE-4B09-BFD1-0B482AFC51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6E27-93DC-4D97-926A-FAC97C49BB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70E8-52ED-4038-BBC1-47339D088C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7494-0490-4BC0-81EF-E8404DABC8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CD1-4BAF-4120-984F-CE3A5939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BAB-445C-4244-AAB8-9818C7A9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B82-144A-4026-9CA5-55655314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713-FFF6-447C-8F9E-11839CD7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6E6-C6C3-4E1F-BF5A-F5F0A5AF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F9C-BCF1-4459-B836-C5AD39BD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B51-9105-440B-A188-C2BEA464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C06-72EA-4435-8EE7-92544EC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91D-2BCF-46EF-BA8B-38B40424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E4E-C929-4FEB-9765-CDDCB1A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2CB-A7AC-4B63-A915-2E30D09D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5C9-3625-42D2-982C-D74BD516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7EEB-A976-47FE-9B5E-A79D65F17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B1EF-4A6E-4AEC-A5CB-746048EE6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hapter 4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omic Struc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26C7-A8EA-4293-AB2E-9CBE5A14E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izing up the 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80880" y="1295280"/>
            <a:ext cx="9524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pite their small size individual atoms are observable with instruments such a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anning tunneling micro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mage below shows an image of iron atoms generated by a scanning tunneling microsco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4" descr="atom"/>
          <p:cNvPicPr/>
          <p:nvPr/>
        </p:nvPicPr>
        <p:blipFill>
          <a:blip r:embed="rId1"/>
          <a:stretch/>
        </p:blipFill>
        <p:spPr>
          <a:xfrm>
            <a:off x="2971800" y="3657600"/>
            <a:ext cx="3592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789C-052C-43D7-83AB-2F509F826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f4c"/>
                </a:solidFill>
                <a:latin typeface="Comic Sans MS"/>
              </a:rPr>
              <a:t>Section 4.2 </a:t>
            </a:r>
            <a:br>
              <a:rPr sz="3600"/>
            </a:br>
            <a:r>
              <a:rPr b="1" lang="en-US" sz="3600" spc="-1" strike="noStrike">
                <a:solidFill>
                  <a:srgbClr val="827f4c"/>
                </a:solidFill>
                <a:latin typeface="Comic Sans MS"/>
              </a:rPr>
              <a:t>– Structure of the Nuclear Atom</a:t>
            </a: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ree types of subatomic 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the structure of atoms according to the Rutherford atomic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0EE0-482E-4FFD-985F-78E383D4A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ubatomic Particle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important change to Dalton’s Atomic Theory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are known to be divi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can be broken down into even smaller, more fundamental particles called subatomic 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ree kinds of subatomic particles are electrons, protons and neutr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was this discover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3E07-6F20-4F3E-954B-97C24206E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ubatomic Particle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vered in 1897 by J.J. Thom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s are negatively charged subatomic 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mson performed experiments using a cathode ray tube to deduce the presence of negatively charged 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hode ray tubes pass electricity through a gas that is contained at a very low press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3DF0-442C-4598-B094-47BC52B7D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2200" y="545760"/>
            <a:ext cx="795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omson’s Experimen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1371600"/>
            <a:ext cx="8308440" cy="2793240"/>
            <a:chOff x="609480" y="1371600"/>
            <a:chExt cx="8308440" cy="2793240"/>
          </a:xfrm>
        </p:grpSpPr>
        <p:grpSp>
          <p:nvGrpSpPr>
            <p:cNvPr id="97" name="Group 4"/>
            <p:cNvGrpSpPr/>
            <p:nvPr/>
          </p:nvGrpSpPr>
          <p:grpSpPr>
            <a:xfrm>
              <a:off x="609480" y="1811160"/>
              <a:ext cx="8308440" cy="2353680"/>
              <a:chOff x="609480" y="1811160"/>
              <a:chExt cx="8308440" cy="2353680"/>
            </a:xfrm>
          </p:grpSpPr>
          <p:sp>
            <p:nvSpPr>
              <p:cNvPr id="98" name="AutoShape 5"/>
              <p:cNvSpPr/>
              <p:nvPr/>
            </p:nvSpPr>
            <p:spPr>
              <a:xfrm>
                <a:off x="1471320" y="2876400"/>
                <a:ext cx="6656040" cy="12884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6"/>
              <p:cNvSpPr/>
              <p:nvPr/>
            </p:nvSpPr>
            <p:spPr>
              <a:xfrm>
                <a:off x="7320960" y="2932200"/>
                <a:ext cx="291960" cy="117684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0" name="Group 7"/>
              <p:cNvGrpSpPr/>
              <p:nvPr/>
            </p:nvGrpSpPr>
            <p:grpSpPr>
              <a:xfrm>
                <a:off x="609480" y="1812600"/>
                <a:ext cx="1446120" cy="1709280"/>
                <a:chOff x="609480" y="1812600"/>
                <a:chExt cx="1446120" cy="1709280"/>
              </a:xfrm>
            </p:grpSpPr>
            <p:sp>
              <p:nvSpPr>
                <p:cNvPr id="101" name="Line 8"/>
                <p:cNvSpPr/>
                <p:nvPr/>
              </p:nvSpPr>
              <p:spPr>
                <a:xfrm flipH="1">
                  <a:off x="1141200" y="352044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" name="Arc 9"/>
                <p:cNvSpPr/>
                <p:nvPr/>
              </p:nvSpPr>
              <p:spPr>
                <a:xfrm>
                  <a:off x="609480" y="1812600"/>
                  <a:ext cx="588960" cy="17092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3" name="Group 10"/>
              <p:cNvGrpSpPr/>
              <p:nvPr/>
            </p:nvGrpSpPr>
            <p:grpSpPr>
              <a:xfrm>
                <a:off x="7466760" y="1812600"/>
                <a:ext cx="1451160" cy="1709280"/>
                <a:chOff x="7466760" y="1812600"/>
                <a:chExt cx="1451160" cy="1709280"/>
              </a:xfrm>
            </p:grpSpPr>
            <p:sp>
              <p:nvSpPr>
                <p:cNvPr id="104" name="Line 11"/>
                <p:cNvSpPr/>
                <p:nvPr/>
              </p:nvSpPr>
              <p:spPr>
                <a:xfrm>
                  <a:off x="7466760" y="352044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" name="Arc 12"/>
                <p:cNvSpPr/>
                <p:nvPr/>
              </p:nvSpPr>
              <p:spPr>
                <a:xfrm>
                  <a:off x="8327160" y="1812600"/>
                  <a:ext cx="590760" cy="17092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" name="Line 13"/>
              <p:cNvSpPr/>
              <p:nvPr/>
            </p:nvSpPr>
            <p:spPr>
              <a:xfrm>
                <a:off x="1141200" y="1811160"/>
                <a:ext cx="7164000" cy="0"/>
              </a:xfrm>
              <a:prstGeom prst="line">
                <a:avLst/>
              </a:prstGeom>
              <a:ln w="50760">
                <a:solidFill>
                  <a:srgbClr val="827f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Oval 14"/>
              <p:cNvSpPr/>
              <p:nvPr/>
            </p:nvSpPr>
            <p:spPr>
              <a:xfrm>
                <a:off x="1985760" y="2932200"/>
                <a:ext cx="291960" cy="117684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" name="Rectangle 15"/>
            <p:cNvSpPr/>
            <p:nvPr/>
          </p:nvSpPr>
          <p:spPr>
            <a:xfrm>
              <a:off x="3434040" y="1371600"/>
              <a:ext cx="2654640" cy="953640"/>
            </a:xfrm>
            <a:prstGeom prst="rect">
              <a:avLst/>
            </a:prstGeom>
            <a:solidFill>
              <a:srgbClr val="aaa57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3483360" y="15588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f4c2f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" name="Rectangle 17"/>
          <p:cNvSpPr/>
          <p:nvPr/>
        </p:nvSpPr>
        <p:spPr>
          <a:xfrm>
            <a:off x="7315200" y="1828800"/>
            <a:ext cx="61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1751760" y="182880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20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21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E8D5-2041-463E-B106-16B5FCD3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026"/>
          <p:cNvSpPr/>
          <p:nvPr/>
        </p:nvSpPr>
        <p:spPr>
          <a:xfrm>
            <a:off x="99072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7f4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027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Group 1028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9" name="Group 1029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20" name="AutoShape 1030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Oval 1031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2" name="Group 1032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23" name="Line 1033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Arc 1034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5" name="Group 1035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6" name="Line 1036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Arc 1037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" name="Line 1038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827f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Oval 1039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" name="Rectangle 1040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aaa57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1041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f4c2f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Rectangle 1042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043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044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5214-8F44-4121-9231-44F5298AA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102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7" name="Group 1027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8" name="AutoShape 1028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Oval 1029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0" name="Group 1030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41" name="Line 1031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Arc 1032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Group 1033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44" name="Line 1034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" name="Arc 1035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Line 1036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827f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Oval 1037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" name="Rectangle 1038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aaa57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1039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f4c2f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Rectangle 1040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omson’s Experi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041"/>
          <p:cNvSpPr/>
          <p:nvPr/>
        </p:nvSpPr>
        <p:spPr>
          <a:xfrm>
            <a:off x="990720" y="47242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7f4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adding an electric field 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nd that the moving pieces were nega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Oval 1042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aaa5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043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4c2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Oval 1044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aaa5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045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4c2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1046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7f4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1047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6244-B7AB-4E7A-97B6-B9B5B8385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omson’s Experiment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xperiment he used many different met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the amount the beam bent he could find the ratio of charge to ma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ratio was the same for every mater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mson concluded it must be the same type of piece in every kind of atom…the </a:t>
            </a: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7B31-3A65-4703-A833-2FA746661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Mass of the Electron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1961 Robert Millikan determined the mass of the electron to be 1/1840 the mass of a hydrogen at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ss of an electron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9.11 x 10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0C67-D33B-445F-BD04-101A9129B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Comic Sans MS"/>
              </a:rPr>
              <a:t>Conclusions from the study of the Electron</a:t>
            </a:r>
            <a:r>
              <a:rPr b="0" lang="en-US" sz="48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  Cathode rays have identical properties regardless of the element used to produce them. All elements must contain identically charged electr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 Atoms are neutral, so there must be positive particles in the atom to balance the negative charge of the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Electrons have so little mass that atoms must contain other particles that account for most of the m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3D98-6AAD-4539-8DC6-CB17615A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f4c"/>
                </a:solidFill>
                <a:latin typeface="Comic Sans MS"/>
              </a:rPr>
              <a:t>Section 4.1 – Defining the Atom</a:t>
            </a: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Democritus’ ideas about ato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 Dalton’s atomic the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what instrument is used to observe individual ato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BFB7-C9F0-4AF9-B0A3-BD4B1E932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Comic Sans MS"/>
              </a:rPr>
              <a:t>Conclusions from the study of the Electron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Eugen Goldstein in 1886 observed what is now called the “proton” - particles with a positive charge, and a relative mass of 1 (or 1840 times that of an electr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1932 – James Chadwick confirmed the existence of the “neutron” – a particle with no charge, but a mass nearly equal to a pro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72F5-408F-4F4D-9AFE-7507C8B37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5200" y="601200"/>
            <a:ext cx="77738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ubatomic particle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22240" y="2637000"/>
            <a:ext cx="161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22240" y="3551400"/>
            <a:ext cx="131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22240" y="4427640"/>
            <a:ext cx="1571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u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822240" y="1951200"/>
            <a:ext cx="119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193840" y="1951200"/>
            <a:ext cx="150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641760" y="1951200"/>
            <a:ext cx="140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4861080" y="1417680"/>
            <a:ext cx="1596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6583320" y="1371600"/>
            <a:ext cx="1754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u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s (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2678040" y="2637000"/>
            <a:ext cx="49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2608200" y="3551400"/>
            <a:ext cx="6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2638440" y="442764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4059360" y="2637000"/>
            <a:ext cx="54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4011480" y="3551400"/>
            <a:ext cx="6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4125960" y="4427640"/>
            <a:ext cx="40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4975200" y="2637000"/>
            <a:ext cx="136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18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5437080" y="3551400"/>
            <a:ext cx="40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437080" y="4427640"/>
            <a:ext cx="40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6346800" y="2637000"/>
            <a:ext cx="224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1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6346800" y="3551400"/>
            <a:ext cx="224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6346800" y="4427640"/>
            <a:ext cx="224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8417-993D-4FEC-8F73-DA1A6996B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subatomic particles were discovered scientists wondered how they were put together in as at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look at two mode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mson’s Atomic Model (Plum Pudding Mode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therford’s Atomic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78FA-F9BE-44F5-8F3A-59C7C30E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believed the electrons were struck into a lump of positive ch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mson’s model turned out to be short-lived due to groundbreaking work of Ernest Rutherford a former student of Thoms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1029" descr="plumpudding"/>
          <p:cNvPicPr/>
          <p:nvPr/>
        </p:nvPicPr>
        <p:blipFill>
          <a:blip r:embed="rId1"/>
          <a:stretch/>
        </p:blipFill>
        <p:spPr>
          <a:xfrm>
            <a:off x="704880" y="2212920"/>
            <a:ext cx="3537000" cy="2889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6E9F-EB3B-408B-8FEA-803011BB3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nest Rutherford’s Gold Foil Experi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nest Rutherford decided to test the plum pudding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nted to determine how large the atoms w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5" descr="ErnestRutherford2"/>
          <p:cNvPicPr/>
          <p:nvPr/>
        </p:nvPicPr>
        <p:blipFill>
          <a:blip r:embed="rId1"/>
          <a:stretch/>
        </p:blipFill>
        <p:spPr>
          <a:xfrm>
            <a:off x="3733920" y="3733920"/>
            <a:ext cx="184140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61FC-FC66-4773-80AA-400CF8C8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lpha partic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ium atoms that have lost their two electrons leaving a double positive char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2381040" cy="2352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5791320" y="4724280"/>
            <a:ext cx="1009440" cy="933480"/>
          </a:xfrm>
          <a:prstGeom prst="rect">
            <a:avLst/>
          </a:prstGeom>
          <a:ln w="0">
            <a:noFill/>
          </a:ln>
        </p:spPr>
      </p:pic>
      <p:sp>
        <p:nvSpPr>
          <p:cNvPr id="208" name="Line 7"/>
          <p:cNvSpPr/>
          <p:nvPr/>
        </p:nvSpPr>
        <p:spPr>
          <a:xfrm>
            <a:off x="3962520" y="5029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66680" y="5943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lium a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334120" y="5867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pha 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CB82-50E2-4847-B27E-7BDBE8C13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nest Rutherford’s Gold Foil 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pha particles were fired at a thin sheet of gold surrounded by a detecting sc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icles that are hit on the detecting screen are reco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5" descr="Rutherford_gold-foil_experiment"/>
          <p:cNvPicPr/>
          <p:nvPr/>
        </p:nvPicPr>
        <p:blipFill>
          <a:blip r:embed="rId1"/>
          <a:stretch/>
        </p:blipFill>
        <p:spPr>
          <a:xfrm>
            <a:off x="2971800" y="4114800"/>
            <a:ext cx="33400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8F8C-E014-4C19-9174-2607721E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724360" cy="3730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1295280" y="914400"/>
            <a:ext cx="693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Rutherford expected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2362320" y="3657600"/>
            <a:ext cx="2895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5486400" y="3504960"/>
            <a:ext cx="1447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7f4c"/>
                </a:solidFill>
                <a:latin typeface="Comic Sans MS"/>
              </a:rPr>
              <a:t>The Atomic Nucleus</a:t>
            </a: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09480" y="56386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venly distributed + charges of the plum pudding model were not enough to stop the ++ of the alpha particles to pass through withou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9653-CF47-4E05-9753-802D11101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1981080" y="380880"/>
            <a:ext cx="6096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he found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F83C-5774-4E0A-9CA7-6C0CC1B98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Rutherford’s results mea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tom is mostly empty spa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ctrons are distributed around the nucleus, and occupy most of the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This is why most alpha particles passed through without deflection (no + charge to deflect the ++ alpha partic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the positive charge, and almost all the mass is concentrated in a small area in the cen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This is why some alpha particles were deflected.  The + charge and mass of the center was enough to deflect the ++alpha partic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nter is composed of protons and neutrons. He called this a “nucleu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s model was called the nuclear at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0605-B7F9-4F7A-936C-78BF5346C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rust?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am going to ask you to believe in something that you can not see with your unaided ey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not see the tiny fundamental particles that make up matter – yet all matter is composed of such particles calle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4EF1-206D-4A12-AF5A-12F68D362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243" name="Picture 4" descr="ruthexp"/>
          <p:cNvPicPr/>
          <p:nvPr/>
        </p:nvPicPr>
        <p:blipFill>
          <a:blip r:embed="rId1"/>
          <a:stretch/>
        </p:blipFill>
        <p:spPr>
          <a:xfrm>
            <a:off x="380880" y="2057400"/>
            <a:ext cx="8534520" cy="27716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F95F-800B-47F1-BD0E-A7782702F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7f4c"/>
                </a:solidFill>
                <a:latin typeface="Comic Sans MS"/>
              </a:rPr>
              <a:t>Section 4.3 </a:t>
            </a:r>
            <a:br>
              <a:rPr sz="3600"/>
            </a:br>
            <a:r>
              <a:rPr b="0" lang="en-US" sz="3600" spc="-1" strike="noStrike">
                <a:solidFill>
                  <a:srgbClr val="827f4c"/>
                </a:solidFill>
                <a:latin typeface="Comic Sans MS"/>
              </a:rPr>
              <a:t>– Distinguishing Among Atoms</a:t>
            </a: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 what makes elements and isotopes different from each oth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number of neutrons in an at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atomic mass of an el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 why chemists use the periodic tab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73AD-6DBA-401F-8E2C-5D8BD50FB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Atomic Number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atoms are composed of protons, neutrons and electr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hen are atoms of one element different than atoms of another element? Why is an atom of C different from an atom of 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ments are different because they contain different numbers of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t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an element is the number of protons in the nucleus of an atom of that el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protons in an atom = the number of electr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s are electrically neutr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073-048B-4605-83A7-577AE154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Atomic Number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ic number (Z) of an element is the number of protons in the nucleus of each atom of that el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295280" y="2743200"/>
          <a:ext cx="6629400" cy="312408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of Prot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ic Numb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b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osphoru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83C3-60F5-49EC-8BF4-6D53C2EAB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Mass Number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2896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jority of mass of an atom is concentrated in the nucle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ss of an atom depends on the number of protons and neutr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number of protons and neutrons in an atom is called the </a:t>
            </a: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mber of neutrons in an atom is the difference between the mass number and atomic numb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 of neutrons = mass number – atomic 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A287-ECF3-4509-9407-7A6DBF0E0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omplete Symbol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began looking at symbols for some of the elements, howev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te symbols contain the symbol of the element, the mass number and the atomic numb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5336280" y="3200400"/>
            <a:ext cx="19134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962520" y="34290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27f4c"/>
                </a:solidFill>
                <a:latin typeface="Comic Sans MS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962520" y="5029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27f4c"/>
                </a:solidFill>
                <a:latin typeface="Comic Sans MS"/>
              </a:rPr>
              <a:t>Atomic Numb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1581120" y="38163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script 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963800" y="52578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crip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ED60-E88A-48E2-BD9C-D6C673C52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omplete Symbol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61544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Au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each of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 of neutro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 of electro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numb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s numb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25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oms can also be referred to by using the mass and the name of the element – gold – 197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4100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410080" y="2286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581280" y="3214800"/>
            <a:ext cx="10670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19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9930-A0EB-4246-8E5C-85E18243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omplete Symbol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n element has an atomic number of 34 and a mass number of 78, what is th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prot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neutr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electr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me of el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symbol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52"/>
          <p:cNvSpPr/>
          <p:nvPr/>
        </p:nvSpPr>
        <p:spPr>
          <a:xfrm>
            <a:off x="4876920" y="2895480"/>
            <a:ext cx="1828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Selen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53"/>
          <p:cNvSpPr/>
          <p:nvPr/>
        </p:nvSpPr>
        <p:spPr>
          <a:xfrm>
            <a:off x="4648320" y="501156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25C7-A981-48F9-994C-9829EA83A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omplete Symbol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n atom has 91 protons and 140 neutrons what is th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ic numb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 numb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electr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symbo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me of the el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334120" y="3011400"/>
            <a:ext cx="182880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91+140 = 23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Protactini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952880" y="426708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23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1F0A-E79F-4C4A-87F6-1C5A8790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Isotope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if two atoms have different number of protons, they are different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f two atoms have different number of neutr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toms with different number of neutrons ar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isotopes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of the same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y have different mass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pite these differences, isotopes are chemically alike because they have identical numbers of protons and electr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ns and electrons are responsible for chemical behavi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32B9-AD66-4383-95CB-C30C8E97B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Comic Sans MS"/>
              </a:rPr>
              <a:t>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mallest particle of an element that retains its identity in a chemical re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of a coin the size of a penny and composed of pure copper (C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agine grinding the coin into fine dust … each speck still has the properties of C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ould  continue to grind the dust into smaller and smaller Cu dust particles you would eventually come upon a particle of Cu that could no longer be divided and still have the chemical properties of Cu … this final particle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80880" y="2971800"/>
            <a:ext cx="79250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6" descr="MCj04150740000[1]"/>
          <p:cNvPicPr/>
          <p:nvPr/>
        </p:nvPicPr>
        <p:blipFill>
          <a:blip r:embed="rId1"/>
          <a:stretch/>
        </p:blipFill>
        <p:spPr>
          <a:xfrm>
            <a:off x="304920" y="5105520"/>
            <a:ext cx="12189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6507-2484-4969-A404-1153749D7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Isotope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way to say it: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 Isotop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atoms of the same element having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t mass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ue to varying numbers of neu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hree known isotopes of hydrog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66680" y="2819520"/>
          <a:ext cx="7470720" cy="3767040"/>
        </p:xfrm>
        <a:graphic>
          <a:graphicData uri="http://schemas.openxmlformats.org/drawingml/2006/table">
            <a:tbl>
              <a:tblPr/>
              <a:tblGrid>
                <a:gridCol w="1852560"/>
                <a:gridCol w="1148040"/>
                <a:gridCol w="1490400"/>
                <a:gridCol w="1513080"/>
                <a:gridCol w="1466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ot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c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u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prot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deute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trit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8" name="Picture 48" descr="H1"/>
          <p:cNvPicPr/>
          <p:nvPr/>
        </p:nvPicPr>
        <p:blipFill>
          <a:blip r:embed="rId1"/>
          <a:stretch/>
        </p:blipFill>
        <p:spPr>
          <a:xfrm>
            <a:off x="7391520" y="3276720"/>
            <a:ext cx="696960" cy="731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9" descr="H2"/>
          <p:cNvPicPr/>
          <p:nvPr/>
        </p:nvPicPr>
        <p:blipFill>
          <a:blip r:embed="rId2"/>
          <a:stretch/>
        </p:blipFill>
        <p:spPr>
          <a:xfrm>
            <a:off x="7315200" y="4343400"/>
            <a:ext cx="982800" cy="868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0" descr="H3"/>
          <p:cNvPicPr/>
          <p:nvPr/>
        </p:nvPicPr>
        <p:blipFill>
          <a:blip r:embed="rId3"/>
          <a:stretch/>
        </p:blipFill>
        <p:spPr>
          <a:xfrm>
            <a:off x="7315200" y="5334120"/>
            <a:ext cx="961920" cy="9730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2"/>
          <p:cNvSpPr/>
          <p:nvPr/>
        </p:nvSpPr>
        <p:spPr>
          <a:xfrm>
            <a:off x="3276720" y="3505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4648320" y="3505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276720" y="4572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4724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35268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472428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617220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617220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61722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946-A234-4847-8E1A-A20D5380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Isotope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3680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occur in nature as mixtures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oto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3" name="Picture 5" descr="isotopes"/>
          <p:cNvPicPr/>
          <p:nvPr/>
        </p:nvPicPr>
        <p:blipFill>
          <a:blip r:embed="rId1"/>
          <a:stretch/>
        </p:blipFill>
        <p:spPr>
          <a:xfrm>
            <a:off x="4241880" y="1981080"/>
            <a:ext cx="4444920" cy="41148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6E9-8497-4968-8AA3-077696634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Atomic Mas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heavy is an atom of oxyg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epends, because there are different kinds of oxygen atoms (different isotopes of Oxyg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more concerned with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erage atomic m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based on the abundance (percentage) of each isotope of that element in n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B215-D694-40A8-B067-8052CF1F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Determining Atomic Mas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don’t use grams for this mass because the numbers would be too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ead of grams, the unit we use is the </a:t>
            </a:r>
            <a:r>
              <a:rPr b="0" lang="en-US" sz="2400" spc="-1" strike="noStrike">
                <a:solidFill>
                  <a:srgbClr val="827f4c"/>
                </a:solidFill>
                <a:latin typeface="Comic Sans MS"/>
              </a:rPr>
              <a:t>Atomic Mass Uni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defined as one-twelfth the mass of a carbon-12 a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bon-12 was chosen because of its isotope pur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isotope has its own atomic mass, thus we determine the average from percent abund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6445-E06B-44A1-ABA0-3E4F79CED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alculating Atomic Mas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alculate the average atomic mass of an element we need to know 3 thing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stable isotopes of the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ss of each isotope of the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atural percent abundance of each isotope of the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1BF1-BF72-4F2D-A1DF-2C7BA1CC2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alculating Atomic Mas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533520" y="762120"/>
            <a:ext cx="9677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ple Steps for An Element with 3 Naturally Occurring Isoto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s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isotope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natural abundance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isotope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g. mass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isotop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s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isotope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natural abundanc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isotope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g. mass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isotope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s</a:t>
            </a:r>
            <a:r>
              <a:rPr b="0" lang="en-US" sz="2000" spc="-1" strike="noStrike" baseline="-25000">
                <a:solidFill>
                  <a:srgbClr val="33cc33"/>
                </a:solidFill>
                <a:latin typeface="Comic Sans MS"/>
              </a:rPr>
              <a:t>isotope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natural abundance</a:t>
            </a:r>
            <a:r>
              <a:rPr b="0" lang="en-US" sz="2000" spc="-1" strike="noStrike" baseline="-25000">
                <a:solidFill>
                  <a:srgbClr val="33cc33"/>
                </a:solidFill>
                <a:latin typeface="Comic Sans MS"/>
              </a:rPr>
              <a:t>isotope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g. mass</a:t>
            </a:r>
            <a:r>
              <a:rPr b="0" lang="en-US" sz="2000" spc="-1" strike="noStrike" baseline="-25000">
                <a:solidFill>
                  <a:srgbClr val="33cc33"/>
                </a:solidFill>
                <a:latin typeface="Comic Sans MS"/>
              </a:rPr>
              <a:t>isotope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. mass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isotope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avg. mass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isotope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avg. mass</a:t>
            </a:r>
            <a:r>
              <a:rPr b="0" lang="en-US" sz="2000" spc="-1" strike="noStrike" baseline="-25000">
                <a:solidFill>
                  <a:srgbClr val="33cc33"/>
                </a:solidFill>
                <a:latin typeface="Comic Sans MS"/>
              </a:rPr>
              <a:t>isotope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avg mas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om for given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sum is the weighted average mass of the atoms of the element tha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ccur in na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8E3-851D-40DE-AB4C-F0ACA9F56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Atomic Mas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 copper has naturally occurring isotopes with mass numbers of 63 and 65.  The relative abundance and atomic masses are 69.2% for mass = 62.93 amu, and 30.8% for mass = 64.93 amu.  Calculate the average atomic mass of c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22DD-F97E-40B7-8AE2-850C76013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Periodic Table – A Preview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iodic table is an arrangement of elements in which the elements are separated into groups based on a set of repeating proper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eriodic table allows you to easily compare the properties of one element to anoth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AC6B-FB06-4021-B8B1-700253554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Periodic Table – A Preview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element is identified with its symbol placed in a squ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lements are listed in order of increasing atomic number from left to right and top to bott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D475-211A-46D2-BBB6-993C9C0B0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Periodic Table – A Preview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horizonta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here are 7 of them) is called a 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perties of the elements vary as you move across it from element to el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ttern then repeats as you move to the next </a:t>
            </a: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vertical colum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called a 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in a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similar chemical and physical proper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ed with a number and either an “A” or a “B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F88F-0B3A-4FA7-A4E4-F41D6C28A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Early Models of the Atom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eek Philosopher Democritus (460 BC – 370 B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ong the first to suggest the existence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2408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believed tha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ere indivisible and indestruct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hough his ideas agree with later scientific theory, they did not explain chemical behavior and lacked experimental support – not based on the scientific method – just philosoph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3144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C290-37CE-47CA-B2CC-CB4693454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Early Models of the 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was nex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 Dalton (1766 – 18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 based – transformed Democritus’ ideas into scientific theo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s of his experimentation and observations are summarized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lton’s Atomic The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lton studied the ratios in which elements combine in chemical re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CBD3-49C0-4FD5-A198-99F561E73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Early Models of the 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alton’s Atomic Theor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ments are composed of tiny indivisible particles call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Comic Sans M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he same element are identical. 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any other elements are different from those of any other el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different elements can physically mix together or can chemically combine in simple whole-number ratios to form compoun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Comic Sans MS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hemical reactions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combined, separated or rearranged – but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anged in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another el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A951-63E5-46D5-B327-571CF9E9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izing up the atom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our copper (Cu) penny…We ground it into smaller and smaller particles until we came upon a Cu at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ig (or small) would that Cu atom b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’s a little perspectiv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ure Cu coin the size of a penny contains 2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om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2" descr="MCj04150740000[1]"/>
          <p:cNvPicPr/>
          <p:nvPr/>
        </p:nvPicPr>
        <p:blipFill>
          <a:blip r:embed="rId1"/>
          <a:stretch/>
        </p:blipFill>
        <p:spPr>
          <a:xfrm>
            <a:off x="7543800" y="609480"/>
            <a:ext cx="121932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7D4D-A1E3-4299-A44C-556E1734D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izing up the 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rths population is only 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op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ould line up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u atoms side by side, they would produce a line only 1 cm lo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adii of most atoms 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5:18:14Z</dcterms:created>
  <dc:creator> </dc:creator>
  <dc:description/>
  <dc:language>en-US</dc:language>
  <cp:lastModifiedBy>Everton Henriques</cp:lastModifiedBy>
  <dcterms:modified xsi:type="dcterms:W3CDTF">2010-10-07T14:15:51Z</dcterms:modified>
  <cp:revision>38</cp:revision>
  <dc:subject/>
  <dc:title>Chapter 4 </dc:title>
</cp:coreProperties>
</file>