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carbrake.wav" ContentType="audio/x-wav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824-2A62-4898-B4E0-2DB54B97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2315-AC8E-443C-8A60-D2326813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40AD-19AD-4A23-97B9-C87052DB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3A0-1C31-43BF-94C0-D426A94F7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22775-D0FF-4258-B1F6-DBC9FE8D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E147F-C0D7-49BF-8F03-074115D8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4CD4A-FB41-46EC-906B-57FB93C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B0F8C-FB93-4792-8DBE-26250B4A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B155D-E4D6-4449-9836-662F7DE7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860B9-8A18-4195-A027-C3575E2D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BDE6A-CC7A-4C67-870F-3CB0BB63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519-3472-4762-9C81-116A55C7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B65E7-9422-411D-B2E2-E284FAE2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6DECC-03CB-4E97-9BB7-2A801DAC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87D25-FF95-4AC4-9F1C-4894D832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90AD0-249F-44F4-B4C3-BE5BC659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0BF81-65BB-4405-A376-82001E8C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B9A-183A-4019-B1DE-B7987214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93C-7D23-4D1E-9967-808E4EF1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FB9-8747-45B1-B209-8A6FADFF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B54-EA17-422B-8B2A-8C8BD04E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3AF-E5F2-44AE-8FC4-C1E0D224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62E7-382A-42C5-8144-74B4A5D3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DBD1-9104-4C1C-AB14-3B09406D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876-D088-4A5D-8953-8918765248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C7DA-0F26-4ECF-BF37-D882E5A6B7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Chapter 2: </a:t>
            </a:r>
            <a:br>
              <a:rPr sz="4500"/>
            </a:br>
            <a:r>
              <a:rPr b="1" lang="en-US" sz="4500" spc="-1" strike="noStrike">
                <a:solidFill>
                  <a:srgbClr val="000000"/>
                </a:solidFill>
                <a:latin typeface="Comic Sans MS"/>
              </a:rPr>
              <a:t>Matter and Change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chemical_lab"/>
          <p:cNvPicPr/>
          <p:nvPr/>
        </p:nvPicPr>
        <p:blipFill>
          <a:blip r:embed="rId1"/>
          <a:stretch/>
        </p:blipFill>
        <p:spPr>
          <a:xfrm>
            <a:off x="3871800" y="3214800"/>
            <a:ext cx="1400400" cy="129528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C5AE-2F62-4D20-9B23-E2DB781990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ction 2.2 Mixt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ze a sample of matter as a substance or a mix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homogeneous and heterogeneous samples of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two ways that components of mixtures can be separ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7856-FBCC-4ED0-97C4-C996682D13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bstance versus Mix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Comic Sans MS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that has a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ifor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fini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omposi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Comic Sans MS"/>
              </a:rPr>
              <a:t>Mixtu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hysical blend of two or more components.  Mixtures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riabl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ositions that can be uniform or non-unifo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4540-57C0-4997-89AB-822F11C034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tures can be classified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is not uniform in composi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gravel, soil, salad, chocolate chip cooki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Hom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has a uniform composition throughou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solu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iced-tea, salt wat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st are liquids, some gases (air), some solids (stainless stee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DE46-072C-494D-AAA1-FD21CE1AE2E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ha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erm phase is used to describe any part of a sample with uniform composition and proper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xture consists of one ph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heterogene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xture consists of two or more pha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00D1-3F43-4F8E-8368-1E64D8903B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y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BD5D-D983-454F-8829-9EF449EFE0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vinegar"/>
          <p:cNvPicPr/>
          <p:nvPr/>
        </p:nvPicPr>
        <p:blipFill>
          <a:blip r:embed="rId1"/>
          <a:stretch/>
        </p:blipFill>
        <p:spPr>
          <a:xfrm>
            <a:off x="4114800" y="1981080"/>
            <a:ext cx="822240" cy="2079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oil and vinegar"/>
          <p:cNvPicPr/>
          <p:nvPr/>
        </p:nvPicPr>
        <p:blipFill>
          <a:blip r:embed="rId2"/>
          <a:stretch/>
        </p:blipFill>
        <p:spPr>
          <a:xfrm>
            <a:off x="6781680" y="2057400"/>
            <a:ext cx="1074960" cy="207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olive oil"/>
          <p:cNvPicPr/>
          <p:nvPr/>
        </p:nvPicPr>
        <p:blipFill>
          <a:blip r:embed="rId3"/>
          <a:stretch/>
        </p:blipFill>
        <p:spPr>
          <a:xfrm>
            <a:off x="1600200" y="2057400"/>
            <a:ext cx="789120" cy="2079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1219320" y="472428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live oil and vinegar are homogeneous mixtures. The substances in these mixtures are evenly distributed. When olive oil is mixed with vinegar, they form a heterogeneous mixture with two distinct 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mixtures can be easily separat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ocks and marbles, iron and sulfur (iron is magneti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fferences in </a:t>
            </a:r>
            <a:r>
              <a:rPr b="0" lang="en-US" sz="3200" spc="-1" strike="noStrike">
                <a:solidFill>
                  <a:srgbClr val="009900"/>
                </a:solidFill>
                <a:latin typeface="Comic Sans MS"/>
              </a:rPr>
              <a:t>physical properti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are used to separate mixtu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0A18-31B3-446C-98F3-66D4DF8441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ltr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parates a solid from a liquid in a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heterogene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xture by siz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ta in a coland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ter in a coffee fil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4ED8-1E51-4E58-A535-6B602EC8990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olander"/>
          <p:cNvPicPr/>
          <p:nvPr/>
        </p:nvPicPr>
        <p:blipFill>
          <a:blip r:embed="rId1"/>
          <a:stretch/>
        </p:blipFill>
        <p:spPr>
          <a:xfrm>
            <a:off x="5638680" y="4267080"/>
            <a:ext cx="24386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l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ay to separate </a:t>
            </a: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homogenou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ix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iquid is boiled to produce vapor that is then condensed into a liqui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296E-4FE6-4FEE-873E-DF33767906A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ng Mix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stil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395-9800-49D9-8EC1-E6F827A27D1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distillation"/>
          <p:cNvPicPr/>
          <p:nvPr/>
        </p:nvPicPr>
        <p:blipFill>
          <a:blip r:embed="rId1"/>
          <a:stretch/>
        </p:blipFill>
        <p:spPr>
          <a:xfrm>
            <a:off x="1295280" y="2286000"/>
            <a:ext cx="5639040" cy="41911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858000" y="198108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can you infer about the boiling points of the substances in the original mixtu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tion 2.3 Elements and Compoun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the differences between an element and a comp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tinguish between a substance and a mixt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e chemical symbol of elements and name elements given their symb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1D55-6826-4B59-A241-4EAEA86D1C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 2.1 Properties of Matte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fine physical property, and list several common physical properties of subst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iate among three states of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a physical 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A04-5A15-43BA-A6AE-269287EA83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inguishing Elements and Compound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an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plest kind of matt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not be broken down into anything simpl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ne kind of ato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Comic Sans M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bstance that contains 2 or more elements chemically combined in a fixed propor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broken down the pieces have completely different properties than the original compou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2AE3-B37F-4821-B4AB-F4857F69D4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0"/>
          <p:cNvGrpSpPr/>
          <p:nvPr/>
        </p:nvGrpSpPr>
        <p:grpSpPr>
          <a:xfrm>
            <a:off x="6357960" y="1768320"/>
            <a:ext cx="1581120" cy="865440"/>
            <a:chOff x="6357960" y="1768320"/>
            <a:chExt cx="1581120" cy="865440"/>
          </a:xfrm>
        </p:grpSpPr>
        <p:sp>
          <p:nvSpPr>
            <p:cNvPr id="170" name="SMARTInkAnnotation41"/>
            <p:cNvSpPr/>
            <p:nvPr/>
          </p:nvSpPr>
          <p:spPr>
            <a:xfrm>
              <a:off x="6357960" y="1768320"/>
              <a:ext cx="562680" cy="66024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62459" h="660797">
                  <a:moveTo>
                    <a:pt x="553528" y="62508"/>
                  </a:moveTo>
                  <a:lnTo>
                    <a:pt x="553528" y="53687"/>
                  </a:lnTo>
                  <a:lnTo>
                    <a:pt x="545839" y="45899"/>
                  </a:lnTo>
                  <a:lnTo>
                    <a:pt x="545150" y="42559"/>
                  </a:lnTo>
                  <a:lnTo>
                    <a:pt x="544708" y="37070"/>
                  </a:lnTo>
                  <a:lnTo>
                    <a:pt x="543679" y="36620"/>
                  </a:lnTo>
                  <a:lnTo>
                    <a:pt x="539890" y="36119"/>
                  </a:lnTo>
                  <a:lnTo>
                    <a:pt x="537491" y="34994"/>
                  </a:lnTo>
                  <a:lnTo>
                    <a:pt x="528351" y="28065"/>
                  </a:lnTo>
                  <a:lnTo>
                    <a:pt x="524810" y="27356"/>
                  </a:lnTo>
                  <a:lnTo>
                    <a:pt x="514452" y="26901"/>
                  </a:lnTo>
                  <a:lnTo>
                    <a:pt x="512594" y="25872"/>
                  </a:lnTo>
                  <a:lnTo>
                    <a:pt x="511356" y="24193"/>
                  </a:lnTo>
                  <a:lnTo>
                    <a:pt x="510531" y="22082"/>
                  </a:lnTo>
                  <a:lnTo>
                    <a:pt x="508987" y="20674"/>
                  </a:lnTo>
                  <a:lnTo>
                    <a:pt x="506968" y="19736"/>
                  </a:lnTo>
                  <a:lnTo>
                    <a:pt x="502077" y="18694"/>
                  </a:lnTo>
                  <a:lnTo>
                    <a:pt x="496596" y="18230"/>
                  </a:lnTo>
                  <a:lnTo>
                    <a:pt x="493746" y="17114"/>
                  </a:lnTo>
                  <a:lnTo>
                    <a:pt x="484993" y="11796"/>
                  </a:lnTo>
                  <a:lnTo>
                    <a:pt x="476115" y="8787"/>
                  </a:lnTo>
                  <a:lnTo>
                    <a:pt x="467202" y="3044"/>
                  </a:lnTo>
                  <a:lnTo>
                    <a:pt x="461252" y="1353"/>
                  </a:lnTo>
                  <a:lnTo>
                    <a:pt x="446371" y="178"/>
                  </a:lnTo>
                  <a:lnTo>
                    <a:pt x="431489" y="24"/>
                  </a:lnTo>
                  <a:lnTo>
                    <a:pt x="349758" y="0"/>
                  </a:lnTo>
                  <a:lnTo>
                    <a:pt x="345252" y="993"/>
                  </a:lnTo>
                  <a:lnTo>
                    <a:pt x="333176" y="6137"/>
                  </a:lnTo>
                  <a:lnTo>
                    <a:pt x="318464" y="9095"/>
                  </a:lnTo>
                  <a:lnTo>
                    <a:pt x="306388" y="14821"/>
                  </a:lnTo>
                  <a:lnTo>
                    <a:pt x="291675" y="17952"/>
                  </a:lnTo>
                  <a:lnTo>
                    <a:pt x="279599" y="23730"/>
                  </a:lnTo>
                  <a:lnTo>
                    <a:pt x="264888" y="26875"/>
                  </a:lnTo>
                  <a:lnTo>
                    <a:pt x="252810" y="32658"/>
                  </a:lnTo>
                  <a:lnTo>
                    <a:pt x="237105" y="35804"/>
                  </a:lnTo>
                  <a:lnTo>
                    <a:pt x="225703" y="40056"/>
                  </a:lnTo>
                  <a:lnTo>
                    <a:pt x="216667" y="45253"/>
                  </a:lnTo>
                  <a:lnTo>
                    <a:pt x="198650" y="59611"/>
                  </a:lnTo>
                  <a:lnTo>
                    <a:pt x="184347" y="68485"/>
                  </a:lnTo>
                  <a:lnTo>
                    <a:pt x="167477" y="80372"/>
                  </a:lnTo>
                  <a:lnTo>
                    <a:pt x="153724" y="89298"/>
                  </a:lnTo>
                  <a:lnTo>
                    <a:pt x="140718" y="98227"/>
                  </a:lnTo>
                  <a:lnTo>
                    <a:pt x="129948" y="105172"/>
                  </a:lnTo>
                  <a:lnTo>
                    <a:pt x="113720" y="119246"/>
                  </a:lnTo>
                  <a:lnTo>
                    <a:pt x="102187" y="131134"/>
                  </a:lnTo>
                  <a:lnTo>
                    <a:pt x="89401" y="149780"/>
                  </a:lnTo>
                  <a:lnTo>
                    <a:pt x="74330" y="167413"/>
                  </a:lnTo>
                  <a:lnTo>
                    <a:pt x="62402" y="185609"/>
                  </a:lnTo>
                  <a:lnTo>
                    <a:pt x="47514" y="203147"/>
                  </a:lnTo>
                  <a:lnTo>
                    <a:pt x="38583" y="218390"/>
                  </a:lnTo>
                  <a:lnTo>
                    <a:pt x="30645" y="234483"/>
                  </a:lnTo>
                  <a:lnTo>
                    <a:pt x="28441" y="242459"/>
                  </a:lnTo>
                  <a:lnTo>
                    <a:pt x="26033" y="261802"/>
                  </a:lnTo>
                  <a:lnTo>
                    <a:pt x="20643" y="273914"/>
                  </a:lnTo>
                  <a:lnTo>
                    <a:pt x="17612" y="288637"/>
                  </a:lnTo>
                  <a:lnTo>
                    <a:pt x="11865" y="300716"/>
                  </a:lnTo>
                  <a:lnTo>
                    <a:pt x="9420" y="319427"/>
                  </a:lnTo>
                  <a:lnTo>
                    <a:pt x="9218" y="323085"/>
                  </a:lnTo>
                  <a:lnTo>
                    <a:pt x="2760" y="342220"/>
                  </a:lnTo>
                  <a:lnTo>
                    <a:pt x="739" y="354296"/>
                  </a:lnTo>
                  <a:lnTo>
                    <a:pt x="56" y="373006"/>
                  </a:lnTo>
                  <a:lnTo>
                    <a:pt x="0" y="376663"/>
                  </a:lnTo>
                  <a:lnTo>
                    <a:pt x="2583" y="386018"/>
                  </a:lnTo>
                  <a:lnTo>
                    <a:pt x="6047" y="395798"/>
                  </a:lnTo>
                  <a:lnTo>
                    <a:pt x="7997" y="407874"/>
                  </a:lnTo>
                  <a:lnTo>
                    <a:pt x="8656" y="426584"/>
                  </a:lnTo>
                  <a:lnTo>
                    <a:pt x="8709" y="430241"/>
                  </a:lnTo>
                  <a:lnTo>
                    <a:pt x="11415" y="439596"/>
                  </a:lnTo>
                  <a:lnTo>
                    <a:pt x="14933" y="449376"/>
                  </a:lnTo>
                  <a:lnTo>
                    <a:pt x="17191" y="463739"/>
                  </a:lnTo>
                  <a:lnTo>
                    <a:pt x="17376" y="466917"/>
                  </a:lnTo>
                  <a:lnTo>
                    <a:pt x="22378" y="480871"/>
                  </a:lnTo>
                  <a:lnTo>
                    <a:pt x="30144" y="492833"/>
                  </a:lnTo>
                  <a:lnTo>
                    <a:pt x="38728" y="502661"/>
                  </a:lnTo>
                  <a:lnTo>
                    <a:pt x="40664" y="506756"/>
                  </a:lnTo>
                  <a:lnTo>
                    <a:pt x="44382" y="521008"/>
                  </a:lnTo>
                  <a:lnTo>
                    <a:pt x="48766" y="528554"/>
                  </a:lnTo>
                  <a:lnTo>
                    <a:pt x="65482" y="547576"/>
                  </a:lnTo>
                  <a:lnTo>
                    <a:pt x="92164" y="574474"/>
                  </a:lnTo>
                  <a:lnTo>
                    <a:pt x="105833" y="583406"/>
                  </a:lnTo>
                  <a:lnTo>
                    <a:pt x="122092" y="595312"/>
                  </a:lnTo>
                  <a:lnTo>
                    <a:pt x="136748" y="604242"/>
                  </a:lnTo>
                  <a:lnTo>
                    <a:pt x="153738" y="616149"/>
                  </a:lnTo>
                  <a:lnTo>
                    <a:pt x="163515" y="621110"/>
                  </a:lnTo>
                  <a:lnTo>
                    <a:pt x="180523" y="626940"/>
                  </a:lnTo>
                  <a:lnTo>
                    <a:pt x="190302" y="631859"/>
                  </a:lnTo>
                  <a:lnTo>
                    <a:pt x="197957" y="637352"/>
                  </a:lnTo>
                  <a:lnTo>
                    <a:pt x="202380" y="639214"/>
                  </a:lnTo>
                  <a:lnTo>
                    <a:pt x="218084" y="642826"/>
                  </a:lnTo>
                  <a:lnTo>
                    <a:pt x="234313" y="648748"/>
                  </a:lnTo>
                  <a:lnTo>
                    <a:pt x="251833" y="653897"/>
                  </a:lnTo>
                  <a:lnTo>
                    <a:pt x="262677" y="657731"/>
                  </a:lnTo>
                  <a:lnTo>
                    <a:pt x="279937" y="659888"/>
                  </a:lnTo>
                  <a:lnTo>
                    <a:pt x="291702" y="660393"/>
                  </a:lnTo>
                  <a:lnTo>
                    <a:pt x="309483" y="660677"/>
                  </a:lnTo>
                  <a:lnTo>
                    <a:pt x="407351" y="660796"/>
                  </a:lnTo>
                  <a:lnTo>
                    <a:pt x="419438" y="658151"/>
                  </a:lnTo>
                  <a:lnTo>
                    <a:pt x="434754" y="653729"/>
                  </a:lnTo>
                  <a:lnTo>
                    <a:pt x="448817" y="652235"/>
                  </a:lnTo>
                  <a:lnTo>
                    <a:pt x="462862" y="651976"/>
                  </a:lnTo>
                  <a:lnTo>
                    <a:pt x="467287" y="650948"/>
                  </a:lnTo>
                  <a:lnTo>
                    <a:pt x="479247" y="645752"/>
                  </a:lnTo>
                  <a:lnTo>
                    <a:pt x="493927" y="642779"/>
                  </a:lnTo>
                  <a:lnTo>
                    <a:pt x="501573" y="638568"/>
                  </a:lnTo>
                  <a:lnTo>
                    <a:pt x="514565" y="628772"/>
                  </a:lnTo>
                  <a:lnTo>
                    <a:pt x="520667" y="626720"/>
                  </a:lnTo>
                  <a:lnTo>
                    <a:pt x="529681" y="625565"/>
                  </a:lnTo>
                  <a:lnTo>
                    <a:pt x="532669" y="624410"/>
                  </a:lnTo>
                  <a:lnTo>
                    <a:pt x="541615" y="619038"/>
                  </a:lnTo>
                  <a:lnTo>
                    <a:pt x="547572" y="617433"/>
                  </a:lnTo>
                  <a:lnTo>
                    <a:pt x="562458" y="616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MARTInkAnnotation42"/>
            <p:cNvSpPr/>
            <p:nvPr/>
          </p:nvSpPr>
          <p:spPr>
            <a:xfrm>
              <a:off x="7126200" y="1812600"/>
              <a:ext cx="455400" cy="49536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495360"/>
                <a:gd name="textAreaBottom" fmla="*/ 495720 h 495360"/>
              </a:gdLst>
              <a:ahLst/>
              <a:rect l="textAreaLeft" t="textAreaTop" r="textAreaRight" b="textAreaBottom"/>
              <a:pathLst>
                <a:path w="455276" h="495920">
                  <a:moveTo>
                    <a:pt x="116073" y="35718"/>
                  </a:moveTo>
                  <a:lnTo>
                    <a:pt x="111332" y="35718"/>
                  </a:lnTo>
                  <a:lnTo>
                    <a:pt x="108944" y="36711"/>
                  </a:lnTo>
                  <a:lnTo>
                    <a:pt x="99822" y="43407"/>
                  </a:lnTo>
                  <a:lnTo>
                    <a:pt x="85926" y="56968"/>
                  </a:lnTo>
                  <a:lnTo>
                    <a:pt x="74325" y="69534"/>
                  </a:lnTo>
                  <a:lnTo>
                    <a:pt x="68413" y="79190"/>
                  </a:lnTo>
                  <a:lnTo>
                    <a:pt x="59834" y="87451"/>
                  </a:lnTo>
                  <a:lnTo>
                    <a:pt x="54767" y="91043"/>
                  </a:lnTo>
                  <a:lnTo>
                    <a:pt x="46492" y="100325"/>
                  </a:lnTo>
                  <a:lnTo>
                    <a:pt x="39507" y="111065"/>
                  </a:lnTo>
                  <a:lnTo>
                    <a:pt x="33095" y="122453"/>
                  </a:lnTo>
                  <a:lnTo>
                    <a:pt x="26938" y="136775"/>
                  </a:lnTo>
                  <a:lnTo>
                    <a:pt x="21887" y="152070"/>
                  </a:lnTo>
                  <a:lnTo>
                    <a:pt x="19642" y="165482"/>
                  </a:lnTo>
                  <a:lnTo>
                    <a:pt x="15998" y="180704"/>
                  </a:lnTo>
                  <a:lnTo>
                    <a:pt x="13638" y="188930"/>
                  </a:lnTo>
                  <a:lnTo>
                    <a:pt x="8368" y="206008"/>
                  </a:lnTo>
                  <a:lnTo>
                    <a:pt x="5575" y="214729"/>
                  </a:lnTo>
                  <a:lnTo>
                    <a:pt x="3712" y="223519"/>
                  </a:lnTo>
                  <a:lnTo>
                    <a:pt x="2470" y="232357"/>
                  </a:lnTo>
                  <a:lnTo>
                    <a:pt x="1642" y="241225"/>
                  </a:lnTo>
                  <a:lnTo>
                    <a:pt x="1090" y="250113"/>
                  </a:lnTo>
                  <a:lnTo>
                    <a:pt x="477" y="267927"/>
                  </a:lnTo>
                  <a:lnTo>
                    <a:pt x="132" y="289950"/>
                  </a:lnTo>
                  <a:lnTo>
                    <a:pt x="0" y="339696"/>
                  </a:lnTo>
                  <a:lnTo>
                    <a:pt x="2638" y="354705"/>
                  </a:lnTo>
                  <a:lnTo>
                    <a:pt x="6126" y="368982"/>
                  </a:lnTo>
                  <a:lnTo>
                    <a:pt x="7056" y="376957"/>
                  </a:lnTo>
                  <a:lnTo>
                    <a:pt x="7676" y="385250"/>
                  </a:lnTo>
                  <a:lnTo>
                    <a:pt x="10074" y="391770"/>
                  </a:lnTo>
                  <a:lnTo>
                    <a:pt x="13656" y="397110"/>
                  </a:lnTo>
                  <a:lnTo>
                    <a:pt x="21937" y="406681"/>
                  </a:lnTo>
                  <a:lnTo>
                    <a:pt x="28924" y="417549"/>
                  </a:lnTo>
                  <a:lnTo>
                    <a:pt x="37983" y="428993"/>
                  </a:lnTo>
                  <a:lnTo>
                    <a:pt x="48624" y="440695"/>
                  </a:lnTo>
                  <a:lnTo>
                    <a:pt x="59967" y="452510"/>
                  </a:lnTo>
                  <a:lnTo>
                    <a:pt x="71624" y="461730"/>
                  </a:lnTo>
                  <a:lnTo>
                    <a:pt x="83420" y="469135"/>
                  </a:lnTo>
                  <a:lnTo>
                    <a:pt x="95276" y="475733"/>
                  </a:lnTo>
                  <a:lnTo>
                    <a:pt x="102208" y="478882"/>
                  </a:lnTo>
                  <a:lnTo>
                    <a:pt x="109806" y="481973"/>
                  </a:lnTo>
                  <a:lnTo>
                    <a:pt x="117848" y="485026"/>
                  </a:lnTo>
                  <a:lnTo>
                    <a:pt x="132075" y="488419"/>
                  </a:lnTo>
                  <a:lnTo>
                    <a:pt x="146006" y="490918"/>
                  </a:lnTo>
                  <a:lnTo>
                    <a:pt x="153887" y="492974"/>
                  </a:lnTo>
                  <a:lnTo>
                    <a:pt x="162118" y="495336"/>
                  </a:lnTo>
                  <a:lnTo>
                    <a:pt x="175543" y="495919"/>
                  </a:lnTo>
                  <a:lnTo>
                    <a:pt x="192430" y="495316"/>
                  </a:lnTo>
                  <a:lnTo>
                    <a:pt x="211626" y="493922"/>
                  </a:lnTo>
                  <a:lnTo>
                    <a:pt x="227401" y="491999"/>
                  </a:lnTo>
                  <a:lnTo>
                    <a:pt x="240892" y="489726"/>
                  </a:lnTo>
                  <a:lnTo>
                    <a:pt x="252864" y="487218"/>
                  </a:lnTo>
                  <a:lnTo>
                    <a:pt x="262829" y="484554"/>
                  </a:lnTo>
                  <a:lnTo>
                    <a:pt x="271457" y="481786"/>
                  </a:lnTo>
                  <a:lnTo>
                    <a:pt x="287328" y="476064"/>
                  </a:lnTo>
                  <a:lnTo>
                    <a:pt x="304303" y="470214"/>
                  </a:lnTo>
                  <a:lnTo>
                    <a:pt x="312005" y="466273"/>
                  </a:lnTo>
                  <a:lnTo>
                    <a:pt x="325854" y="456602"/>
                  </a:lnTo>
                  <a:lnTo>
                    <a:pt x="341270" y="445689"/>
                  </a:lnTo>
                  <a:lnTo>
                    <a:pt x="349548" y="440001"/>
                  </a:lnTo>
                  <a:lnTo>
                    <a:pt x="357051" y="434224"/>
                  </a:lnTo>
                  <a:lnTo>
                    <a:pt x="370680" y="422514"/>
                  </a:lnTo>
                  <a:lnTo>
                    <a:pt x="380705" y="410695"/>
                  </a:lnTo>
                  <a:lnTo>
                    <a:pt x="389461" y="398828"/>
                  </a:lnTo>
                  <a:lnTo>
                    <a:pt x="399966" y="386939"/>
                  </a:lnTo>
                  <a:lnTo>
                    <a:pt x="408604" y="372394"/>
                  </a:lnTo>
                  <a:lnTo>
                    <a:pt x="416743" y="357000"/>
                  </a:lnTo>
                  <a:lnTo>
                    <a:pt x="426975" y="343544"/>
                  </a:lnTo>
                  <a:lnTo>
                    <a:pt x="435491" y="328303"/>
                  </a:lnTo>
                  <a:lnTo>
                    <a:pt x="439151" y="320072"/>
                  </a:lnTo>
                  <a:lnTo>
                    <a:pt x="441591" y="311608"/>
                  </a:lnTo>
                  <a:lnTo>
                    <a:pt x="443218" y="302988"/>
                  </a:lnTo>
                  <a:lnTo>
                    <a:pt x="444302" y="294266"/>
                  </a:lnTo>
                  <a:lnTo>
                    <a:pt x="448153" y="279282"/>
                  </a:lnTo>
                  <a:lnTo>
                    <a:pt x="452179" y="265016"/>
                  </a:lnTo>
                  <a:lnTo>
                    <a:pt x="453253" y="257044"/>
                  </a:lnTo>
                  <a:lnTo>
                    <a:pt x="453970" y="248753"/>
                  </a:lnTo>
                  <a:lnTo>
                    <a:pt x="454764" y="234249"/>
                  </a:lnTo>
                  <a:lnTo>
                    <a:pt x="455117" y="220197"/>
                  </a:lnTo>
                  <a:lnTo>
                    <a:pt x="455275" y="204029"/>
                  </a:lnTo>
                  <a:lnTo>
                    <a:pt x="454325" y="195550"/>
                  </a:lnTo>
                  <a:lnTo>
                    <a:pt x="452699" y="186921"/>
                  </a:lnTo>
                  <a:lnTo>
                    <a:pt x="450623" y="178192"/>
                  </a:lnTo>
                  <a:lnTo>
                    <a:pt x="445670" y="163201"/>
                  </a:lnTo>
                  <a:lnTo>
                    <a:pt x="440162" y="149925"/>
                  </a:lnTo>
                  <a:lnTo>
                    <a:pt x="434407" y="137409"/>
                  </a:lnTo>
                  <a:lnTo>
                    <a:pt x="428541" y="122586"/>
                  </a:lnTo>
                  <a:lnTo>
                    <a:pt x="425589" y="114466"/>
                  </a:lnTo>
                  <a:lnTo>
                    <a:pt x="417015" y="100152"/>
                  </a:lnTo>
                  <a:lnTo>
                    <a:pt x="407583" y="87176"/>
                  </a:lnTo>
                  <a:lnTo>
                    <a:pt x="400083" y="74794"/>
                  </a:lnTo>
                  <a:lnTo>
                    <a:pt x="390798" y="62677"/>
                  </a:lnTo>
                  <a:lnTo>
                    <a:pt x="380056" y="51668"/>
                  </a:lnTo>
                  <a:lnTo>
                    <a:pt x="362851" y="38901"/>
                  </a:lnTo>
                  <a:lnTo>
                    <a:pt x="351098" y="28533"/>
                  </a:lnTo>
                  <a:lnTo>
                    <a:pt x="338066" y="16281"/>
                  </a:lnTo>
                  <a:lnTo>
                    <a:pt x="325861" y="9551"/>
                  </a:lnTo>
                  <a:lnTo>
                    <a:pt x="318439" y="6367"/>
                  </a:lnTo>
                  <a:lnTo>
                    <a:pt x="310515" y="4245"/>
                  </a:lnTo>
                  <a:lnTo>
                    <a:pt x="302256" y="2830"/>
                  </a:lnTo>
                  <a:lnTo>
                    <a:pt x="293773" y="1886"/>
                  </a:lnTo>
                  <a:lnTo>
                    <a:pt x="285141" y="1257"/>
                  </a:lnTo>
                  <a:lnTo>
                    <a:pt x="276409" y="838"/>
                  </a:lnTo>
                  <a:lnTo>
                    <a:pt x="259763" y="372"/>
                  </a:lnTo>
                  <a:lnTo>
                    <a:pt x="2232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MARTInkAnnotation43"/>
            <p:cNvSpPr/>
            <p:nvPr/>
          </p:nvSpPr>
          <p:spPr>
            <a:xfrm>
              <a:off x="7626600" y="2277000"/>
              <a:ext cx="209160" cy="3031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209026" h="303600">
                  <a:moveTo>
                    <a:pt x="0" y="17849"/>
                  </a:moveTo>
                  <a:lnTo>
                    <a:pt x="0" y="10160"/>
                  </a:lnTo>
                  <a:lnTo>
                    <a:pt x="4740" y="4547"/>
                  </a:lnTo>
                  <a:lnTo>
                    <a:pt x="7129" y="3027"/>
                  </a:lnTo>
                  <a:lnTo>
                    <a:pt x="12428" y="1340"/>
                  </a:lnTo>
                  <a:lnTo>
                    <a:pt x="18091" y="589"/>
                  </a:lnTo>
                  <a:lnTo>
                    <a:pt x="23916" y="256"/>
                  </a:lnTo>
                  <a:lnTo>
                    <a:pt x="29811" y="108"/>
                  </a:lnTo>
                  <a:lnTo>
                    <a:pt x="55318" y="0"/>
                  </a:lnTo>
                  <a:lnTo>
                    <a:pt x="59699" y="989"/>
                  </a:lnTo>
                  <a:lnTo>
                    <a:pt x="64604" y="2640"/>
                  </a:lnTo>
                  <a:lnTo>
                    <a:pt x="69859" y="4733"/>
                  </a:lnTo>
                  <a:lnTo>
                    <a:pt x="75346" y="7120"/>
                  </a:lnTo>
                  <a:lnTo>
                    <a:pt x="86734" y="12419"/>
                  </a:lnTo>
                  <a:lnTo>
                    <a:pt x="104302" y="20980"/>
                  </a:lnTo>
                  <a:lnTo>
                    <a:pt x="110214" y="24897"/>
                  </a:lnTo>
                  <a:lnTo>
                    <a:pt x="116140" y="29493"/>
                  </a:lnTo>
                  <a:lnTo>
                    <a:pt x="122076" y="34541"/>
                  </a:lnTo>
                  <a:lnTo>
                    <a:pt x="128016" y="39891"/>
                  </a:lnTo>
                  <a:lnTo>
                    <a:pt x="139909" y="51127"/>
                  </a:lnTo>
                  <a:lnTo>
                    <a:pt x="144866" y="56902"/>
                  </a:lnTo>
                  <a:lnTo>
                    <a:pt x="149164" y="62736"/>
                  </a:lnTo>
                  <a:lnTo>
                    <a:pt x="153020" y="68609"/>
                  </a:lnTo>
                  <a:lnTo>
                    <a:pt x="157577" y="74509"/>
                  </a:lnTo>
                  <a:lnTo>
                    <a:pt x="162598" y="80427"/>
                  </a:lnTo>
                  <a:lnTo>
                    <a:pt x="167929" y="86357"/>
                  </a:lnTo>
                  <a:lnTo>
                    <a:pt x="179146" y="98237"/>
                  </a:lnTo>
                  <a:lnTo>
                    <a:pt x="184915" y="104183"/>
                  </a:lnTo>
                  <a:lnTo>
                    <a:pt x="189754" y="111124"/>
                  </a:lnTo>
                  <a:lnTo>
                    <a:pt x="193971" y="118727"/>
                  </a:lnTo>
                  <a:lnTo>
                    <a:pt x="197775" y="126773"/>
                  </a:lnTo>
                  <a:lnTo>
                    <a:pt x="201303" y="140074"/>
                  </a:lnTo>
                  <a:lnTo>
                    <a:pt x="204648" y="156879"/>
                  </a:lnTo>
                  <a:lnTo>
                    <a:pt x="207869" y="176020"/>
                  </a:lnTo>
                  <a:lnTo>
                    <a:pt x="209025" y="190765"/>
                  </a:lnTo>
                  <a:lnTo>
                    <a:pt x="208803" y="202579"/>
                  </a:lnTo>
                  <a:lnTo>
                    <a:pt x="207663" y="212440"/>
                  </a:lnTo>
                  <a:lnTo>
                    <a:pt x="205911" y="220998"/>
                  </a:lnTo>
                  <a:lnTo>
                    <a:pt x="203750" y="228688"/>
                  </a:lnTo>
                  <a:lnTo>
                    <a:pt x="201318" y="235798"/>
                  </a:lnTo>
                  <a:lnTo>
                    <a:pt x="198704" y="242524"/>
                  </a:lnTo>
                  <a:lnTo>
                    <a:pt x="195970" y="248992"/>
                  </a:lnTo>
                  <a:lnTo>
                    <a:pt x="190285" y="261469"/>
                  </a:lnTo>
                  <a:lnTo>
                    <a:pt x="184452" y="273630"/>
                  </a:lnTo>
                  <a:lnTo>
                    <a:pt x="178551" y="283003"/>
                  </a:lnTo>
                  <a:lnTo>
                    <a:pt x="172622" y="290476"/>
                  </a:lnTo>
                  <a:lnTo>
                    <a:pt x="169651" y="293858"/>
                  </a:lnTo>
                  <a:lnTo>
                    <a:pt x="160735" y="3035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SMARTInkAnnotation44"/>
            <p:cNvSpPr/>
            <p:nvPr/>
          </p:nvSpPr>
          <p:spPr>
            <a:xfrm>
              <a:off x="7628400" y="2517840"/>
              <a:ext cx="310680" cy="8892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10690" h="89251">
                  <a:moveTo>
                    <a:pt x="60658" y="89250"/>
                  </a:moveTo>
                  <a:lnTo>
                    <a:pt x="55919" y="84509"/>
                  </a:lnTo>
                  <a:lnTo>
                    <a:pt x="52538" y="83113"/>
                  </a:lnTo>
                  <a:lnTo>
                    <a:pt x="43489" y="81561"/>
                  </a:lnTo>
                  <a:lnTo>
                    <a:pt x="36720" y="80688"/>
                  </a:lnTo>
                  <a:lnTo>
                    <a:pt x="33785" y="79573"/>
                  </a:lnTo>
                  <a:lnTo>
                    <a:pt x="29844" y="77838"/>
                  </a:lnTo>
                  <a:lnTo>
                    <a:pt x="25233" y="75689"/>
                  </a:lnTo>
                  <a:lnTo>
                    <a:pt x="21166" y="73264"/>
                  </a:lnTo>
                  <a:lnTo>
                    <a:pt x="17463" y="70655"/>
                  </a:lnTo>
                  <a:lnTo>
                    <a:pt x="14002" y="67924"/>
                  </a:lnTo>
                  <a:lnTo>
                    <a:pt x="10703" y="65110"/>
                  </a:lnTo>
                  <a:lnTo>
                    <a:pt x="7511" y="62243"/>
                  </a:lnTo>
                  <a:lnTo>
                    <a:pt x="4392" y="59339"/>
                  </a:lnTo>
                  <a:lnTo>
                    <a:pt x="2310" y="56411"/>
                  </a:lnTo>
                  <a:lnTo>
                    <a:pt x="924" y="53466"/>
                  </a:lnTo>
                  <a:lnTo>
                    <a:pt x="0" y="50512"/>
                  </a:lnTo>
                  <a:lnTo>
                    <a:pt x="376" y="46557"/>
                  </a:lnTo>
                  <a:lnTo>
                    <a:pt x="1618" y="41936"/>
                  </a:lnTo>
                  <a:lnTo>
                    <a:pt x="3439" y="36872"/>
                  </a:lnTo>
                  <a:lnTo>
                    <a:pt x="5645" y="32503"/>
                  </a:lnTo>
                  <a:lnTo>
                    <a:pt x="8107" y="28598"/>
                  </a:lnTo>
                  <a:lnTo>
                    <a:pt x="10742" y="25003"/>
                  </a:lnTo>
                  <a:lnTo>
                    <a:pt x="13490" y="21614"/>
                  </a:lnTo>
                  <a:lnTo>
                    <a:pt x="16315" y="18362"/>
                  </a:lnTo>
                  <a:lnTo>
                    <a:pt x="19190" y="15202"/>
                  </a:lnTo>
                  <a:lnTo>
                    <a:pt x="23090" y="12104"/>
                  </a:lnTo>
                  <a:lnTo>
                    <a:pt x="27675" y="9046"/>
                  </a:lnTo>
                  <a:lnTo>
                    <a:pt x="32717" y="6015"/>
                  </a:lnTo>
                  <a:lnTo>
                    <a:pt x="38062" y="3994"/>
                  </a:lnTo>
                  <a:lnTo>
                    <a:pt x="43609" y="2647"/>
                  </a:lnTo>
                  <a:lnTo>
                    <a:pt x="49293" y="1749"/>
                  </a:lnTo>
                  <a:lnTo>
                    <a:pt x="55065" y="1150"/>
                  </a:lnTo>
                  <a:lnTo>
                    <a:pt x="60898" y="751"/>
                  </a:lnTo>
                  <a:lnTo>
                    <a:pt x="66772" y="485"/>
                  </a:lnTo>
                  <a:lnTo>
                    <a:pt x="78589" y="190"/>
                  </a:lnTo>
                  <a:lnTo>
                    <a:pt x="107085" y="0"/>
                  </a:lnTo>
                  <a:lnTo>
                    <a:pt x="114429" y="976"/>
                  </a:lnTo>
                  <a:lnTo>
                    <a:pt x="121311" y="2620"/>
                  </a:lnTo>
                  <a:lnTo>
                    <a:pt x="151352" y="12386"/>
                  </a:lnTo>
                  <a:lnTo>
                    <a:pt x="158824" y="15187"/>
                  </a:lnTo>
                  <a:lnTo>
                    <a:pt x="165790" y="18046"/>
                  </a:lnTo>
                  <a:lnTo>
                    <a:pt x="172418" y="20945"/>
                  </a:lnTo>
                  <a:lnTo>
                    <a:pt x="179813" y="23869"/>
                  </a:lnTo>
                  <a:lnTo>
                    <a:pt x="195968" y="29765"/>
                  </a:lnTo>
                  <a:lnTo>
                    <a:pt x="203450" y="32726"/>
                  </a:lnTo>
                  <a:lnTo>
                    <a:pt x="210423" y="35693"/>
                  </a:lnTo>
                  <a:lnTo>
                    <a:pt x="217056" y="38662"/>
                  </a:lnTo>
                  <a:lnTo>
                    <a:pt x="224455" y="41634"/>
                  </a:lnTo>
                  <a:lnTo>
                    <a:pt x="240613" y="47582"/>
                  </a:lnTo>
                  <a:lnTo>
                    <a:pt x="248097" y="50557"/>
                  </a:lnTo>
                  <a:lnTo>
                    <a:pt x="255070" y="53533"/>
                  </a:lnTo>
                  <a:lnTo>
                    <a:pt x="268110" y="59485"/>
                  </a:lnTo>
                  <a:lnTo>
                    <a:pt x="292651" y="71391"/>
                  </a:lnTo>
                  <a:lnTo>
                    <a:pt x="310689" y="80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SMARTInkAnnotation45"/>
            <p:cNvSpPr/>
            <p:nvPr/>
          </p:nvSpPr>
          <p:spPr>
            <a:xfrm>
              <a:off x="7233480" y="1803960"/>
              <a:ext cx="133920" cy="5328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33946" h="53576">
                  <a:moveTo>
                    <a:pt x="133945" y="17856"/>
                  </a:moveTo>
                  <a:lnTo>
                    <a:pt x="121516" y="5428"/>
                  </a:lnTo>
                  <a:lnTo>
                    <a:pt x="118714" y="3617"/>
                  </a:lnTo>
                  <a:lnTo>
                    <a:pt x="115854" y="2410"/>
                  </a:lnTo>
                  <a:lnTo>
                    <a:pt x="112954" y="1606"/>
                  </a:lnTo>
                  <a:lnTo>
                    <a:pt x="110030" y="1069"/>
                  </a:lnTo>
                  <a:lnTo>
                    <a:pt x="107087" y="712"/>
                  </a:lnTo>
                  <a:lnTo>
                    <a:pt x="104134" y="473"/>
                  </a:lnTo>
                  <a:lnTo>
                    <a:pt x="101172" y="315"/>
                  </a:lnTo>
                  <a:lnTo>
                    <a:pt x="95236" y="138"/>
                  </a:lnTo>
                  <a:lnTo>
                    <a:pt x="77390" y="9"/>
                  </a:lnTo>
                  <a:lnTo>
                    <a:pt x="68460" y="0"/>
                  </a:lnTo>
                  <a:lnTo>
                    <a:pt x="65484" y="991"/>
                  </a:lnTo>
                  <a:lnTo>
                    <a:pt x="62508" y="2644"/>
                  </a:lnTo>
                  <a:lnTo>
                    <a:pt x="59531" y="4738"/>
                  </a:lnTo>
                  <a:lnTo>
                    <a:pt x="55562" y="7126"/>
                  </a:lnTo>
                  <a:lnTo>
                    <a:pt x="50932" y="9711"/>
                  </a:lnTo>
                  <a:lnTo>
                    <a:pt x="45861" y="12426"/>
                  </a:lnTo>
                  <a:lnTo>
                    <a:pt x="41488" y="15228"/>
                  </a:lnTo>
                  <a:lnTo>
                    <a:pt x="37581" y="18089"/>
                  </a:lnTo>
                  <a:lnTo>
                    <a:pt x="33983" y="20988"/>
                  </a:lnTo>
                  <a:lnTo>
                    <a:pt x="29600" y="23912"/>
                  </a:lnTo>
                  <a:lnTo>
                    <a:pt x="24695" y="26855"/>
                  </a:lnTo>
                  <a:lnTo>
                    <a:pt x="19439" y="29808"/>
                  </a:lnTo>
                  <a:lnTo>
                    <a:pt x="14944" y="32770"/>
                  </a:lnTo>
                  <a:lnTo>
                    <a:pt x="10954" y="35736"/>
                  </a:lnTo>
                  <a:lnTo>
                    <a:pt x="7303" y="38706"/>
                  </a:lnTo>
                  <a:lnTo>
                    <a:pt x="4869" y="41678"/>
                  </a:lnTo>
                  <a:lnTo>
                    <a:pt x="3245" y="44651"/>
                  </a:lnTo>
                  <a:lnTo>
                    <a:pt x="0" y="535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SMARTInkAnnotation46"/>
            <p:cNvSpPr/>
            <p:nvPr/>
          </p:nvSpPr>
          <p:spPr>
            <a:xfrm>
              <a:off x="7671240" y="259812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1" h="8931">
                  <a:moveTo>
                    <a:pt x="0" y="0"/>
                  </a:moveTo>
                  <a:lnTo>
                    <a:pt x="0" y="89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SMARTInkAnnotation47"/>
            <p:cNvSpPr/>
            <p:nvPr/>
          </p:nvSpPr>
          <p:spPr>
            <a:xfrm>
              <a:off x="7715880" y="2580480"/>
              <a:ext cx="44640" cy="356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44649" h="35719">
                  <a:moveTo>
                    <a:pt x="0" y="-29818"/>
                  </a:moveTo>
                  <a:lnTo>
                    <a:pt x="4740" y="30978"/>
                  </a:lnTo>
                  <a:lnTo>
                    <a:pt x="7129" y="29581"/>
                  </a:lnTo>
                  <a:lnTo>
                    <a:pt x="9713" y="28650"/>
                  </a:lnTo>
                  <a:lnTo>
                    <a:pt x="12428" y="28030"/>
                  </a:lnTo>
                  <a:lnTo>
                    <a:pt x="14239" y="26624"/>
                  </a:lnTo>
                  <a:lnTo>
                    <a:pt x="15446" y="24694"/>
                  </a:lnTo>
                  <a:lnTo>
                    <a:pt x="16250" y="22416"/>
                  </a:lnTo>
                  <a:lnTo>
                    <a:pt x="17779" y="20897"/>
                  </a:lnTo>
                  <a:lnTo>
                    <a:pt x="19790" y="19884"/>
                  </a:lnTo>
                  <a:lnTo>
                    <a:pt x="22123" y="19209"/>
                  </a:lnTo>
                  <a:lnTo>
                    <a:pt x="24671" y="17767"/>
                  </a:lnTo>
                  <a:lnTo>
                    <a:pt x="27361" y="15813"/>
                  </a:lnTo>
                  <a:lnTo>
                    <a:pt x="30147" y="13519"/>
                  </a:lnTo>
                  <a:lnTo>
                    <a:pt x="32005" y="10996"/>
                  </a:lnTo>
                  <a:lnTo>
                    <a:pt x="-32293" y="8323"/>
                  </a:lnTo>
                  <a:lnTo>
                    <a:pt x="-31468" y="5549"/>
                  </a:lnTo>
                  <a:lnTo>
                    <a:pt x="-29926" y="3699"/>
                  </a:lnTo>
                  <a:lnTo>
                    <a:pt x="-27905" y="2466"/>
                  </a:lnTo>
                  <a:lnTo>
                    <a:pt x="-208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SMARTInkAnnotation48"/>
            <p:cNvSpPr/>
            <p:nvPr/>
          </p:nvSpPr>
          <p:spPr>
            <a:xfrm>
              <a:off x="7671240" y="2535840"/>
              <a:ext cx="160200" cy="97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60367" h="98227">
                  <a:moveTo>
                    <a:pt x="0" y="98226"/>
                  </a:moveTo>
                  <a:lnTo>
                    <a:pt x="13302" y="98226"/>
                  </a:lnTo>
                  <a:lnTo>
                    <a:pt x="14820" y="97233"/>
                  </a:lnTo>
                  <a:lnTo>
                    <a:pt x="15833" y="95580"/>
                  </a:lnTo>
                  <a:lnTo>
                    <a:pt x="16509" y="93485"/>
                  </a:lnTo>
                  <a:lnTo>
                    <a:pt x="18943" y="92089"/>
                  </a:lnTo>
                  <a:lnTo>
                    <a:pt x="22550" y="91158"/>
                  </a:lnTo>
                  <a:lnTo>
                    <a:pt x="26940" y="90538"/>
                  </a:lnTo>
                  <a:lnTo>
                    <a:pt x="30858" y="89132"/>
                  </a:lnTo>
                  <a:lnTo>
                    <a:pt x="34463" y="87202"/>
                  </a:lnTo>
                  <a:lnTo>
                    <a:pt x="37858" y="84923"/>
                  </a:lnTo>
                  <a:lnTo>
                    <a:pt x="41113" y="83405"/>
                  </a:lnTo>
                  <a:lnTo>
                    <a:pt x="44277" y="82392"/>
                  </a:lnTo>
                  <a:lnTo>
                    <a:pt x="47377" y="81717"/>
                  </a:lnTo>
                  <a:lnTo>
                    <a:pt x="49443" y="80274"/>
                  </a:lnTo>
                  <a:lnTo>
                    <a:pt x="50821" y="78321"/>
                  </a:lnTo>
                  <a:lnTo>
                    <a:pt x="51741" y="76026"/>
                  </a:lnTo>
                  <a:lnTo>
                    <a:pt x="53345" y="74496"/>
                  </a:lnTo>
                  <a:lnTo>
                    <a:pt x="55406" y="73476"/>
                  </a:lnTo>
                  <a:lnTo>
                    <a:pt x="60344" y="72343"/>
                  </a:lnTo>
                  <a:lnTo>
                    <a:pt x="63050" y="72041"/>
                  </a:lnTo>
                  <a:lnTo>
                    <a:pt x="65845" y="71840"/>
                  </a:lnTo>
                  <a:lnTo>
                    <a:pt x="67709" y="70713"/>
                  </a:lnTo>
                  <a:lnTo>
                    <a:pt x="68952" y="68970"/>
                  </a:lnTo>
                  <a:lnTo>
                    <a:pt x="69780" y="66816"/>
                  </a:lnTo>
                  <a:lnTo>
                    <a:pt x="71325" y="65380"/>
                  </a:lnTo>
                  <a:lnTo>
                    <a:pt x="73347" y="64422"/>
                  </a:lnTo>
                  <a:lnTo>
                    <a:pt x="78239" y="63358"/>
                  </a:lnTo>
                  <a:lnTo>
                    <a:pt x="80933" y="63074"/>
                  </a:lnTo>
                  <a:lnTo>
                    <a:pt x="83721" y="62886"/>
                  </a:lnTo>
                  <a:lnTo>
                    <a:pt x="86571" y="61767"/>
                  </a:lnTo>
                  <a:lnTo>
                    <a:pt x="89464" y="60030"/>
                  </a:lnTo>
                  <a:lnTo>
                    <a:pt x="97713" y="53955"/>
                  </a:lnTo>
                  <a:lnTo>
                    <a:pt x="100643" y="51099"/>
                  </a:lnTo>
                  <a:lnTo>
                    <a:pt x="105870" y="45922"/>
                  </a:lnTo>
                  <a:lnTo>
                    <a:pt x="109230" y="45214"/>
                  </a:lnTo>
                  <a:lnTo>
                    <a:pt x="111515" y="45025"/>
                  </a:lnTo>
                  <a:lnTo>
                    <a:pt x="113038" y="43907"/>
                  </a:lnTo>
                  <a:lnTo>
                    <a:pt x="114055" y="42170"/>
                  </a:lnTo>
                  <a:lnTo>
                    <a:pt x="114731" y="40019"/>
                  </a:lnTo>
                  <a:lnTo>
                    <a:pt x="116175" y="38585"/>
                  </a:lnTo>
                  <a:lnTo>
                    <a:pt x="118130" y="37630"/>
                  </a:lnTo>
                  <a:lnTo>
                    <a:pt x="120425" y="36993"/>
                  </a:lnTo>
                  <a:lnTo>
                    <a:pt x="121955" y="35575"/>
                  </a:lnTo>
                  <a:lnTo>
                    <a:pt x="122976" y="33639"/>
                  </a:lnTo>
                  <a:lnTo>
                    <a:pt x="123656" y="31355"/>
                  </a:lnTo>
                  <a:lnTo>
                    <a:pt x="125100" y="29833"/>
                  </a:lnTo>
                  <a:lnTo>
                    <a:pt x="127057" y="28818"/>
                  </a:lnTo>
                  <a:lnTo>
                    <a:pt x="132584" y="27189"/>
                  </a:lnTo>
                  <a:lnTo>
                    <a:pt x="135987" y="24321"/>
                  </a:lnTo>
                  <a:lnTo>
                    <a:pt x="142471" y="18237"/>
                  </a:lnTo>
                  <a:lnTo>
                    <a:pt x="151771" y="8962"/>
                  </a:lnTo>
                  <a:lnTo>
                    <a:pt x="151803" y="8930"/>
                  </a:lnTo>
                  <a:lnTo>
                    <a:pt x="151804" y="2"/>
                  </a:lnTo>
                  <a:lnTo>
                    <a:pt x="156544" y="0"/>
                  </a:lnTo>
                  <a:lnTo>
                    <a:pt x="157941" y="992"/>
                  </a:lnTo>
                  <a:lnTo>
                    <a:pt x="158872" y="2645"/>
                  </a:lnTo>
                  <a:lnTo>
                    <a:pt x="160366" y="7688"/>
                  </a:lnTo>
                  <a:lnTo>
                    <a:pt x="159497" y="8102"/>
                  </a:lnTo>
                  <a:lnTo>
                    <a:pt x="154524" y="8684"/>
                  </a:lnTo>
                  <a:lnTo>
                    <a:pt x="153013" y="8820"/>
                  </a:lnTo>
                  <a:lnTo>
                    <a:pt x="152610" y="9848"/>
                  </a:lnTo>
                  <a:lnTo>
                    <a:pt x="152341" y="11526"/>
                  </a:lnTo>
                  <a:lnTo>
                    <a:pt x="152162" y="13637"/>
                  </a:lnTo>
                  <a:lnTo>
                    <a:pt x="151051" y="15044"/>
                  </a:lnTo>
                  <a:lnTo>
                    <a:pt x="149318" y="15982"/>
                  </a:lnTo>
                  <a:lnTo>
                    <a:pt x="144147" y="17488"/>
                  </a:lnTo>
                  <a:lnTo>
                    <a:pt x="140795" y="20340"/>
                  </a:lnTo>
                  <a:lnTo>
                    <a:pt x="138510" y="22490"/>
                  </a:lnTo>
                  <a:lnTo>
                    <a:pt x="136989" y="24915"/>
                  </a:lnTo>
                  <a:lnTo>
                    <a:pt x="135974" y="27523"/>
                  </a:lnTo>
                  <a:lnTo>
                    <a:pt x="135298" y="30255"/>
                  </a:lnTo>
                  <a:lnTo>
                    <a:pt x="133855" y="32076"/>
                  </a:lnTo>
                  <a:lnTo>
                    <a:pt x="131901" y="33290"/>
                  </a:lnTo>
                  <a:lnTo>
                    <a:pt x="129606" y="34099"/>
                  </a:lnTo>
                  <a:lnTo>
                    <a:pt x="128075" y="35631"/>
                  </a:lnTo>
                  <a:lnTo>
                    <a:pt x="127055" y="37644"/>
                  </a:lnTo>
                  <a:lnTo>
                    <a:pt x="126376" y="39979"/>
                  </a:lnTo>
                  <a:lnTo>
                    <a:pt x="124930" y="41535"/>
                  </a:lnTo>
                  <a:lnTo>
                    <a:pt x="122973" y="42573"/>
                  </a:lnTo>
                  <a:lnTo>
                    <a:pt x="118155" y="43725"/>
                  </a:lnTo>
                  <a:lnTo>
                    <a:pt x="115480" y="44033"/>
                  </a:lnTo>
                  <a:lnTo>
                    <a:pt x="112705" y="44238"/>
                  </a:lnTo>
                  <a:lnTo>
                    <a:pt x="108871" y="45367"/>
                  </a:lnTo>
                  <a:lnTo>
                    <a:pt x="104331" y="47112"/>
                  </a:lnTo>
                  <a:lnTo>
                    <a:pt x="99320" y="49267"/>
                  </a:lnTo>
                  <a:lnTo>
                    <a:pt x="94987" y="50704"/>
                  </a:lnTo>
                  <a:lnTo>
                    <a:pt x="91105" y="51661"/>
                  </a:lnTo>
                  <a:lnTo>
                    <a:pt x="87526" y="52300"/>
                  </a:lnTo>
                  <a:lnTo>
                    <a:pt x="84148" y="52726"/>
                  </a:lnTo>
                  <a:lnTo>
                    <a:pt x="80903" y="53010"/>
                  </a:lnTo>
                  <a:lnTo>
                    <a:pt x="77747" y="53199"/>
                  </a:lnTo>
                  <a:lnTo>
                    <a:pt x="74652" y="54317"/>
                  </a:lnTo>
                  <a:lnTo>
                    <a:pt x="71596" y="56055"/>
                  </a:lnTo>
                  <a:lnTo>
                    <a:pt x="68566" y="58206"/>
                  </a:lnTo>
                  <a:lnTo>
                    <a:pt x="65554" y="59640"/>
                  </a:lnTo>
                  <a:lnTo>
                    <a:pt x="62555" y="60596"/>
                  </a:lnTo>
                  <a:lnTo>
                    <a:pt x="53578" y="625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ly there are 117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1 or 2 letter symbols, and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formul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irst letter is always capitalized, if there is a second letter it is written lower ca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 – Carb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 – calci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 – potassi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u- gol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1D84-7BC5-4765-9A2A-D10A34EAB8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s and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riodic Table of the Ele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697E-A1A1-42F0-AE8C-C2587B987F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periodic table"/>
          <p:cNvPicPr/>
          <p:nvPr/>
        </p:nvPicPr>
        <p:blipFill>
          <a:blip r:embed="rId1"/>
          <a:stretch/>
        </p:blipFill>
        <p:spPr>
          <a:xfrm>
            <a:off x="1219320" y="2362320"/>
            <a:ext cx="716256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 compounds are made of elements, chemical formulas reveal what elements compose the comp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ese formulas, subscripts are used to indicate relative proportions of the elements in the compou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5C2-2258-4472-A246-9B1CE2BB8E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752480" y="4724280"/>
            <a:ext cx="556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for every 2 Hydrogen atoms there is 1 Oxygen atom (W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286000" y="5486400"/>
            <a:ext cx="59436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for every 12 Carbo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toms there are 22 Hydrogen atoms and 11 Oxygen atoms (star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7"/>
          <p:cNvGrpSpPr/>
          <p:nvPr/>
        </p:nvGrpSpPr>
        <p:grpSpPr>
          <a:xfrm>
            <a:off x="6045120" y="581040"/>
            <a:ext cx="2340000" cy="4294080"/>
            <a:chOff x="6045120" y="581040"/>
            <a:chExt cx="2340000" cy="4294080"/>
          </a:xfrm>
        </p:grpSpPr>
        <p:sp>
          <p:nvSpPr>
            <p:cNvPr id="191" name="SMARTInkAnnotation26"/>
            <p:cNvSpPr/>
            <p:nvPr/>
          </p:nvSpPr>
          <p:spPr>
            <a:xfrm>
              <a:off x="6777360" y="616680"/>
              <a:ext cx="17640" cy="47304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17860" h="473275">
                  <a:moveTo>
                    <a:pt x="8930" y="0"/>
                  </a:moveTo>
                  <a:lnTo>
                    <a:pt x="1241" y="0"/>
                  </a:lnTo>
                  <a:lnTo>
                    <a:pt x="828" y="993"/>
                  </a:lnTo>
                  <a:lnTo>
                    <a:pt x="368" y="4741"/>
                  </a:lnTo>
                  <a:lnTo>
                    <a:pt x="7" y="17952"/>
                  </a:lnTo>
                  <a:lnTo>
                    <a:pt x="0" y="139912"/>
                  </a:lnTo>
                  <a:lnTo>
                    <a:pt x="992" y="145860"/>
                  </a:lnTo>
                  <a:lnTo>
                    <a:pt x="2645" y="151811"/>
                  </a:lnTo>
                  <a:lnTo>
                    <a:pt x="4740" y="157762"/>
                  </a:lnTo>
                  <a:lnTo>
                    <a:pt x="6137" y="163714"/>
                  </a:lnTo>
                  <a:lnTo>
                    <a:pt x="7068" y="169666"/>
                  </a:lnTo>
                  <a:lnTo>
                    <a:pt x="7688" y="175619"/>
                  </a:lnTo>
                  <a:lnTo>
                    <a:pt x="8102" y="181571"/>
                  </a:lnTo>
                  <a:lnTo>
                    <a:pt x="8561" y="193477"/>
                  </a:lnTo>
                  <a:lnTo>
                    <a:pt x="8857" y="223427"/>
                  </a:lnTo>
                  <a:lnTo>
                    <a:pt x="8930" y="462570"/>
                  </a:lnTo>
                  <a:lnTo>
                    <a:pt x="9922" y="463161"/>
                  </a:lnTo>
                  <a:lnTo>
                    <a:pt x="11575" y="463555"/>
                  </a:lnTo>
                  <a:lnTo>
                    <a:pt x="13670" y="463818"/>
                  </a:lnTo>
                  <a:lnTo>
                    <a:pt x="15067" y="464986"/>
                  </a:lnTo>
                  <a:lnTo>
                    <a:pt x="15997" y="466756"/>
                  </a:lnTo>
                  <a:lnTo>
                    <a:pt x="17859" y="4732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MARTInkAnnotation27"/>
            <p:cNvSpPr/>
            <p:nvPr/>
          </p:nvSpPr>
          <p:spPr>
            <a:xfrm>
              <a:off x="6813000" y="804240"/>
              <a:ext cx="232200" cy="86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8640"/>
                <a:gd name="textAreaBottom" fmla="*/ 8640 h 8640"/>
              </a:gdLst>
              <a:ahLst/>
              <a:rect l="textAreaLeft" t="textAreaTop" r="textAreaRight" b="textAreaBottom"/>
              <a:pathLst>
                <a:path w="232172" h="8931">
                  <a:moveTo>
                    <a:pt x="0" y="8930"/>
                  </a:moveTo>
                  <a:lnTo>
                    <a:pt x="21249" y="8930"/>
                  </a:lnTo>
                  <a:lnTo>
                    <a:pt x="24088" y="7938"/>
                  </a:lnTo>
                  <a:lnTo>
                    <a:pt x="26972" y="6284"/>
                  </a:lnTo>
                  <a:lnTo>
                    <a:pt x="29888" y="4189"/>
                  </a:lnTo>
                  <a:lnTo>
                    <a:pt x="33815" y="2793"/>
                  </a:lnTo>
                  <a:lnTo>
                    <a:pt x="38419" y="1862"/>
                  </a:lnTo>
                  <a:lnTo>
                    <a:pt x="43471" y="1241"/>
                  </a:lnTo>
                  <a:lnTo>
                    <a:pt x="47832" y="827"/>
                  </a:lnTo>
                  <a:lnTo>
                    <a:pt x="51732" y="551"/>
                  </a:lnTo>
                  <a:lnTo>
                    <a:pt x="55323" y="368"/>
                  </a:lnTo>
                  <a:lnTo>
                    <a:pt x="64606" y="163"/>
                  </a:lnTo>
                  <a:lnTo>
                    <a:pt x="126607" y="1"/>
                  </a:lnTo>
                  <a:lnTo>
                    <a:pt x="134014" y="993"/>
                  </a:lnTo>
                  <a:lnTo>
                    <a:pt x="155473" y="4741"/>
                  </a:lnTo>
                  <a:lnTo>
                    <a:pt x="165164" y="6137"/>
                  </a:lnTo>
                  <a:lnTo>
                    <a:pt x="173610" y="7068"/>
                  </a:lnTo>
                  <a:lnTo>
                    <a:pt x="181223" y="7688"/>
                  </a:lnTo>
                  <a:lnTo>
                    <a:pt x="187293" y="7110"/>
                  </a:lnTo>
                  <a:lnTo>
                    <a:pt x="192330" y="5732"/>
                  </a:lnTo>
                  <a:lnTo>
                    <a:pt x="196681" y="3822"/>
                  </a:lnTo>
                  <a:lnTo>
                    <a:pt x="200574" y="2548"/>
                  </a:lnTo>
                  <a:lnTo>
                    <a:pt x="204161" y="1698"/>
                  </a:lnTo>
                  <a:lnTo>
                    <a:pt x="207545" y="1132"/>
                  </a:lnTo>
                  <a:lnTo>
                    <a:pt x="210792" y="755"/>
                  </a:lnTo>
                  <a:lnTo>
                    <a:pt x="213950" y="503"/>
                  </a:lnTo>
                  <a:lnTo>
                    <a:pt x="217048" y="336"/>
                  </a:lnTo>
                  <a:lnTo>
                    <a:pt x="223135" y="149"/>
                  </a:lnTo>
                  <a:lnTo>
                    <a:pt x="23217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MARTInkAnnotation28"/>
            <p:cNvSpPr/>
            <p:nvPr/>
          </p:nvSpPr>
          <p:spPr>
            <a:xfrm>
              <a:off x="7036560" y="589680"/>
              <a:ext cx="44280" cy="4464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4617" h="446486">
                  <a:moveTo>
                    <a:pt x="26757" y="0"/>
                  </a:moveTo>
                  <a:lnTo>
                    <a:pt x="18195" y="0"/>
                  </a:lnTo>
                  <a:lnTo>
                    <a:pt x="17081" y="993"/>
                  </a:lnTo>
                  <a:lnTo>
                    <a:pt x="13196" y="4741"/>
                  </a:lnTo>
                  <a:lnTo>
                    <a:pt x="11763" y="7129"/>
                  </a:lnTo>
                  <a:lnTo>
                    <a:pt x="10808" y="9714"/>
                  </a:lnTo>
                  <a:lnTo>
                    <a:pt x="9747" y="16224"/>
                  </a:lnTo>
                  <a:lnTo>
                    <a:pt x="9149" y="30053"/>
                  </a:lnTo>
                  <a:lnTo>
                    <a:pt x="8973" y="41867"/>
                  </a:lnTo>
                  <a:lnTo>
                    <a:pt x="8931" y="52012"/>
                  </a:lnTo>
                  <a:lnTo>
                    <a:pt x="7928" y="57495"/>
                  </a:lnTo>
                  <a:lnTo>
                    <a:pt x="6267" y="63135"/>
                  </a:lnTo>
                  <a:lnTo>
                    <a:pt x="4167" y="68879"/>
                  </a:lnTo>
                  <a:lnTo>
                    <a:pt x="2767" y="75685"/>
                  </a:lnTo>
                  <a:lnTo>
                    <a:pt x="1834" y="83199"/>
                  </a:lnTo>
                  <a:lnTo>
                    <a:pt x="1212" y="91185"/>
                  </a:lnTo>
                  <a:lnTo>
                    <a:pt x="797" y="98493"/>
                  </a:lnTo>
                  <a:lnTo>
                    <a:pt x="337" y="111905"/>
                  </a:lnTo>
                  <a:lnTo>
                    <a:pt x="17" y="149785"/>
                  </a:lnTo>
                  <a:lnTo>
                    <a:pt x="0" y="156411"/>
                  </a:lnTo>
                  <a:lnTo>
                    <a:pt x="982" y="163806"/>
                  </a:lnTo>
                  <a:lnTo>
                    <a:pt x="2628" y="171712"/>
                  </a:lnTo>
                  <a:lnTo>
                    <a:pt x="4718" y="179959"/>
                  </a:lnTo>
                  <a:lnTo>
                    <a:pt x="6112" y="187441"/>
                  </a:lnTo>
                  <a:lnTo>
                    <a:pt x="7040" y="194414"/>
                  </a:lnTo>
                  <a:lnTo>
                    <a:pt x="8072" y="207453"/>
                  </a:lnTo>
                  <a:lnTo>
                    <a:pt x="8530" y="219863"/>
                  </a:lnTo>
                  <a:lnTo>
                    <a:pt x="9645" y="227935"/>
                  </a:lnTo>
                  <a:lnTo>
                    <a:pt x="11381" y="237285"/>
                  </a:lnTo>
                  <a:lnTo>
                    <a:pt x="13529" y="247487"/>
                  </a:lnTo>
                  <a:lnTo>
                    <a:pt x="14961" y="257265"/>
                  </a:lnTo>
                  <a:lnTo>
                    <a:pt x="15916" y="266760"/>
                  </a:lnTo>
                  <a:lnTo>
                    <a:pt x="16554" y="276067"/>
                  </a:lnTo>
                  <a:lnTo>
                    <a:pt x="17970" y="284256"/>
                  </a:lnTo>
                  <a:lnTo>
                    <a:pt x="19907" y="291699"/>
                  </a:lnTo>
                  <a:lnTo>
                    <a:pt x="22190" y="298646"/>
                  </a:lnTo>
                  <a:lnTo>
                    <a:pt x="23713" y="305261"/>
                  </a:lnTo>
                  <a:lnTo>
                    <a:pt x="24727" y="311656"/>
                  </a:lnTo>
                  <a:lnTo>
                    <a:pt x="25404" y="317904"/>
                  </a:lnTo>
                  <a:lnTo>
                    <a:pt x="26848" y="324053"/>
                  </a:lnTo>
                  <a:lnTo>
                    <a:pt x="28801" y="330137"/>
                  </a:lnTo>
                  <a:lnTo>
                    <a:pt x="31096" y="336177"/>
                  </a:lnTo>
                  <a:lnTo>
                    <a:pt x="32626" y="341196"/>
                  </a:lnTo>
                  <a:lnTo>
                    <a:pt x="33647" y="345535"/>
                  </a:lnTo>
                  <a:lnTo>
                    <a:pt x="34327" y="349419"/>
                  </a:lnTo>
                  <a:lnTo>
                    <a:pt x="35772" y="353993"/>
                  </a:lnTo>
                  <a:lnTo>
                    <a:pt x="37728" y="359027"/>
                  </a:lnTo>
                  <a:lnTo>
                    <a:pt x="40024" y="364367"/>
                  </a:lnTo>
                  <a:lnTo>
                    <a:pt x="41554" y="368919"/>
                  </a:lnTo>
                  <a:lnTo>
                    <a:pt x="42575" y="372947"/>
                  </a:lnTo>
                  <a:lnTo>
                    <a:pt x="43709" y="381059"/>
                  </a:lnTo>
                  <a:lnTo>
                    <a:pt x="44213" y="391279"/>
                  </a:lnTo>
                  <a:lnTo>
                    <a:pt x="44497" y="403449"/>
                  </a:lnTo>
                  <a:lnTo>
                    <a:pt x="43544" y="406880"/>
                  </a:lnTo>
                  <a:lnTo>
                    <a:pt x="41917" y="410160"/>
                  </a:lnTo>
                  <a:lnTo>
                    <a:pt x="39840" y="413339"/>
                  </a:lnTo>
                  <a:lnTo>
                    <a:pt x="38456" y="416449"/>
                  </a:lnTo>
                  <a:lnTo>
                    <a:pt x="37533" y="419516"/>
                  </a:lnTo>
                  <a:lnTo>
                    <a:pt x="36234" y="428572"/>
                  </a:lnTo>
                  <a:lnTo>
                    <a:pt x="35759" y="442509"/>
                  </a:lnTo>
                  <a:lnTo>
                    <a:pt x="35696" y="445961"/>
                  </a:lnTo>
                  <a:lnTo>
                    <a:pt x="36685" y="446136"/>
                  </a:lnTo>
                  <a:lnTo>
                    <a:pt x="38337" y="446252"/>
                  </a:lnTo>
                  <a:lnTo>
                    <a:pt x="44616" y="44648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MARTInkAnnotation29"/>
            <p:cNvSpPr/>
            <p:nvPr/>
          </p:nvSpPr>
          <p:spPr>
            <a:xfrm>
              <a:off x="7215120" y="964800"/>
              <a:ext cx="231840" cy="205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232047" h="205264">
                  <a:moveTo>
                    <a:pt x="8804" y="17741"/>
                  </a:moveTo>
                  <a:lnTo>
                    <a:pt x="13544" y="13000"/>
                  </a:lnTo>
                  <a:lnTo>
                    <a:pt x="15933" y="11604"/>
                  </a:lnTo>
                  <a:lnTo>
                    <a:pt x="21232" y="10052"/>
                  </a:lnTo>
                  <a:lnTo>
                    <a:pt x="26895" y="6717"/>
                  </a:lnTo>
                  <a:lnTo>
                    <a:pt x="29795" y="4439"/>
                  </a:lnTo>
                  <a:lnTo>
                    <a:pt x="32720" y="2919"/>
                  </a:lnTo>
                  <a:lnTo>
                    <a:pt x="38616" y="1232"/>
                  </a:lnTo>
                  <a:lnTo>
                    <a:pt x="44543" y="482"/>
                  </a:lnTo>
                  <a:lnTo>
                    <a:pt x="51478" y="148"/>
                  </a:lnTo>
                  <a:lnTo>
                    <a:pt x="61174" y="0"/>
                  </a:lnTo>
                  <a:lnTo>
                    <a:pt x="65545" y="953"/>
                  </a:lnTo>
                  <a:lnTo>
                    <a:pt x="69452" y="2580"/>
                  </a:lnTo>
                  <a:lnTo>
                    <a:pt x="76438" y="6042"/>
                  </a:lnTo>
                  <a:lnTo>
                    <a:pt x="82851" y="7580"/>
                  </a:lnTo>
                  <a:lnTo>
                    <a:pt x="89009" y="10910"/>
                  </a:lnTo>
                  <a:lnTo>
                    <a:pt x="92039" y="13187"/>
                  </a:lnTo>
                  <a:lnTo>
                    <a:pt x="98052" y="15717"/>
                  </a:lnTo>
                  <a:lnTo>
                    <a:pt x="101045" y="16391"/>
                  </a:lnTo>
                  <a:lnTo>
                    <a:pt x="103040" y="17833"/>
                  </a:lnTo>
                  <a:lnTo>
                    <a:pt x="104370" y="19787"/>
                  </a:lnTo>
                  <a:lnTo>
                    <a:pt x="106841" y="25595"/>
                  </a:lnTo>
                  <a:lnTo>
                    <a:pt x="111245" y="34792"/>
                  </a:lnTo>
                  <a:lnTo>
                    <a:pt x="113809" y="39030"/>
                  </a:lnTo>
                  <a:lnTo>
                    <a:pt x="116511" y="42848"/>
                  </a:lnTo>
                  <a:lnTo>
                    <a:pt x="119304" y="46385"/>
                  </a:lnTo>
                  <a:lnTo>
                    <a:pt x="121166" y="49735"/>
                  </a:lnTo>
                  <a:lnTo>
                    <a:pt x="124779" y="60183"/>
                  </a:lnTo>
                  <a:lnTo>
                    <a:pt x="126800" y="64887"/>
                  </a:lnTo>
                  <a:lnTo>
                    <a:pt x="129140" y="70008"/>
                  </a:lnTo>
                  <a:lnTo>
                    <a:pt x="130700" y="75406"/>
                  </a:lnTo>
                  <a:lnTo>
                    <a:pt x="131740" y="80989"/>
                  </a:lnTo>
                  <a:lnTo>
                    <a:pt x="132433" y="86695"/>
                  </a:lnTo>
                  <a:lnTo>
                    <a:pt x="132895" y="92484"/>
                  </a:lnTo>
                  <a:lnTo>
                    <a:pt x="133204" y="98327"/>
                  </a:lnTo>
                  <a:lnTo>
                    <a:pt x="133409" y="104207"/>
                  </a:lnTo>
                  <a:lnTo>
                    <a:pt x="134538" y="110112"/>
                  </a:lnTo>
                  <a:lnTo>
                    <a:pt x="136283" y="116032"/>
                  </a:lnTo>
                  <a:lnTo>
                    <a:pt x="138439" y="121964"/>
                  </a:lnTo>
                  <a:lnTo>
                    <a:pt x="138884" y="126910"/>
                  </a:lnTo>
                  <a:lnTo>
                    <a:pt x="138188" y="131200"/>
                  </a:lnTo>
                  <a:lnTo>
                    <a:pt x="136731" y="135052"/>
                  </a:lnTo>
                  <a:lnTo>
                    <a:pt x="135761" y="139605"/>
                  </a:lnTo>
                  <a:lnTo>
                    <a:pt x="135114" y="144624"/>
                  </a:lnTo>
                  <a:lnTo>
                    <a:pt x="134683" y="149954"/>
                  </a:lnTo>
                  <a:lnTo>
                    <a:pt x="134395" y="154500"/>
                  </a:lnTo>
                  <a:lnTo>
                    <a:pt x="134076" y="162198"/>
                  </a:lnTo>
                  <a:lnTo>
                    <a:pt x="132998" y="166631"/>
                  </a:lnTo>
                  <a:lnTo>
                    <a:pt x="131287" y="171571"/>
                  </a:lnTo>
                  <a:lnTo>
                    <a:pt x="129154" y="176849"/>
                  </a:lnTo>
                  <a:lnTo>
                    <a:pt x="126740" y="180368"/>
                  </a:lnTo>
                  <a:lnTo>
                    <a:pt x="124140" y="182714"/>
                  </a:lnTo>
                  <a:lnTo>
                    <a:pt x="121414" y="184278"/>
                  </a:lnTo>
                  <a:lnTo>
                    <a:pt x="119596" y="186312"/>
                  </a:lnTo>
                  <a:lnTo>
                    <a:pt x="118384" y="188661"/>
                  </a:lnTo>
                  <a:lnTo>
                    <a:pt x="117575" y="191219"/>
                  </a:lnTo>
                  <a:lnTo>
                    <a:pt x="114033" y="196707"/>
                  </a:lnTo>
                  <a:lnTo>
                    <a:pt x="111699" y="199559"/>
                  </a:lnTo>
                  <a:lnTo>
                    <a:pt x="109150" y="201461"/>
                  </a:lnTo>
                  <a:lnTo>
                    <a:pt x="103674" y="203574"/>
                  </a:lnTo>
                  <a:lnTo>
                    <a:pt x="99831" y="204137"/>
                  </a:lnTo>
                  <a:lnTo>
                    <a:pt x="95286" y="204513"/>
                  </a:lnTo>
                  <a:lnTo>
                    <a:pt x="90271" y="204764"/>
                  </a:lnTo>
                  <a:lnTo>
                    <a:pt x="79408" y="205042"/>
                  </a:lnTo>
                  <a:lnTo>
                    <a:pt x="16149" y="205263"/>
                  </a:lnTo>
                  <a:lnTo>
                    <a:pt x="13701" y="204271"/>
                  </a:lnTo>
                  <a:lnTo>
                    <a:pt x="12068" y="202618"/>
                  </a:lnTo>
                  <a:lnTo>
                    <a:pt x="10980" y="200524"/>
                  </a:lnTo>
                  <a:lnTo>
                    <a:pt x="9263" y="199127"/>
                  </a:lnTo>
                  <a:lnTo>
                    <a:pt x="7125" y="198196"/>
                  </a:lnTo>
                  <a:lnTo>
                    <a:pt x="4708" y="197576"/>
                  </a:lnTo>
                  <a:lnTo>
                    <a:pt x="3097" y="196170"/>
                  </a:lnTo>
                  <a:lnTo>
                    <a:pt x="2022" y="194241"/>
                  </a:lnTo>
                  <a:lnTo>
                    <a:pt x="299" y="188755"/>
                  </a:lnTo>
                  <a:lnTo>
                    <a:pt x="0" y="183065"/>
                  </a:lnTo>
                  <a:lnTo>
                    <a:pt x="950" y="181535"/>
                  </a:lnTo>
                  <a:lnTo>
                    <a:pt x="2576" y="180515"/>
                  </a:lnTo>
                  <a:lnTo>
                    <a:pt x="4652" y="179835"/>
                  </a:lnTo>
                  <a:lnTo>
                    <a:pt x="9605" y="176434"/>
                  </a:lnTo>
                  <a:lnTo>
                    <a:pt x="12314" y="174137"/>
                  </a:lnTo>
                  <a:lnTo>
                    <a:pt x="15113" y="172607"/>
                  </a:lnTo>
                  <a:lnTo>
                    <a:pt x="24785" y="169460"/>
                  </a:lnTo>
                  <a:lnTo>
                    <a:pt x="29380" y="167504"/>
                  </a:lnTo>
                  <a:lnTo>
                    <a:pt x="34427" y="165208"/>
                  </a:lnTo>
                  <a:lnTo>
                    <a:pt x="39777" y="163677"/>
                  </a:lnTo>
                  <a:lnTo>
                    <a:pt x="45328" y="162657"/>
                  </a:lnTo>
                  <a:lnTo>
                    <a:pt x="51012" y="161976"/>
                  </a:lnTo>
                  <a:lnTo>
                    <a:pt x="55794" y="161523"/>
                  </a:lnTo>
                  <a:lnTo>
                    <a:pt x="59975" y="161220"/>
                  </a:lnTo>
                  <a:lnTo>
                    <a:pt x="63754" y="161019"/>
                  </a:lnTo>
                  <a:lnTo>
                    <a:pt x="73244" y="160795"/>
                  </a:lnTo>
                  <a:lnTo>
                    <a:pt x="120786" y="160626"/>
                  </a:lnTo>
                  <a:lnTo>
                    <a:pt x="131084" y="163599"/>
                  </a:lnTo>
                  <a:lnTo>
                    <a:pt x="143901" y="168558"/>
                  </a:lnTo>
                  <a:lnTo>
                    <a:pt x="158400" y="174840"/>
                  </a:lnTo>
                  <a:lnTo>
                    <a:pt x="169058" y="179029"/>
                  </a:lnTo>
                  <a:lnTo>
                    <a:pt x="177156" y="181821"/>
                  </a:lnTo>
                  <a:lnTo>
                    <a:pt x="183546" y="183682"/>
                  </a:lnTo>
                  <a:lnTo>
                    <a:pt x="189791" y="184923"/>
                  </a:lnTo>
                  <a:lnTo>
                    <a:pt x="195939" y="185750"/>
                  </a:lnTo>
                  <a:lnTo>
                    <a:pt x="202021" y="186302"/>
                  </a:lnTo>
                  <a:lnTo>
                    <a:pt x="207069" y="187662"/>
                  </a:lnTo>
                  <a:lnTo>
                    <a:pt x="211426" y="189560"/>
                  </a:lnTo>
                  <a:lnTo>
                    <a:pt x="220808" y="194997"/>
                  </a:lnTo>
                  <a:lnTo>
                    <a:pt x="224736" y="195740"/>
                  </a:lnTo>
                  <a:lnTo>
                    <a:pt x="232046" y="1963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SMARTInkAnnotation30"/>
            <p:cNvSpPr/>
            <p:nvPr/>
          </p:nvSpPr>
          <p:spPr>
            <a:xfrm>
              <a:off x="7529040" y="581040"/>
              <a:ext cx="329040" cy="419040"/>
            </a:xfrm>
            <a:custGeom>
              <a:avLst/>
              <a:gdLst>
                <a:gd name="textAreaLeft" fmla="*/ 0 w 329040"/>
                <a:gd name="textAreaRight" fmla="*/ 329400 w 3290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329035" h="419314">
                  <a:moveTo>
                    <a:pt x="204019" y="17859"/>
                  </a:moveTo>
                  <a:lnTo>
                    <a:pt x="204019" y="13119"/>
                  </a:lnTo>
                  <a:lnTo>
                    <a:pt x="203028" y="11722"/>
                  </a:lnTo>
                  <a:lnTo>
                    <a:pt x="201374" y="10791"/>
                  </a:lnTo>
                  <a:lnTo>
                    <a:pt x="196331" y="9297"/>
                  </a:lnTo>
                  <a:lnTo>
                    <a:pt x="188206" y="9002"/>
                  </a:lnTo>
                  <a:lnTo>
                    <a:pt x="182770" y="8962"/>
                  </a:lnTo>
                  <a:lnTo>
                    <a:pt x="180923" y="7959"/>
                  </a:lnTo>
                  <a:lnTo>
                    <a:pt x="179692" y="6298"/>
                  </a:lnTo>
                  <a:lnTo>
                    <a:pt x="178871" y="4199"/>
                  </a:lnTo>
                  <a:lnTo>
                    <a:pt x="177333" y="3791"/>
                  </a:lnTo>
                  <a:lnTo>
                    <a:pt x="175313" y="4512"/>
                  </a:lnTo>
                  <a:lnTo>
                    <a:pt x="172976" y="5984"/>
                  </a:lnTo>
                  <a:lnTo>
                    <a:pt x="167733" y="7620"/>
                  </a:lnTo>
                  <a:lnTo>
                    <a:pt x="159203" y="8541"/>
                  </a:lnTo>
                  <a:lnTo>
                    <a:pt x="156282" y="8671"/>
                  </a:lnTo>
                  <a:lnTo>
                    <a:pt x="153343" y="9749"/>
                  </a:lnTo>
                  <a:lnTo>
                    <a:pt x="147432" y="13593"/>
                  </a:lnTo>
                  <a:lnTo>
                    <a:pt x="138526" y="21335"/>
                  </a:lnTo>
                  <a:lnTo>
                    <a:pt x="129932" y="27011"/>
                  </a:lnTo>
                  <a:lnTo>
                    <a:pt x="120490" y="32841"/>
                  </a:lnTo>
                  <a:lnTo>
                    <a:pt x="112986" y="38739"/>
                  </a:lnTo>
                  <a:lnTo>
                    <a:pt x="103184" y="47638"/>
                  </a:lnTo>
                  <a:lnTo>
                    <a:pt x="93995" y="56558"/>
                  </a:lnTo>
                  <a:lnTo>
                    <a:pt x="87981" y="65155"/>
                  </a:lnTo>
                  <a:lnTo>
                    <a:pt x="82002" y="74598"/>
                  </a:lnTo>
                  <a:lnTo>
                    <a:pt x="72065" y="87477"/>
                  </a:lnTo>
                  <a:lnTo>
                    <a:pt x="62360" y="101387"/>
                  </a:lnTo>
                  <a:lnTo>
                    <a:pt x="54078" y="112199"/>
                  </a:lnTo>
                  <a:lnTo>
                    <a:pt x="47089" y="121303"/>
                  </a:lnTo>
                  <a:lnTo>
                    <a:pt x="40676" y="131965"/>
                  </a:lnTo>
                  <a:lnTo>
                    <a:pt x="34518" y="143317"/>
                  </a:lnTo>
                  <a:lnTo>
                    <a:pt x="22481" y="166775"/>
                  </a:lnTo>
                  <a:lnTo>
                    <a:pt x="19155" y="178632"/>
                  </a:lnTo>
                  <a:lnTo>
                    <a:pt x="16686" y="190517"/>
                  </a:lnTo>
                  <a:lnTo>
                    <a:pt x="12281" y="202414"/>
                  </a:lnTo>
                  <a:lnTo>
                    <a:pt x="9661" y="214316"/>
                  </a:lnTo>
                  <a:lnTo>
                    <a:pt x="7505" y="226220"/>
                  </a:lnTo>
                  <a:lnTo>
                    <a:pt x="3239" y="238125"/>
                  </a:lnTo>
                  <a:lnTo>
                    <a:pt x="682" y="250031"/>
                  </a:lnTo>
                  <a:lnTo>
                    <a:pt x="0" y="255984"/>
                  </a:lnTo>
                  <a:lnTo>
                    <a:pt x="1888" y="267891"/>
                  </a:lnTo>
                  <a:lnTo>
                    <a:pt x="5042" y="279797"/>
                  </a:lnTo>
                  <a:lnTo>
                    <a:pt x="6445" y="291703"/>
                  </a:lnTo>
                  <a:lnTo>
                    <a:pt x="7067" y="303609"/>
                  </a:lnTo>
                  <a:lnTo>
                    <a:pt x="7418" y="318823"/>
                  </a:lnTo>
                  <a:lnTo>
                    <a:pt x="7468" y="322681"/>
                  </a:lnTo>
                  <a:lnTo>
                    <a:pt x="9485" y="330215"/>
                  </a:lnTo>
                  <a:lnTo>
                    <a:pt x="12814" y="340198"/>
                  </a:lnTo>
                  <a:lnTo>
                    <a:pt x="17018" y="351814"/>
                  </a:lnTo>
                  <a:lnTo>
                    <a:pt x="20813" y="360550"/>
                  </a:lnTo>
                  <a:lnTo>
                    <a:pt x="27674" y="372903"/>
                  </a:lnTo>
                  <a:lnTo>
                    <a:pt x="36678" y="381701"/>
                  </a:lnTo>
                  <a:lnTo>
                    <a:pt x="46301" y="388918"/>
                  </a:lnTo>
                  <a:lnTo>
                    <a:pt x="53887" y="395433"/>
                  </a:lnTo>
                  <a:lnTo>
                    <a:pt x="63209" y="401636"/>
                  </a:lnTo>
                  <a:lnTo>
                    <a:pt x="72977" y="406708"/>
                  </a:lnTo>
                  <a:lnTo>
                    <a:pt x="80625" y="408962"/>
                  </a:lnTo>
                  <a:lnTo>
                    <a:pt x="90508" y="410231"/>
                  </a:lnTo>
                  <a:lnTo>
                    <a:pt x="99330" y="413174"/>
                  </a:lnTo>
                  <a:lnTo>
                    <a:pt x="104461" y="415347"/>
                  </a:lnTo>
                  <a:lnTo>
                    <a:pt x="109865" y="416797"/>
                  </a:lnTo>
                  <a:lnTo>
                    <a:pt x="115454" y="417763"/>
                  </a:lnTo>
                  <a:lnTo>
                    <a:pt x="121162" y="418407"/>
                  </a:lnTo>
                  <a:lnTo>
                    <a:pt x="130153" y="419122"/>
                  </a:lnTo>
                  <a:lnTo>
                    <a:pt x="133938" y="419313"/>
                  </a:lnTo>
                  <a:lnTo>
                    <a:pt x="143438" y="416880"/>
                  </a:lnTo>
                  <a:lnTo>
                    <a:pt x="148748" y="414842"/>
                  </a:lnTo>
                  <a:lnTo>
                    <a:pt x="154274" y="413483"/>
                  </a:lnTo>
                  <a:lnTo>
                    <a:pt x="159941" y="412577"/>
                  </a:lnTo>
                  <a:lnTo>
                    <a:pt x="165705" y="411973"/>
                  </a:lnTo>
                  <a:lnTo>
                    <a:pt x="171531" y="411571"/>
                  </a:lnTo>
                  <a:lnTo>
                    <a:pt x="177399" y="411302"/>
                  </a:lnTo>
                  <a:lnTo>
                    <a:pt x="183296" y="411123"/>
                  </a:lnTo>
                  <a:lnTo>
                    <a:pt x="188220" y="410012"/>
                  </a:lnTo>
                  <a:lnTo>
                    <a:pt x="196336" y="406131"/>
                  </a:lnTo>
                  <a:lnTo>
                    <a:pt x="205897" y="403745"/>
                  </a:lnTo>
                  <a:lnTo>
                    <a:pt x="211224" y="403108"/>
                  </a:lnTo>
                  <a:lnTo>
                    <a:pt x="219789" y="399756"/>
                  </a:lnTo>
                  <a:lnTo>
                    <a:pt x="226903" y="394958"/>
                  </a:lnTo>
                  <a:lnTo>
                    <a:pt x="236486" y="386679"/>
                  </a:lnTo>
                  <a:lnTo>
                    <a:pt x="245610" y="377942"/>
                  </a:lnTo>
                  <a:lnTo>
                    <a:pt x="287363" y="336351"/>
                  </a:lnTo>
                  <a:lnTo>
                    <a:pt x="289348" y="333374"/>
                  </a:lnTo>
                  <a:lnTo>
                    <a:pt x="295178" y="318823"/>
                  </a:lnTo>
                  <a:lnTo>
                    <a:pt x="300097" y="309378"/>
                  </a:lnTo>
                  <a:lnTo>
                    <a:pt x="307452" y="298484"/>
                  </a:lnTo>
                  <a:lnTo>
                    <a:pt x="311065" y="288971"/>
                  </a:lnTo>
                  <a:lnTo>
                    <a:pt x="315426" y="282882"/>
                  </a:lnTo>
                  <a:lnTo>
                    <a:pt x="316986" y="278877"/>
                  </a:lnTo>
                  <a:lnTo>
                    <a:pt x="318719" y="269136"/>
                  </a:lnTo>
                  <a:lnTo>
                    <a:pt x="319694" y="257235"/>
                  </a:lnTo>
                  <a:lnTo>
                    <a:pt x="320824" y="253841"/>
                  </a:lnTo>
                  <a:lnTo>
                    <a:pt x="324724" y="247425"/>
                  </a:lnTo>
                  <a:lnTo>
                    <a:pt x="327119" y="238620"/>
                  </a:lnTo>
                  <a:lnTo>
                    <a:pt x="328184" y="229085"/>
                  </a:lnTo>
                  <a:lnTo>
                    <a:pt x="328783" y="217146"/>
                  </a:lnTo>
                  <a:lnTo>
                    <a:pt x="328985" y="195837"/>
                  </a:lnTo>
                  <a:lnTo>
                    <a:pt x="329034" y="150213"/>
                  </a:lnTo>
                  <a:lnTo>
                    <a:pt x="326389" y="140845"/>
                  </a:lnTo>
                  <a:lnTo>
                    <a:pt x="322898" y="131059"/>
                  </a:lnTo>
                  <a:lnTo>
                    <a:pt x="319940" y="118979"/>
                  </a:lnTo>
                  <a:lnTo>
                    <a:pt x="315733" y="108772"/>
                  </a:lnTo>
                  <a:lnTo>
                    <a:pt x="311084" y="92188"/>
                  </a:lnTo>
                  <a:lnTo>
                    <a:pt x="306836" y="81983"/>
                  </a:lnTo>
                  <a:lnTo>
                    <a:pt x="298865" y="69821"/>
                  </a:lnTo>
                  <a:lnTo>
                    <a:pt x="297016" y="65399"/>
                  </a:lnTo>
                  <a:lnTo>
                    <a:pt x="294961" y="55194"/>
                  </a:lnTo>
                  <a:lnTo>
                    <a:pt x="291402" y="46689"/>
                  </a:lnTo>
                  <a:lnTo>
                    <a:pt x="283820" y="36323"/>
                  </a:lnTo>
                  <a:lnTo>
                    <a:pt x="24866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SMARTInkAnnotation31"/>
            <p:cNvSpPr/>
            <p:nvPr/>
          </p:nvSpPr>
          <p:spPr>
            <a:xfrm>
              <a:off x="6813000" y="1375560"/>
              <a:ext cx="34200" cy="3747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34369" h="375048">
                  <a:moveTo>
                    <a:pt x="17859" y="0"/>
                  </a:moveTo>
                  <a:lnTo>
                    <a:pt x="17859" y="46497"/>
                  </a:lnTo>
                  <a:lnTo>
                    <a:pt x="18851" y="50842"/>
                  </a:lnTo>
                  <a:lnTo>
                    <a:pt x="20505" y="55722"/>
                  </a:lnTo>
                  <a:lnTo>
                    <a:pt x="22599" y="60961"/>
                  </a:lnTo>
                  <a:lnTo>
                    <a:pt x="23997" y="67429"/>
                  </a:lnTo>
                  <a:lnTo>
                    <a:pt x="24927" y="74718"/>
                  </a:lnTo>
                  <a:lnTo>
                    <a:pt x="25548" y="82555"/>
                  </a:lnTo>
                  <a:lnTo>
                    <a:pt x="26954" y="89763"/>
                  </a:lnTo>
                  <a:lnTo>
                    <a:pt x="28883" y="96553"/>
                  </a:lnTo>
                  <a:lnTo>
                    <a:pt x="31161" y="103064"/>
                  </a:lnTo>
                  <a:lnTo>
                    <a:pt x="32680" y="110381"/>
                  </a:lnTo>
                  <a:lnTo>
                    <a:pt x="33694" y="118236"/>
                  </a:lnTo>
                  <a:lnTo>
                    <a:pt x="34368" y="126449"/>
                  </a:lnTo>
                  <a:lnTo>
                    <a:pt x="33826" y="133909"/>
                  </a:lnTo>
                  <a:lnTo>
                    <a:pt x="32473" y="140866"/>
                  </a:lnTo>
                  <a:lnTo>
                    <a:pt x="30578" y="147489"/>
                  </a:lnTo>
                  <a:lnTo>
                    <a:pt x="29315" y="154881"/>
                  </a:lnTo>
                  <a:lnTo>
                    <a:pt x="28472" y="162785"/>
                  </a:lnTo>
                  <a:lnTo>
                    <a:pt x="27912" y="171031"/>
                  </a:lnTo>
                  <a:lnTo>
                    <a:pt x="27537" y="179505"/>
                  </a:lnTo>
                  <a:lnTo>
                    <a:pt x="27121" y="196858"/>
                  </a:lnTo>
                  <a:lnTo>
                    <a:pt x="26019" y="205653"/>
                  </a:lnTo>
                  <a:lnTo>
                    <a:pt x="24291" y="214492"/>
                  </a:lnTo>
                  <a:lnTo>
                    <a:pt x="22147" y="223362"/>
                  </a:lnTo>
                  <a:lnTo>
                    <a:pt x="20718" y="232252"/>
                  </a:lnTo>
                  <a:lnTo>
                    <a:pt x="19765" y="241155"/>
                  </a:lnTo>
                  <a:lnTo>
                    <a:pt x="19129" y="250067"/>
                  </a:lnTo>
                  <a:lnTo>
                    <a:pt x="18705" y="257992"/>
                  </a:lnTo>
                  <a:lnTo>
                    <a:pt x="18236" y="272090"/>
                  </a:lnTo>
                  <a:lnTo>
                    <a:pt x="17118" y="279620"/>
                  </a:lnTo>
                  <a:lnTo>
                    <a:pt x="15381" y="287616"/>
                  </a:lnTo>
                  <a:lnTo>
                    <a:pt x="13230" y="295924"/>
                  </a:lnTo>
                  <a:lnTo>
                    <a:pt x="11797" y="303447"/>
                  </a:lnTo>
                  <a:lnTo>
                    <a:pt x="10841" y="310446"/>
                  </a:lnTo>
                  <a:lnTo>
                    <a:pt x="10204" y="317097"/>
                  </a:lnTo>
                  <a:lnTo>
                    <a:pt x="9495" y="327132"/>
                  </a:lnTo>
                  <a:lnTo>
                    <a:pt x="9181" y="335892"/>
                  </a:lnTo>
                  <a:lnTo>
                    <a:pt x="8963" y="358732"/>
                  </a:lnTo>
                  <a:lnTo>
                    <a:pt x="7960" y="362186"/>
                  </a:lnTo>
                  <a:lnTo>
                    <a:pt x="6298" y="365480"/>
                  </a:lnTo>
                  <a:lnTo>
                    <a:pt x="0" y="3750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SMARTInkAnnotation32"/>
            <p:cNvSpPr/>
            <p:nvPr/>
          </p:nvSpPr>
          <p:spPr>
            <a:xfrm>
              <a:off x="6840000" y="1545120"/>
              <a:ext cx="214200" cy="176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14313" h="17860">
                  <a:moveTo>
                    <a:pt x="0" y="17859"/>
                  </a:moveTo>
                  <a:lnTo>
                    <a:pt x="14220" y="13119"/>
                  </a:lnTo>
                  <a:lnTo>
                    <a:pt x="20395" y="11722"/>
                  </a:lnTo>
                  <a:lnTo>
                    <a:pt x="26495" y="10791"/>
                  </a:lnTo>
                  <a:lnTo>
                    <a:pt x="32546" y="10171"/>
                  </a:lnTo>
                  <a:lnTo>
                    <a:pt x="37573" y="9757"/>
                  </a:lnTo>
                  <a:lnTo>
                    <a:pt x="41915" y="9481"/>
                  </a:lnTo>
                  <a:lnTo>
                    <a:pt x="45802" y="9297"/>
                  </a:lnTo>
                  <a:lnTo>
                    <a:pt x="50379" y="10167"/>
                  </a:lnTo>
                  <a:lnTo>
                    <a:pt x="55414" y="11739"/>
                  </a:lnTo>
                  <a:lnTo>
                    <a:pt x="60756" y="13779"/>
                  </a:lnTo>
                  <a:lnTo>
                    <a:pt x="67292" y="14147"/>
                  </a:lnTo>
                  <a:lnTo>
                    <a:pt x="74627" y="13400"/>
                  </a:lnTo>
                  <a:lnTo>
                    <a:pt x="82494" y="11910"/>
                  </a:lnTo>
                  <a:lnTo>
                    <a:pt x="89722" y="10917"/>
                  </a:lnTo>
                  <a:lnTo>
                    <a:pt x="96526" y="10254"/>
                  </a:lnTo>
                  <a:lnTo>
                    <a:pt x="103046" y="9813"/>
                  </a:lnTo>
                  <a:lnTo>
                    <a:pt x="109377" y="9518"/>
                  </a:lnTo>
                  <a:lnTo>
                    <a:pt x="121702" y="9191"/>
                  </a:lnTo>
                  <a:lnTo>
                    <a:pt x="157728" y="8953"/>
                  </a:lnTo>
                  <a:lnTo>
                    <a:pt x="163691" y="7953"/>
                  </a:lnTo>
                  <a:lnTo>
                    <a:pt x="169651" y="6294"/>
                  </a:lnTo>
                  <a:lnTo>
                    <a:pt x="175608" y="4196"/>
                  </a:lnTo>
                  <a:lnTo>
                    <a:pt x="180572" y="2797"/>
                  </a:lnTo>
                  <a:lnTo>
                    <a:pt x="184874" y="1865"/>
                  </a:lnTo>
                  <a:lnTo>
                    <a:pt x="188733" y="1243"/>
                  </a:lnTo>
                  <a:lnTo>
                    <a:pt x="192298" y="829"/>
                  </a:lnTo>
                  <a:lnTo>
                    <a:pt x="198906" y="368"/>
                  </a:lnTo>
                  <a:lnTo>
                    <a:pt x="205151" y="164"/>
                  </a:lnTo>
                  <a:lnTo>
                    <a:pt x="21431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SMARTInkAnnotation33"/>
            <p:cNvSpPr/>
            <p:nvPr/>
          </p:nvSpPr>
          <p:spPr>
            <a:xfrm>
              <a:off x="7054200" y="1348560"/>
              <a:ext cx="26640" cy="3927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6790" h="392907">
                  <a:moveTo>
                    <a:pt x="26789" y="0"/>
                  </a:moveTo>
                  <a:lnTo>
                    <a:pt x="26789" y="96139"/>
                  </a:lnTo>
                  <a:lnTo>
                    <a:pt x="25797" y="101796"/>
                  </a:lnTo>
                  <a:lnTo>
                    <a:pt x="24144" y="107551"/>
                  </a:lnTo>
                  <a:lnTo>
                    <a:pt x="22048" y="113373"/>
                  </a:lnTo>
                  <a:lnTo>
                    <a:pt x="20652" y="119238"/>
                  </a:lnTo>
                  <a:lnTo>
                    <a:pt x="19721" y="125133"/>
                  </a:lnTo>
                  <a:lnTo>
                    <a:pt x="19101" y="131046"/>
                  </a:lnTo>
                  <a:lnTo>
                    <a:pt x="18411" y="142910"/>
                  </a:lnTo>
                  <a:lnTo>
                    <a:pt x="18104" y="154796"/>
                  </a:lnTo>
                  <a:lnTo>
                    <a:pt x="17969" y="166694"/>
                  </a:lnTo>
                  <a:lnTo>
                    <a:pt x="16940" y="172645"/>
                  </a:lnTo>
                  <a:lnTo>
                    <a:pt x="15263" y="178597"/>
                  </a:lnTo>
                  <a:lnTo>
                    <a:pt x="13151" y="184549"/>
                  </a:lnTo>
                  <a:lnTo>
                    <a:pt x="11744" y="190501"/>
                  </a:lnTo>
                  <a:lnTo>
                    <a:pt x="10806" y="196454"/>
                  </a:lnTo>
                  <a:lnTo>
                    <a:pt x="10180" y="202407"/>
                  </a:lnTo>
                  <a:lnTo>
                    <a:pt x="9486" y="214313"/>
                  </a:lnTo>
                  <a:lnTo>
                    <a:pt x="9177" y="226219"/>
                  </a:lnTo>
                  <a:lnTo>
                    <a:pt x="8931" y="296001"/>
                  </a:lnTo>
                  <a:lnTo>
                    <a:pt x="7938" y="300521"/>
                  </a:lnTo>
                  <a:lnTo>
                    <a:pt x="6284" y="305519"/>
                  </a:lnTo>
                  <a:lnTo>
                    <a:pt x="4189" y="310836"/>
                  </a:lnTo>
                  <a:lnTo>
                    <a:pt x="2793" y="315372"/>
                  </a:lnTo>
                  <a:lnTo>
                    <a:pt x="1863" y="319389"/>
                  </a:lnTo>
                  <a:lnTo>
                    <a:pt x="1242" y="323059"/>
                  </a:lnTo>
                  <a:lnTo>
                    <a:pt x="552" y="332428"/>
                  </a:lnTo>
                  <a:lnTo>
                    <a:pt x="245" y="342214"/>
                  </a:lnTo>
                  <a:lnTo>
                    <a:pt x="109" y="349871"/>
                  </a:lnTo>
                  <a:lnTo>
                    <a:pt x="1065" y="353302"/>
                  </a:lnTo>
                  <a:lnTo>
                    <a:pt x="2695" y="356582"/>
                  </a:lnTo>
                  <a:lnTo>
                    <a:pt x="7698" y="364233"/>
                  </a:lnTo>
                  <a:lnTo>
                    <a:pt x="8382" y="367926"/>
                  </a:lnTo>
                  <a:lnTo>
                    <a:pt x="8897" y="379370"/>
                  </a:lnTo>
                  <a:lnTo>
                    <a:pt x="7917" y="380906"/>
                  </a:lnTo>
                  <a:lnTo>
                    <a:pt x="6270" y="381929"/>
                  </a:lnTo>
                  <a:lnTo>
                    <a:pt x="368" y="383856"/>
                  </a:lnTo>
                  <a:lnTo>
                    <a:pt x="0" y="3929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SMARTInkAnnotation34"/>
            <p:cNvSpPr/>
            <p:nvPr/>
          </p:nvSpPr>
          <p:spPr>
            <a:xfrm>
              <a:off x="7242120" y="1563120"/>
              <a:ext cx="249840" cy="24984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249840"/>
                <a:gd name="textAreaBottom" fmla="*/ 250200 h 249840"/>
              </a:gdLst>
              <a:ahLst/>
              <a:rect l="textAreaLeft" t="textAreaTop" r="textAreaRight" b="textAreaBottom"/>
              <a:pathLst>
                <a:path w="249909" h="249996">
                  <a:moveTo>
                    <a:pt x="17736" y="8927"/>
                  </a:moveTo>
                  <a:lnTo>
                    <a:pt x="26297" y="365"/>
                  </a:lnTo>
                  <a:lnTo>
                    <a:pt x="33722" y="70"/>
                  </a:lnTo>
                  <a:lnTo>
                    <a:pt x="61215" y="0"/>
                  </a:lnTo>
                  <a:lnTo>
                    <a:pt x="65573" y="991"/>
                  </a:lnTo>
                  <a:lnTo>
                    <a:pt x="76448" y="6135"/>
                  </a:lnTo>
                  <a:lnTo>
                    <a:pt x="82856" y="7686"/>
                  </a:lnTo>
                  <a:lnTo>
                    <a:pt x="86946" y="9092"/>
                  </a:lnTo>
                  <a:lnTo>
                    <a:pt x="91658" y="11022"/>
                  </a:lnTo>
                  <a:lnTo>
                    <a:pt x="96783" y="13300"/>
                  </a:lnTo>
                  <a:lnTo>
                    <a:pt x="101192" y="14819"/>
                  </a:lnTo>
                  <a:lnTo>
                    <a:pt x="108736" y="16507"/>
                  </a:lnTo>
                  <a:lnTo>
                    <a:pt x="115397" y="19902"/>
                  </a:lnTo>
                  <a:lnTo>
                    <a:pt x="122656" y="24719"/>
                  </a:lnTo>
                  <a:lnTo>
                    <a:pt x="127370" y="27393"/>
                  </a:lnTo>
                  <a:lnTo>
                    <a:pt x="132497" y="30167"/>
                  </a:lnTo>
                  <a:lnTo>
                    <a:pt x="136908" y="33009"/>
                  </a:lnTo>
                  <a:lnTo>
                    <a:pt x="144454" y="38813"/>
                  </a:lnTo>
                  <a:lnTo>
                    <a:pt x="146862" y="42741"/>
                  </a:lnTo>
                  <a:lnTo>
                    <a:pt x="148468" y="47345"/>
                  </a:lnTo>
                  <a:lnTo>
                    <a:pt x="149540" y="52399"/>
                  </a:lnTo>
                  <a:lnTo>
                    <a:pt x="151246" y="56760"/>
                  </a:lnTo>
                  <a:lnTo>
                    <a:pt x="155788" y="64251"/>
                  </a:lnTo>
                  <a:lnTo>
                    <a:pt x="158387" y="68630"/>
                  </a:lnTo>
                  <a:lnTo>
                    <a:pt x="161113" y="73534"/>
                  </a:lnTo>
                  <a:lnTo>
                    <a:pt x="166787" y="84274"/>
                  </a:lnTo>
                  <a:lnTo>
                    <a:pt x="172616" y="95662"/>
                  </a:lnTo>
                  <a:lnTo>
                    <a:pt x="174568" y="101477"/>
                  </a:lnTo>
                  <a:lnTo>
                    <a:pt x="175869" y="107338"/>
                  </a:lnTo>
                  <a:lnTo>
                    <a:pt x="176736" y="113230"/>
                  </a:lnTo>
                  <a:lnTo>
                    <a:pt x="177314" y="118150"/>
                  </a:lnTo>
                  <a:lnTo>
                    <a:pt x="177699" y="122422"/>
                  </a:lnTo>
                  <a:lnTo>
                    <a:pt x="177956" y="126262"/>
                  </a:lnTo>
                  <a:lnTo>
                    <a:pt x="178128" y="130807"/>
                  </a:lnTo>
                  <a:lnTo>
                    <a:pt x="178369" y="146684"/>
                  </a:lnTo>
                  <a:lnTo>
                    <a:pt x="178426" y="158126"/>
                  </a:lnTo>
                  <a:lnTo>
                    <a:pt x="177448" y="162963"/>
                  </a:lnTo>
                  <a:lnTo>
                    <a:pt x="175805" y="167180"/>
                  </a:lnTo>
                  <a:lnTo>
                    <a:pt x="173717" y="170984"/>
                  </a:lnTo>
                  <a:lnTo>
                    <a:pt x="166038" y="185818"/>
                  </a:lnTo>
                  <a:lnTo>
                    <a:pt x="163236" y="190354"/>
                  </a:lnTo>
                  <a:lnTo>
                    <a:pt x="157479" y="198041"/>
                  </a:lnTo>
                  <a:lnTo>
                    <a:pt x="151612" y="204764"/>
                  </a:lnTo>
                  <a:lnTo>
                    <a:pt x="145697" y="211059"/>
                  </a:lnTo>
                  <a:lnTo>
                    <a:pt x="130841" y="226180"/>
                  </a:lnTo>
                  <a:lnTo>
                    <a:pt x="126873" y="229168"/>
                  </a:lnTo>
                  <a:lnTo>
                    <a:pt x="122244" y="232153"/>
                  </a:lnTo>
                  <a:lnTo>
                    <a:pt x="117174" y="235135"/>
                  </a:lnTo>
                  <a:lnTo>
                    <a:pt x="112801" y="237123"/>
                  </a:lnTo>
                  <a:lnTo>
                    <a:pt x="105297" y="239332"/>
                  </a:lnTo>
                  <a:lnTo>
                    <a:pt x="100915" y="239921"/>
                  </a:lnTo>
                  <a:lnTo>
                    <a:pt x="96009" y="240314"/>
                  </a:lnTo>
                  <a:lnTo>
                    <a:pt x="90753" y="240575"/>
                  </a:lnTo>
                  <a:lnTo>
                    <a:pt x="86258" y="241742"/>
                  </a:lnTo>
                  <a:lnTo>
                    <a:pt x="78617" y="245684"/>
                  </a:lnTo>
                  <a:lnTo>
                    <a:pt x="74198" y="247132"/>
                  </a:lnTo>
                  <a:lnTo>
                    <a:pt x="69268" y="248097"/>
                  </a:lnTo>
                  <a:lnTo>
                    <a:pt x="63997" y="248741"/>
                  </a:lnTo>
                  <a:lnTo>
                    <a:pt x="58499" y="249170"/>
                  </a:lnTo>
                  <a:lnTo>
                    <a:pt x="52849" y="249456"/>
                  </a:lnTo>
                  <a:lnTo>
                    <a:pt x="38061" y="249859"/>
                  </a:lnTo>
                  <a:lnTo>
                    <a:pt x="24176" y="249995"/>
                  </a:lnTo>
                  <a:lnTo>
                    <a:pt x="21037" y="249014"/>
                  </a:lnTo>
                  <a:lnTo>
                    <a:pt x="14904" y="245278"/>
                  </a:lnTo>
                  <a:lnTo>
                    <a:pt x="9019" y="240932"/>
                  </a:lnTo>
                  <a:lnTo>
                    <a:pt x="4601" y="236725"/>
                  </a:lnTo>
                  <a:lnTo>
                    <a:pt x="3026" y="234214"/>
                  </a:lnTo>
                  <a:lnTo>
                    <a:pt x="810" y="226932"/>
                  </a:lnTo>
                  <a:lnTo>
                    <a:pt x="290" y="224881"/>
                  </a:lnTo>
                  <a:lnTo>
                    <a:pt x="0" y="218985"/>
                  </a:lnTo>
                  <a:lnTo>
                    <a:pt x="951" y="216434"/>
                  </a:lnTo>
                  <a:lnTo>
                    <a:pt x="6037" y="209096"/>
                  </a:lnTo>
                  <a:lnTo>
                    <a:pt x="10905" y="203468"/>
                  </a:lnTo>
                  <a:lnTo>
                    <a:pt x="29765" y="184432"/>
                  </a:lnTo>
                  <a:lnTo>
                    <a:pt x="32700" y="182485"/>
                  </a:lnTo>
                  <a:lnTo>
                    <a:pt x="38608" y="180322"/>
                  </a:lnTo>
                  <a:lnTo>
                    <a:pt x="44541" y="179360"/>
                  </a:lnTo>
                  <a:lnTo>
                    <a:pt x="51478" y="178933"/>
                  </a:lnTo>
                  <a:lnTo>
                    <a:pt x="61175" y="178743"/>
                  </a:lnTo>
                  <a:lnTo>
                    <a:pt x="131030" y="178595"/>
                  </a:lnTo>
                  <a:lnTo>
                    <a:pt x="135929" y="179586"/>
                  </a:lnTo>
                  <a:lnTo>
                    <a:pt x="140187" y="181239"/>
                  </a:lnTo>
                  <a:lnTo>
                    <a:pt x="144019" y="183333"/>
                  </a:lnTo>
                  <a:lnTo>
                    <a:pt x="148557" y="184728"/>
                  </a:lnTo>
                  <a:lnTo>
                    <a:pt x="153567" y="185659"/>
                  </a:lnTo>
                  <a:lnTo>
                    <a:pt x="158892" y="186280"/>
                  </a:lnTo>
                  <a:lnTo>
                    <a:pt x="163434" y="187685"/>
                  </a:lnTo>
                  <a:lnTo>
                    <a:pt x="171126" y="191894"/>
                  </a:lnTo>
                  <a:lnTo>
                    <a:pt x="177852" y="197071"/>
                  </a:lnTo>
                  <a:lnTo>
                    <a:pt x="181035" y="199841"/>
                  </a:lnTo>
                  <a:lnTo>
                    <a:pt x="184149" y="201687"/>
                  </a:lnTo>
                  <a:lnTo>
                    <a:pt x="190254" y="203739"/>
                  </a:lnTo>
                  <a:lnTo>
                    <a:pt x="196275" y="207296"/>
                  </a:lnTo>
                  <a:lnTo>
                    <a:pt x="199270" y="209634"/>
                  </a:lnTo>
                  <a:lnTo>
                    <a:pt x="205244" y="212232"/>
                  </a:lnTo>
                  <a:lnTo>
                    <a:pt x="208225" y="212925"/>
                  </a:lnTo>
                  <a:lnTo>
                    <a:pt x="214184" y="216340"/>
                  </a:lnTo>
                  <a:lnTo>
                    <a:pt x="217163" y="218639"/>
                  </a:lnTo>
                  <a:lnTo>
                    <a:pt x="223118" y="221195"/>
                  </a:lnTo>
                  <a:lnTo>
                    <a:pt x="226094" y="221876"/>
                  </a:lnTo>
                  <a:lnTo>
                    <a:pt x="232048" y="225280"/>
                  </a:lnTo>
                  <a:lnTo>
                    <a:pt x="239214" y="230808"/>
                  </a:lnTo>
                  <a:lnTo>
                    <a:pt x="242840" y="231564"/>
                  </a:lnTo>
                  <a:lnTo>
                    <a:pt x="249908" y="2321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MARTInkAnnotation35"/>
            <p:cNvSpPr/>
            <p:nvPr/>
          </p:nvSpPr>
          <p:spPr>
            <a:xfrm>
              <a:off x="7573680" y="1339920"/>
              <a:ext cx="355680" cy="3834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355792" h="383596">
                  <a:moveTo>
                    <a:pt x="212917" y="8930"/>
                  </a:moveTo>
                  <a:lnTo>
                    <a:pt x="208176" y="4189"/>
                  </a:lnTo>
                  <a:lnTo>
                    <a:pt x="205787" y="2793"/>
                  </a:lnTo>
                  <a:lnTo>
                    <a:pt x="200488" y="1241"/>
                  </a:lnTo>
                  <a:lnTo>
                    <a:pt x="197686" y="1820"/>
                  </a:lnTo>
                  <a:lnTo>
                    <a:pt x="189001" y="6382"/>
                  </a:lnTo>
                  <a:lnTo>
                    <a:pt x="183105" y="7797"/>
                  </a:lnTo>
                  <a:lnTo>
                    <a:pt x="174207" y="8594"/>
                  </a:lnTo>
                  <a:lnTo>
                    <a:pt x="171235" y="9698"/>
                  </a:lnTo>
                  <a:lnTo>
                    <a:pt x="162313" y="15000"/>
                  </a:lnTo>
                  <a:lnTo>
                    <a:pt x="152392" y="18005"/>
                  </a:lnTo>
                  <a:lnTo>
                    <a:pt x="142692" y="22224"/>
                  </a:lnTo>
                  <a:lnTo>
                    <a:pt x="134411" y="27406"/>
                  </a:lnTo>
                  <a:lnTo>
                    <a:pt x="130814" y="30177"/>
                  </a:lnTo>
                  <a:lnTo>
                    <a:pt x="124171" y="38547"/>
                  </a:lnTo>
                  <a:lnTo>
                    <a:pt x="121011" y="43558"/>
                  </a:lnTo>
                  <a:lnTo>
                    <a:pt x="112208" y="51771"/>
                  </a:lnTo>
                  <a:lnTo>
                    <a:pt x="107082" y="55349"/>
                  </a:lnTo>
                  <a:lnTo>
                    <a:pt x="98741" y="64618"/>
                  </a:lnTo>
                  <a:lnTo>
                    <a:pt x="90734" y="75352"/>
                  </a:lnTo>
                  <a:lnTo>
                    <a:pt x="80561" y="86737"/>
                  </a:lnTo>
                  <a:lnTo>
                    <a:pt x="72071" y="95766"/>
                  </a:lnTo>
                  <a:lnTo>
                    <a:pt x="68418" y="99563"/>
                  </a:lnTo>
                  <a:lnTo>
                    <a:pt x="64990" y="105070"/>
                  </a:lnTo>
                  <a:lnTo>
                    <a:pt x="61713" y="111719"/>
                  </a:lnTo>
                  <a:lnTo>
                    <a:pt x="58536" y="119128"/>
                  </a:lnTo>
                  <a:lnTo>
                    <a:pt x="52360" y="130006"/>
                  </a:lnTo>
                  <a:lnTo>
                    <a:pt x="46308" y="140132"/>
                  </a:lnTo>
                  <a:lnTo>
                    <a:pt x="43304" y="146999"/>
                  </a:lnTo>
                  <a:lnTo>
                    <a:pt x="40311" y="154554"/>
                  </a:lnTo>
                  <a:lnTo>
                    <a:pt x="37323" y="161575"/>
                  </a:lnTo>
                  <a:lnTo>
                    <a:pt x="31357" y="174668"/>
                  </a:lnTo>
                  <a:lnTo>
                    <a:pt x="19441" y="199242"/>
                  </a:lnTo>
                  <a:lnTo>
                    <a:pt x="13488" y="211253"/>
                  </a:lnTo>
                  <a:lnTo>
                    <a:pt x="11503" y="218226"/>
                  </a:lnTo>
                  <a:lnTo>
                    <a:pt x="10180" y="225851"/>
                  </a:lnTo>
                  <a:lnTo>
                    <a:pt x="9298" y="233911"/>
                  </a:lnTo>
                  <a:lnTo>
                    <a:pt x="7717" y="241269"/>
                  </a:lnTo>
                  <a:lnTo>
                    <a:pt x="5672" y="248158"/>
                  </a:lnTo>
                  <a:lnTo>
                    <a:pt x="3315" y="254736"/>
                  </a:lnTo>
                  <a:lnTo>
                    <a:pt x="1745" y="261105"/>
                  </a:lnTo>
                  <a:lnTo>
                    <a:pt x="698" y="267336"/>
                  </a:lnTo>
                  <a:lnTo>
                    <a:pt x="0" y="273474"/>
                  </a:lnTo>
                  <a:lnTo>
                    <a:pt x="527" y="278558"/>
                  </a:lnTo>
                  <a:lnTo>
                    <a:pt x="1870" y="282940"/>
                  </a:lnTo>
                  <a:lnTo>
                    <a:pt x="19631" y="318850"/>
                  </a:lnTo>
                  <a:lnTo>
                    <a:pt x="22833" y="327912"/>
                  </a:lnTo>
                  <a:lnTo>
                    <a:pt x="23685" y="331717"/>
                  </a:lnTo>
                  <a:lnTo>
                    <a:pt x="27280" y="338591"/>
                  </a:lnTo>
                  <a:lnTo>
                    <a:pt x="29628" y="341814"/>
                  </a:lnTo>
                  <a:lnTo>
                    <a:pt x="37527" y="348040"/>
                  </a:lnTo>
                  <a:lnTo>
                    <a:pt x="46662" y="354114"/>
                  </a:lnTo>
                  <a:lnTo>
                    <a:pt x="54029" y="360121"/>
                  </a:lnTo>
                  <a:lnTo>
                    <a:pt x="63255" y="366098"/>
                  </a:lnTo>
                  <a:lnTo>
                    <a:pt x="72979" y="371070"/>
                  </a:lnTo>
                  <a:lnTo>
                    <a:pt x="80607" y="373279"/>
                  </a:lnTo>
                  <a:lnTo>
                    <a:pt x="89951" y="374261"/>
                  </a:lnTo>
                  <a:lnTo>
                    <a:pt x="95221" y="374523"/>
                  </a:lnTo>
                  <a:lnTo>
                    <a:pt x="100718" y="375690"/>
                  </a:lnTo>
                  <a:lnTo>
                    <a:pt x="106368" y="377460"/>
                  </a:lnTo>
                  <a:lnTo>
                    <a:pt x="112118" y="379632"/>
                  </a:lnTo>
                  <a:lnTo>
                    <a:pt x="117936" y="381080"/>
                  </a:lnTo>
                  <a:lnTo>
                    <a:pt x="123799" y="382046"/>
                  </a:lnTo>
                  <a:lnTo>
                    <a:pt x="129692" y="382690"/>
                  </a:lnTo>
                  <a:lnTo>
                    <a:pt x="135606" y="383119"/>
                  </a:lnTo>
                  <a:lnTo>
                    <a:pt x="141532" y="383405"/>
                  </a:lnTo>
                  <a:lnTo>
                    <a:pt x="147467" y="383595"/>
                  </a:lnTo>
                  <a:lnTo>
                    <a:pt x="154401" y="382730"/>
                  </a:lnTo>
                  <a:lnTo>
                    <a:pt x="161999" y="381161"/>
                  </a:lnTo>
                  <a:lnTo>
                    <a:pt x="170042" y="379123"/>
                  </a:lnTo>
                  <a:lnTo>
                    <a:pt x="177388" y="377764"/>
                  </a:lnTo>
                  <a:lnTo>
                    <a:pt x="184271" y="376859"/>
                  </a:lnTo>
                  <a:lnTo>
                    <a:pt x="190843" y="376255"/>
                  </a:lnTo>
                  <a:lnTo>
                    <a:pt x="197208" y="374860"/>
                  </a:lnTo>
                  <a:lnTo>
                    <a:pt x="203436" y="372938"/>
                  </a:lnTo>
                  <a:lnTo>
                    <a:pt x="209573" y="370664"/>
                  </a:lnTo>
                  <a:lnTo>
                    <a:pt x="219037" y="365493"/>
                  </a:lnTo>
                  <a:lnTo>
                    <a:pt x="227544" y="359886"/>
                  </a:lnTo>
                  <a:lnTo>
                    <a:pt x="237938" y="354087"/>
                  </a:lnTo>
                  <a:lnTo>
                    <a:pt x="254947" y="345245"/>
                  </a:lnTo>
                  <a:lnTo>
                    <a:pt x="264009" y="339312"/>
                  </a:lnTo>
                  <a:lnTo>
                    <a:pt x="267814" y="336341"/>
                  </a:lnTo>
                  <a:lnTo>
                    <a:pt x="274687" y="327748"/>
                  </a:lnTo>
                  <a:lnTo>
                    <a:pt x="277909" y="322678"/>
                  </a:lnTo>
                  <a:lnTo>
                    <a:pt x="286782" y="314400"/>
                  </a:lnTo>
                  <a:lnTo>
                    <a:pt x="291926" y="310803"/>
                  </a:lnTo>
                  <a:lnTo>
                    <a:pt x="300287" y="301515"/>
                  </a:lnTo>
                  <a:lnTo>
                    <a:pt x="307311" y="290772"/>
                  </a:lnTo>
                  <a:lnTo>
                    <a:pt x="332417" y="247594"/>
                  </a:lnTo>
                  <a:lnTo>
                    <a:pt x="337233" y="237492"/>
                  </a:lnTo>
                  <a:lnTo>
                    <a:pt x="340443" y="228773"/>
                  </a:lnTo>
                  <a:lnTo>
                    <a:pt x="342583" y="220977"/>
                  </a:lnTo>
                  <a:lnTo>
                    <a:pt x="345001" y="213794"/>
                  </a:lnTo>
                  <a:lnTo>
                    <a:pt x="347606" y="207022"/>
                  </a:lnTo>
                  <a:lnTo>
                    <a:pt x="350334" y="200522"/>
                  </a:lnTo>
                  <a:lnTo>
                    <a:pt x="352153" y="194205"/>
                  </a:lnTo>
                  <a:lnTo>
                    <a:pt x="353366" y="188009"/>
                  </a:lnTo>
                  <a:lnTo>
                    <a:pt x="354713" y="176825"/>
                  </a:lnTo>
                  <a:lnTo>
                    <a:pt x="355312" y="168547"/>
                  </a:lnTo>
                  <a:lnTo>
                    <a:pt x="355578" y="158915"/>
                  </a:lnTo>
                  <a:lnTo>
                    <a:pt x="355791" y="88075"/>
                  </a:lnTo>
                  <a:lnTo>
                    <a:pt x="353146" y="78501"/>
                  </a:lnTo>
                  <a:lnTo>
                    <a:pt x="348662" y="68624"/>
                  </a:lnTo>
                  <a:lnTo>
                    <a:pt x="340561" y="56493"/>
                  </a:lnTo>
                  <a:lnTo>
                    <a:pt x="334801" y="46274"/>
                  </a:lnTo>
                  <a:lnTo>
                    <a:pt x="331580" y="37765"/>
                  </a:lnTo>
                  <a:lnTo>
                    <a:pt x="330721" y="34106"/>
                  </a:lnTo>
                  <a:lnTo>
                    <a:pt x="328164" y="30675"/>
                  </a:lnTo>
                  <a:lnTo>
                    <a:pt x="320031" y="24217"/>
                  </a:lnTo>
                  <a:lnTo>
                    <a:pt x="312448" y="20685"/>
                  </a:lnTo>
                  <a:lnTo>
                    <a:pt x="309036" y="19743"/>
                  </a:lnTo>
                  <a:lnTo>
                    <a:pt x="302599" y="16051"/>
                  </a:lnTo>
                  <a:lnTo>
                    <a:pt x="295440" y="11102"/>
                  </a:lnTo>
                  <a:lnTo>
                    <a:pt x="285643" y="5596"/>
                  </a:lnTo>
                  <a:lnTo>
                    <a:pt x="274674" y="2487"/>
                  </a:lnTo>
                  <a:lnTo>
                    <a:pt x="264178" y="1105"/>
                  </a:lnTo>
                  <a:lnTo>
                    <a:pt x="256205" y="491"/>
                  </a:lnTo>
                  <a:lnTo>
                    <a:pt x="246707" y="219"/>
                  </a:lnTo>
                  <a:lnTo>
                    <a:pt x="21291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MARTInkAnnotation36"/>
            <p:cNvSpPr/>
            <p:nvPr/>
          </p:nvSpPr>
          <p:spPr>
            <a:xfrm>
              <a:off x="8064000" y="1589760"/>
              <a:ext cx="321120" cy="258480"/>
            </a:xfrm>
            <a:custGeom>
              <a:avLst/>
              <a:gdLst>
                <a:gd name="textAreaLeft" fmla="*/ 0 w 321120"/>
                <a:gd name="textAreaRight" fmla="*/ 321480 w 32112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321102" h="258850">
                  <a:moveTo>
                    <a:pt x="8562" y="44537"/>
                  </a:moveTo>
                  <a:lnTo>
                    <a:pt x="8562" y="36849"/>
                  </a:lnTo>
                  <a:lnTo>
                    <a:pt x="7570" y="36435"/>
                  </a:lnTo>
                  <a:lnTo>
                    <a:pt x="3821" y="35975"/>
                  </a:lnTo>
                  <a:lnTo>
                    <a:pt x="2425" y="34860"/>
                  </a:lnTo>
                  <a:lnTo>
                    <a:pt x="1494" y="33125"/>
                  </a:lnTo>
                  <a:lnTo>
                    <a:pt x="0" y="27951"/>
                  </a:lnTo>
                  <a:lnTo>
                    <a:pt x="2442" y="24598"/>
                  </a:lnTo>
                  <a:lnTo>
                    <a:pt x="8748" y="17657"/>
                  </a:lnTo>
                  <a:lnTo>
                    <a:pt x="12943" y="13408"/>
                  </a:lnTo>
                  <a:lnTo>
                    <a:pt x="15452" y="11878"/>
                  </a:lnTo>
                  <a:lnTo>
                    <a:pt x="24781" y="9221"/>
                  </a:lnTo>
                  <a:lnTo>
                    <a:pt x="33226" y="2761"/>
                  </a:lnTo>
                  <a:lnTo>
                    <a:pt x="38706" y="1165"/>
                  </a:lnTo>
                  <a:lnTo>
                    <a:pt x="47370" y="266"/>
                  </a:lnTo>
                  <a:lnTo>
                    <a:pt x="56219" y="0"/>
                  </a:lnTo>
                  <a:lnTo>
                    <a:pt x="64800" y="2584"/>
                  </a:lnTo>
                  <a:lnTo>
                    <a:pt x="74237" y="6047"/>
                  </a:lnTo>
                  <a:lnTo>
                    <a:pt x="81737" y="7586"/>
                  </a:lnTo>
                  <a:lnTo>
                    <a:pt x="91024" y="10917"/>
                  </a:lnTo>
                  <a:lnTo>
                    <a:pt x="96279" y="13193"/>
                  </a:lnTo>
                  <a:lnTo>
                    <a:pt x="101766" y="14712"/>
                  </a:lnTo>
                  <a:lnTo>
                    <a:pt x="107410" y="15724"/>
                  </a:lnTo>
                  <a:lnTo>
                    <a:pt x="113155" y="16398"/>
                  </a:lnTo>
                  <a:lnTo>
                    <a:pt x="118970" y="17840"/>
                  </a:lnTo>
                  <a:lnTo>
                    <a:pt x="124831" y="19794"/>
                  </a:lnTo>
                  <a:lnTo>
                    <a:pt x="130724" y="22088"/>
                  </a:lnTo>
                  <a:lnTo>
                    <a:pt x="139916" y="27284"/>
                  </a:lnTo>
                  <a:lnTo>
                    <a:pt x="147308" y="32900"/>
                  </a:lnTo>
                  <a:lnTo>
                    <a:pt x="153901" y="38703"/>
                  </a:lnTo>
                  <a:lnTo>
                    <a:pt x="160138" y="44590"/>
                  </a:lnTo>
                  <a:lnTo>
                    <a:pt x="163191" y="47549"/>
                  </a:lnTo>
                  <a:lnTo>
                    <a:pt x="166219" y="51506"/>
                  </a:lnTo>
                  <a:lnTo>
                    <a:pt x="169228" y="56128"/>
                  </a:lnTo>
                  <a:lnTo>
                    <a:pt x="172227" y="61194"/>
                  </a:lnTo>
                  <a:lnTo>
                    <a:pt x="175219" y="65563"/>
                  </a:lnTo>
                  <a:lnTo>
                    <a:pt x="181189" y="73064"/>
                  </a:lnTo>
                  <a:lnTo>
                    <a:pt x="184169" y="77446"/>
                  </a:lnTo>
                  <a:lnTo>
                    <a:pt x="187149" y="82351"/>
                  </a:lnTo>
                  <a:lnTo>
                    <a:pt x="190128" y="87606"/>
                  </a:lnTo>
                  <a:lnTo>
                    <a:pt x="196083" y="98736"/>
                  </a:lnTo>
                  <a:lnTo>
                    <a:pt x="199060" y="104482"/>
                  </a:lnTo>
                  <a:lnTo>
                    <a:pt x="201045" y="109305"/>
                  </a:lnTo>
                  <a:lnTo>
                    <a:pt x="203250" y="117309"/>
                  </a:lnTo>
                  <a:lnTo>
                    <a:pt x="204831" y="121826"/>
                  </a:lnTo>
                  <a:lnTo>
                    <a:pt x="206877" y="126820"/>
                  </a:lnTo>
                  <a:lnTo>
                    <a:pt x="209233" y="132135"/>
                  </a:lnTo>
                  <a:lnTo>
                    <a:pt x="210803" y="137662"/>
                  </a:lnTo>
                  <a:lnTo>
                    <a:pt x="211851" y="143331"/>
                  </a:lnTo>
                  <a:lnTo>
                    <a:pt x="212548" y="149095"/>
                  </a:lnTo>
                  <a:lnTo>
                    <a:pt x="212021" y="154922"/>
                  </a:lnTo>
                  <a:lnTo>
                    <a:pt x="210678" y="160791"/>
                  </a:lnTo>
                  <a:lnTo>
                    <a:pt x="208790" y="166688"/>
                  </a:lnTo>
                  <a:lnTo>
                    <a:pt x="207532" y="171611"/>
                  </a:lnTo>
                  <a:lnTo>
                    <a:pt x="206692" y="175886"/>
                  </a:lnTo>
                  <a:lnTo>
                    <a:pt x="206133" y="179728"/>
                  </a:lnTo>
                  <a:lnTo>
                    <a:pt x="203776" y="184274"/>
                  </a:lnTo>
                  <a:lnTo>
                    <a:pt x="200221" y="189288"/>
                  </a:lnTo>
                  <a:lnTo>
                    <a:pt x="195865" y="194616"/>
                  </a:lnTo>
                  <a:lnTo>
                    <a:pt x="191970" y="199160"/>
                  </a:lnTo>
                  <a:lnTo>
                    <a:pt x="184996" y="206855"/>
                  </a:lnTo>
                  <a:lnTo>
                    <a:pt x="178589" y="213582"/>
                  </a:lnTo>
                  <a:lnTo>
                    <a:pt x="166391" y="225985"/>
                  </a:lnTo>
                  <a:lnTo>
                    <a:pt x="157752" y="232006"/>
                  </a:lnTo>
                  <a:lnTo>
                    <a:pt x="148290" y="237989"/>
                  </a:lnTo>
                  <a:lnTo>
                    <a:pt x="140777" y="243956"/>
                  </a:lnTo>
                  <a:lnTo>
                    <a:pt x="134131" y="247269"/>
                  </a:lnTo>
                  <a:lnTo>
                    <a:pt x="126878" y="248741"/>
                  </a:lnTo>
                  <a:lnTo>
                    <a:pt x="117039" y="249396"/>
                  </a:lnTo>
                  <a:lnTo>
                    <a:pt x="108699" y="249687"/>
                  </a:lnTo>
                  <a:lnTo>
                    <a:pt x="98424" y="249851"/>
                  </a:lnTo>
                  <a:lnTo>
                    <a:pt x="81324" y="249906"/>
                  </a:lnTo>
                  <a:lnTo>
                    <a:pt x="74929" y="247926"/>
                  </a:lnTo>
                  <a:lnTo>
                    <a:pt x="67689" y="244622"/>
                  </a:lnTo>
                  <a:lnTo>
                    <a:pt x="48905" y="234542"/>
                  </a:lnTo>
                  <a:lnTo>
                    <a:pt x="40910" y="228055"/>
                  </a:lnTo>
                  <a:lnTo>
                    <a:pt x="39057" y="225421"/>
                  </a:lnTo>
                  <a:lnTo>
                    <a:pt x="36998" y="219849"/>
                  </a:lnTo>
                  <a:lnTo>
                    <a:pt x="37441" y="217966"/>
                  </a:lnTo>
                  <a:lnTo>
                    <a:pt x="38729" y="216711"/>
                  </a:lnTo>
                  <a:lnTo>
                    <a:pt x="40579" y="215874"/>
                  </a:lnTo>
                  <a:lnTo>
                    <a:pt x="49686" y="208394"/>
                  </a:lnTo>
                  <a:lnTo>
                    <a:pt x="51643" y="206659"/>
                  </a:lnTo>
                  <a:lnTo>
                    <a:pt x="55159" y="205888"/>
                  </a:lnTo>
                  <a:lnTo>
                    <a:pt x="61022" y="205545"/>
                  </a:lnTo>
                  <a:lnTo>
                    <a:pt x="78308" y="205325"/>
                  </a:lnTo>
                  <a:lnTo>
                    <a:pt x="117906" y="205274"/>
                  </a:lnTo>
                  <a:lnTo>
                    <a:pt x="125114" y="206266"/>
                  </a:lnTo>
                  <a:lnTo>
                    <a:pt x="131904" y="207919"/>
                  </a:lnTo>
                  <a:lnTo>
                    <a:pt x="138415" y="210012"/>
                  </a:lnTo>
                  <a:lnTo>
                    <a:pt x="145731" y="211409"/>
                  </a:lnTo>
                  <a:lnTo>
                    <a:pt x="153587" y="212340"/>
                  </a:lnTo>
                  <a:lnTo>
                    <a:pt x="161799" y="212960"/>
                  </a:lnTo>
                  <a:lnTo>
                    <a:pt x="170252" y="213373"/>
                  </a:lnTo>
                  <a:lnTo>
                    <a:pt x="187581" y="213833"/>
                  </a:lnTo>
                  <a:lnTo>
                    <a:pt x="195376" y="214948"/>
                  </a:lnTo>
                  <a:lnTo>
                    <a:pt x="202558" y="216683"/>
                  </a:lnTo>
                  <a:lnTo>
                    <a:pt x="209329" y="218832"/>
                  </a:lnTo>
                  <a:lnTo>
                    <a:pt x="216821" y="220265"/>
                  </a:lnTo>
                  <a:lnTo>
                    <a:pt x="224792" y="221220"/>
                  </a:lnTo>
                  <a:lnTo>
                    <a:pt x="233082" y="221857"/>
                  </a:lnTo>
                  <a:lnTo>
                    <a:pt x="240593" y="223274"/>
                  </a:lnTo>
                  <a:lnTo>
                    <a:pt x="247586" y="225210"/>
                  </a:lnTo>
                  <a:lnTo>
                    <a:pt x="254232" y="227494"/>
                  </a:lnTo>
                  <a:lnTo>
                    <a:pt x="260645" y="230008"/>
                  </a:lnTo>
                  <a:lnTo>
                    <a:pt x="266907" y="232676"/>
                  </a:lnTo>
                  <a:lnTo>
                    <a:pt x="273065" y="235448"/>
                  </a:lnTo>
                  <a:lnTo>
                    <a:pt x="282554" y="238527"/>
                  </a:lnTo>
                  <a:lnTo>
                    <a:pt x="291070" y="240887"/>
                  </a:lnTo>
                  <a:lnTo>
                    <a:pt x="296119" y="242906"/>
                  </a:lnTo>
                  <a:lnTo>
                    <a:pt x="306029" y="246803"/>
                  </a:lnTo>
                  <a:lnTo>
                    <a:pt x="313741" y="248534"/>
                  </a:lnTo>
                  <a:lnTo>
                    <a:pt x="316194" y="249988"/>
                  </a:lnTo>
                  <a:lnTo>
                    <a:pt x="317829" y="251950"/>
                  </a:lnTo>
                  <a:lnTo>
                    <a:pt x="321101" y="25884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MARTInkAnnotation37"/>
            <p:cNvSpPr/>
            <p:nvPr/>
          </p:nvSpPr>
          <p:spPr>
            <a:xfrm>
              <a:off x="6045120" y="4107600"/>
              <a:ext cx="410040" cy="365400"/>
            </a:xfrm>
            <a:custGeom>
              <a:avLst/>
              <a:gdLst>
                <a:gd name="textAreaLeft" fmla="*/ 0 w 410040"/>
                <a:gd name="textAreaRight" fmla="*/ 410400 w 410040"/>
                <a:gd name="textAreaTop" fmla="*/ 0 h 365400"/>
                <a:gd name="textAreaBottom" fmla="*/ 365400 h 365400"/>
              </a:gdLst>
              <a:ahLst/>
              <a:rect l="textAreaLeft" t="textAreaTop" r="textAreaRight" b="textAreaBottom"/>
              <a:pathLst>
                <a:path w="410195" h="365693">
                  <a:moveTo>
                    <a:pt x="267733" y="17849"/>
                  </a:moveTo>
                  <a:lnTo>
                    <a:pt x="255304" y="17849"/>
                  </a:lnTo>
                  <a:lnTo>
                    <a:pt x="253494" y="16856"/>
                  </a:lnTo>
                  <a:lnTo>
                    <a:pt x="252287" y="15203"/>
                  </a:lnTo>
                  <a:lnTo>
                    <a:pt x="251483" y="13108"/>
                  </a:lnTo>
                  <a:lnTo>
                    <a:pt x="249954" y="11712"/>
                  </a:lnTo>
                  <a:lnTo>
                    <a:pt x="247943" y="10781"/>
                  </a:lnTo>
                  <a:lnTo>
                    <a:pt x="245610" y="10161"/>
                  </a:lnTo>
                  <a:lnTo>
                    <a:pt x="240372" y="6825"/>
                  </a:lnTo>
                  <a:lnTo>
                    <a:pt x="237586" y="4546"/>
                  </a:lnTo>
                  <a:lnTo>
                    <a:pt x="234737" y="3027"/>
                  </a:lnTo>
                  <a:lnTo>
                    <a:pt x="228925" y="1340"/>
                  </a:lnTo>
                  <a:lnTo>
                    <a:pt x="216117" y="256"/>
                  </a:lnTo>
                  <a:lnTo>
                    <a:pt x="198153" y="42"/>
                  </a:lnTo>
                  <a:lnTo>
                    <a:pt x="180016" y="0"/>
                  </a:lnTo>
                  <a:lnTo>
                    <a:pt x="175521" y="988"/>
                  </a:lnTo>
                  <a:lnTo>
                    <a:pt x="167880" y="4733"/>
                  </a:lnTo>
                  <a:lnTo>
                    <a:pt x="155885" y="9705"/>
                  </a:lnTo>
                  <a:lnTo>
                    <a:pt x="148519" y="12419"/>
                  </a:lnTo>
                  <a:lnTo>
                    <a:pt x="137689" y="15436"/>
                  </a:lnTo>
                  <a:lnTo>
                    <a:pt x="133412" y="16240"/>
                  </a:lnTo>
                  <a:lnTo>
                    <a:pt x="123369" y="22426"/>
                  </a:lnTo>
                  <a:lnTo>
                    <a:pt x="112289" y="30797"/>
                  </a:lnTo>
                  <a:lnTo>
                    <a:pt x="100751" y="37825"/>
                  </a:lnTo>
                  <a:lnTo>
                    <a:pt x="89008" y="46902"/>
                  </a:lnTo>
                  <a:lnTo>
                    <a:pt x="77175" y="56558"/>
                  </a:lnTo>
                  <a:lnTo>
                    <a:pt x="65301" y="64157"/>
                  </a:lnTo>
                  <a:lnTo>
                    <a:pt x="56055" y="73487"/>
                  </a:lnTo>
                  <a:lnTo>
                    <a:pt x="47646" y="84249"/>
                  </a:lnTo>
                  <a:lnTo>
                    <a:pt x="37294" y="95647"/>
                  </a:lnTo>
                  <a:lnTo>
                    <a:pt x="32748" y="101463"/>
                  </a:lnTo>
                  <a:lnTo>
                    <a:pt x="28724" y="107327"/>
                  </a:lnTo>
                  <a:lnTo>
                    <a:pt x="25051" y="113219"/>
                  </a:lnTo>
                  <a:lnTo>
                    <a:pt x="21609" y="119132"/>
                  </a:lnTo>
                  <a:lnTo>
                    <a:pt x="15138" y="130994"/>
                  </a:lnTo>
                  <a:lnTo>
                    <a:pt x="5918" y="148828"/>
                  </a:lnTo>
                  <a:lnTo>
                    <a:pt x="3893" y="154778"/>
                  </a:lnTo>
                  <a:lnTo>
                    <a:pt x="2543" y="160729"/>
                  </a:lnTo>
                  <a:lnTo>
                    <a:pt x="1642" y="166679"/>
                  </a:lnTo>
                  <a:lnTo>
                    <a:pt x="1042" y="173624"/>
                  </a:lnTo>
                  <a:lnTo>
                    <a:pt x="642" y="181231"/>
                  </a:lnTo>
                  <a:lnTo>
                    <a:pt x="198" y="196626"/>
                  </a:lnTo>
                  <a:lnTo>
                    <a:pt x="0" y="210085"/>
                  </a:lnTo>
                  <a:lnTo>
                    <a:pt x="940" y="216451"/>
                  </a:lnTo>
                  <a:lnTo>
                    <a:pt x="2559" y="222680"/>
                  </a:lnTo>
                  <a:lnTo>
                    <a:pt x="4630" y="228817"/>
                  </a:lnTo>
                  <a:lnTo>
                    <a:pt x="7003" y="234893"/>
                  </a:lnTo>
                  <a:lnTo>
                    <a:pt x="9577" y="240928"/>
                  </a:lnTo>
                  <a:lnTo>
                    <a:pt x="15083" y="252924"/>
                  </a:lnTo>
                  <a:lnTo>
                    <a:pt x="20837" y="264871"/>
                  </a:lnTo>
                  <a:lnTo>
                    <a:pt x="26702" y="274150"/>
                  </a:lnTo>
                  <a:lnTo>
                    <a:pt x="33608" y="282573"/>
                  </a:lnTo>
                  <a:lnTo>
                    <a:pt x="43292" y="292931"/>
                  </a:lnTo>
                  <a:lnTo>
                    <a:pt x="59542" y="309613"/>
                  </a:lnTo>
                  <a:lnTo>
                    <a:pt x="69701" y="319832"/>
                  </a:lnTo>
                  <a:lnTo>
                    <a:pt x="80831" y="328342"/>
                  </a:lnTo>
                  <a:lnTo>
                    <a:pt x="92392" y="335432"/>
                  </a:lnTo>
                  <a:lnTo>
                    <a:pt x="104145" y="341890"/>
                  </a:lnTo>
                  <a:lnTo>
                    <a:pt x="111049" y="345001"/>
                  </a:lnTo>
                  <a:lnTo>
                    <a:pt x="118629" y="348067"/>
                  </a:lnTo>
                  <a:lnTo>
                    <a:pt x="126658" y="351104"/>
                  </a:lnTo>
                  <a:lnTo>
                    <a:pt x="133996" y="353128"/>
                  </a:lnTo>
                  <a:lnTo>
                    <a:pt x="140872" y="354478"/>
                  </a:lnTo>
                  <a:lnTo>
                    <a:pt x="147440" y="355378"/>
                  </a:lnTo>
                  <a:lnTo>
                    <a:pt x="160030" y="359023"/>
                  </a:lnTo>
                  <a:lnTo>
                    <a:pt x="166166" y="361384"/>
                  </a:lnTo>
                  <a:lnTo>
                    <a:pt x="173232" y="362958"/>
                  </a:lnTo>
                  <a:lnTo>
                    <a:pt x="180920" y="364007"/>
                  </a:lnTo>
                  <a:lnTo>
                    <a:pt x="189022" y="364708"/>
                  </a:lnTo>
                  <a:lnTo>
                    <a:pt x="196407" y="365173"/>
                  </a:lnTo>
                  <a:lnTo>
                    <a:pt x="209906" y="365692"/>
                  </a:lnTo>
                  <a:lnTo>
                    <a:pt x="217275" y="364838"/>
                  </a:lnTo>
                  <a:lnTo>
                    <a:pt x="225164" y="363277"/>
                  </a:lnTo>
                  <a:lnTo>
                    <a:pt x="233401" y="361243"/>
                  </a:lnTo>
                  <a:lnTo>
                    <a:pt x="240876" y="359888"/>
                  </a:lnTo>
                  <a:lnTo>
                    <a:pt x="247844" y="358984"/>
                  </a:lnTo>
                  <a:lnTo>
                    <a:pt x="254474" y="358382"/>
                  </a:lnTo>
                  <a:lnTo>
                    <a:pt x="261870" y="356988"/>
                  </a:lnTo>
                  <a:lnTo>
                    <a:pt x="269777" y="355066"/>
                  </a:lnTo>
                  <a:lnTo>
                    <a:pt x="278026" y="352793"/>
                  </a:lnTo>
                  <a:lnTo>
                    <a:pt x="289478" y="347309"/>
                  </a:lnTo>
                  <a:lnTo>
                    <a:pt x="303065" y="339684"/>
                  </a:lnTo>
                  <a:lnTo>
                    <a:pt x="330069" y="323606"/>
                  </a:lnTo>
                  <a:lnTo>
                    <a:pt x="348685" y="313152"/>
                  </a:lnTo>
                  <a:lnTo>
                    <a:pt x="360928" y="302553"/>
                  </a:lnTo>
                  <a:lnTo>
                    <a:pt x="369676" y="292220"/>
                  </a:lnTo>
                  <a:lnTo>
                    <a:pt x="376872" y="284320"/>
                  </a:lnTo>
                  <a:lnTo>
                    <a:pt x="383378" y="274856"/>
                  </a:lnTo>
                  <a:lnTo>
                    <a:pt x="389575" y="264035"/>
                  </a:lnTo>
                  <a:lnTo>
                    <a:pt x="395638" y="252611"/>
                  </a:lnTo>
                  <a:lnTo>
                    <a:pt x="397651" y="245794"/>
                  </a:lnTo>
                  <a:lnTo>
                    <a:pt x="398994" y="238273"/>
                  </a:lnTo>
                  <a:lnTo>
                    <a:pt x="399889" y="230283"/>
                  </a:lnTo>
                  <a:lnTo>
                    <a:pt x="401477" y="223964"/>
                  </a:lnTo>
                  <a:lnTo>
                    <a:pt x="405889" y="214296"/>
                  </a:lnTo>
                  <a:lnTo>
                    <a:pt x="407462" y="208345"/>
                  </a:lnTo>
                  <a:lnTo>
                    <a:pt x="408511" y="201401"/>
                  </a:lnTo>
                  <a:lnTo>
                    <a:pt x="409210" y="193795"/>
                  </a:lnTo>
                  <a:lnTo>
                    <a:pt x="409676" y="186740"/>
                  </a:lnTo>
                  <a:lnTo>
                    <a:pt x="409986" y="180052"/>
                  </a:lnTo>
                  <a:lnTo>
                    <a:pt x="410194" y="173610"/>
                  </a:lnTo>
                  <a:lnTo>
                    <a:pt x="409340" y="167330"/>
                  </a:lnTo>
                  <a:lnTo>
                    <a:pt x="407778" y="161159"/>
                  </a:lnTo>
                  <a:lnTo>
                    <a:pt x="405745" y="155060"/>
                  </a:lnTo>
                  <a:lnTo>
                    <a:pt x="403397" y="149011"/>
                  </a:lnTo>
                  <a:lnTo>
                    <a:pt x="400840" y="142993"/>
                  </a:lnTo>
                  <a:lnTo>
                    <a:pt x="395352" y="131016"/>
                  </a:lnTo>
                  <a:lnTo>
                    <a:pt x="383746" y="107157"/>
                  </a:lnTo>
                  <a:lnTo>
                    <a:pt x="380794" y="101200"/>
                  </a:lnTo>
                  <a:lnTo>
                    <a:pt x="376841" y="95245"/>
                  </a:lnTo>
                  <a:lnTo>
                    <a:pt x="372222" y="89290"/>
                  </a:lnTo>
                  <a:lnTo>
                    <a:pt x="367158" y="83335"/>
                  </a:lnTo>
                  <a:lnTo>
                    <a:pt x="362790" y="77382"/>
                  </a:lnTo>
                  <a:lnTo>
                    <a:pt x="358886" y="71428"/>
                  </a:lnTo>
                  <a:lnTo>
                    <a:pt x="355290" y="65474"/>
                  </a:lnTo>
                  <a:lnTo>
                    <a:pt x="346004" y="56213"/>
                  </a:lnTo>
                  <a:lnTo>
                    <a:pt x="335263" y="47798"/>
                  </a:lnTo>
                  <a:lnTo>
                    <a:pt x="323874" y="37443"/>
                  </a:lnTo>
                  <a:lnTo>
                    <a:pt x="312197" y="28873"/>
                  </a:lnTo>
                  <a:lnTo>
                    <a:pt x="299401" y="21756"/>
                  </a:lnTo>
                  <a:lnTo>
                    <a:pt x="291822" y="18470"/>
                  </a:lnTo>
                  <a:lnTo>
                    <a:pt x="267733" y="89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MARTInkAnnotation38"/>
            <p:cNvSpPr/>
            <p:nvPr/>
          </p:nvSpPr>
          <p:spPr>
            <a:xfrm>
              <a:off x="6473520" y="4446720"/>
              <a:ext cx="214200" cy="2228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214314" h="223211">
                  <a:moveTo>
                    <a:pt x="0" y="8897"/>
                  </a:moveTo>
                  <a:lnTo>
                    <a:pt x="7689" y="1208"/>
                  </a:lnTo>
                  <a:lnTo>
                    <a:pt x="11025" y="519"/>
                  </a:lnTo>
                  <a:lnTo>
                    <a:pt x="15814" y="212"/>
                  </a:lnTo>
                  <a:lnTo>
                    <a:pt x="21250" y="76"/>
                  </a:lnTo>
                  <a:lnTo>
                    <a:pt x="34629" y="0"/>
                  </a:lnTo>
                  <a:lnTo>
                    <a:pt x="38962" y="980"/>
                  </a:lnTo>
                  <a:lnTo>
                    <a:pt x="42842" y="2627"/>
                  </a:lnTo>
                  <a:lnTo>
                    <a:pt x="46420" y="4717"/>
                  </a:lnTo>
                  <a:lnTo>
                    <a:pt x="53043" y="7039"/>
                  </a:lnTo>
                  <a:lnTo>
                    <a:pt x="56198" y="7659"/>
                  </a:lnTo>
                  <a:lnTo>
                    <a:pt x="60286" y="9064"/>
                  </a:lnTo>
                  <a:lnTo>
                    <a:pt x="64995" y="10993"/>
                  </a:lnTo>
                  <a:lnTo>
                    <a:pt x="70119" y="13270"/>
                  </a:lnTo>
                  <a:lnTo>
                    <a:pt x="74528" y="15782"/>
                  </a:lnTo>
                  <a:lnTo>
                    <a:pt x="78458" y="18448"/>
                  </a:lnTo>
                  <a:lnTo>
                    <a:pt x="82071" y="21217"/>
                  </a:lnTo>
                  <a:lnTo>
                    <a:pt x="86465" y="23063"/>
                  </a:lnTo>
                  <a:lnTo>
                    <a:pt x="91378" y="24295"/>
                  </a:lnTo>
                  <a:lnTo>
                    <a:pt x="96637" y="25115"/>
                  </a:lnTo>
                  <a:lnTo>
                    <a:pt x="101136" y="27647"/>
                  </a:lnTo>
                  <a:lnTo>
                    <a:pt x="105127" y="31319"/>
                  </a:lnTo>
                  <a:lnTo>
                    <a:pt x="108781" y="35750"/>
                  </a:lnTo>
                  <a:lnTo>
                    <a:pt x="111215" y="39698"/>
                  </a:lnTo>
                  <a:lnTo>
                    <a:pt x="112839" y="43322"/>
                  </a:lnTo>
                  <a:lnTo>
                    <a:pt x="113922" y="46730"/>
                  </a:lnTo>
                  <a:lnTo>
                    <a:pt x="117770" y="53162"/>
                  </a:lnTo>
                  <a:lnTo>
                    <a:pt x="120186" y="56266"/>
                  </a:lnTo>
                  <a:lnTo>
                    <a:pt x="122788" y="60320"/>
                  </a:lnTo>
                  <a:lnTo>
                    <a:pt x="125514" y="65008"/>
                  </a:lnTo>
                  <a:lnTo>
                    <a:pt x="128325" y="70116"/>
                  </a:lnTo>
                  <a:lnTo>
                    <a:pt x="130199" y="75507"/>
                  </a:lnTo>
                  <a:lnTo>
                    <a:pt x="131448" y="81085"/>
                  </a:lnTo>
                  <a:lnTo>
                    <a:pt x="132281" y="86788"/>
                  </a:lnTo>
                  <a:lnTo>
                    <a:pt x="132836" y="91582"/>
                  </a:lnTo>
                  <a:lnTo>
                    <a:pt x="133205" y="95770"/>
                  </a:lnTo>
                  <a:lnTo>
                    <a:pt x="133452" y="99555"/>
                  </a:lnTo>
                  <a:lnTo>
                    <a:pt x="134609" y="104062"/>
                  </a:lnTo>
                  <a:lnTo>
                    <a:pt x="136372" y="109052"/>
                  </a:lnTo>
                  <a:lnTo>
                    <a:pt x="138541" y="114362"/>
                  </a:lnTo>
                  <a:lnTo>
                    <a:pt x="138993" y="119887"/>
                  </a:lnTo>
                  <a:lnTo>
                    <a:pt x="138302" y="125554"/>
                  </a:lnTo>
                  <a:lnTo>
                    <a:pt x="136850" y="131317"/>
                  </a:lnTo>
                  <a:lnTo>
                    <a:pt x="135883" y="136151"/>
                  </a:lnTo>
                  <a:lnTo>
                    <a:pt x="135237" y="140366"/>
                  </a:lnTo>
                  <a:lnTo>
                    <a:pt x="134806" y="144168"/>
                  </a:lnTo>
                  <a:lnTo>
                    <a:pt x="134329" y="151039"/>
                  </a:lnTo>
                  <a:lnTo>
                    <a:pt x="134200" y="154259"/>
                  </a:lnTo>
                  <a:lnTo>
                    <a:pt x="133124" y="158392"/>
                  </a:lnTo>
                  <a:lnTo>
                    <a:pt x="131413" y="163130"/>
                  </a:lnTo>
                  <a:lnTo>
                    <a:pt x="129281" y="168274"/>
                  </a:lnTo>
                  <a:lnTo>
                    <a:pt x="126866" y="172695"/>
                  </a:lnTo>
                  <a:lnTo>
                    <a:pt x="124266" y="176635"/>
                  </a:lnTo>
                  <a:lnTo>
                    <a:pt x="121540" y="180254"/>
                  </a:lnTo>
                  <a:lnTo>
                    <a:pt x="118730" y="182666"/>
                  </a:lnTo>
                  <a:lnTo>
                    <a:pt x="115864" y="184274"/>
                  </a:lnTo>
                  <a:lnTo>
                    <a:pt x="112962" y="185346"/>
                  </a:lnTo>
                  <a:lnTo>
                    <a:pt x="107090" y="189183"/>
                  </a:lnTo>
                  <a:lnTo>
                    <a:pt x="104136" y="191596"/>
                  </a:lnTo>
                  <a:lnTo>
                    <a:pt x="101174" y="193204"/>
                  </a:lnTo>
                  <a:lnTo>
                    <a:pt x="95237" y="194991"/>
                  </a:lnTo>
                  <a:lnTo>
                    <a:pt x="89292" y="195785"/>
                  </a:lnTo>
                  <a:lnTo>
                    <a:pt x="86317" y="195996"/>
                  </a:lnTo>
                  <a:lnTo>
                    <a:pt x="83342" y="195147"/>
                  </a:lnTo>
                  <a:lnTo>
                    <a:pt x="77390" y="191555"/>
                  </a:lnTo>
                  <a:lnTo>
                    <a:pt x="71437" y="189297"/>
                  </a:lnTo>
                  <a:lnTo>
                    <a:pt x="68461" y="188695"/>
                  </a:lnTo>
                  <a:lnTo>
                    <a:pt x="62508" y="185380"/>
                  </a:lnTo>
                  <a:lnTo>
                    <a:pt x="56555" y="180599"/>
                  </a:lnTo>
                  <a:lnTo>
                    <a:pt x="50602" y="175168"/>
                  </a:lnTo>
                  <a:lnTo>
                    <a:pt x="41672" y="166531"/>
                  </a:lnTo>
                  <a:lnTo>
                    <a:pt x="32743" y="157689"/>
                  </a:lnTo>
                  <a:lnTo>
                    <a:pt x="30758" y="154725"/>
                  </a:lnTo>
                  <a:lnTo>
                    <a:pt x="28553" y="148784"/>
                  </a:lnTo>
                  <a:lnTo>
                    <a:pt x="24928" y="142837"/>
                  </a:lnTo>
                  <a:lnTo>
                    <a:pt x="18273" y="134435"/>
                  </a:lnTo>
                  <a:lnTo>
                    <a:pt x="21112" y="134261"/>
                  </a:lnTo>
                  <a:lnTo>
                    <a:pt x="37345" y="134015"/>
                  </a:lnTo>
                  <a:lnTo>
                    <a:pt x="55985" y="133927"/>
                  </a:lnTo>
                  <a:lnTo>
                    <a:pt x="60144" y="134914"/>
                  </a:lnTo>
                  <a:lnTo>
                    <a:pt x="64901" y="136564"/>
                  </a:lnTo>
                  <a:lnTo>
                    <a:pt x="70057" y="138657"/>
                  </a:lnTo>
                  <a:lnTo>
                    <a:pt x="75478" y="141044"/>
                  </a:lnTo>
                  <a:lnTo>
                    <a:pt x="86794" y="146343"/>
                  </a:lnTo>
                  <a:lnTo>
                    <a:pt x="91597" y="149145"/>
                  </a:lnTo>
                  <a:lnTo>
                    <a:pt x="95791" y="152005"/>
                  </a:lnTo>
                  <a:lnTo>
                    <a:pt x="99580" y="154904"/>
                  </a:lnTo>
                  <a:lnTo>
                    <a:pt x="104089" y="157829"/>
                  </a:lnTo>
                  <a:lnTo>
                    <a:pt x="109081" y="160771"/>
                  </a:lnTo>
                  <a:lnTo>
                    <a:pt x="114393" y="163724"/>
                  </a:lnTo>
                  <a:lnTo>
                    <a:pt x="119918" y="167678"/>
                  </a:lnTo>
                  <a:lnTo>
                    <a:pt x="125587" y="172297"/>
                  </a:lnTo>
                  <a:lnTo>
                    <a:pt x="131349" y="177362"/>
                  </a:lnTo>
                  <a:lnTo>
                    <a:pt x="137176" y="181730"/>
                  </a:lnTo>
                  <a:lnTo>
                    <a:pt x="143044" y="185635"/>
                  </a:lnTo>
                  <a:lnTo>
                    <a:pt x="148941" y="189231"/>
                  </a:lnTo>
                  <a:lnTo>
                    <a:pt x="154856" y="192619"/>
                  </a:lnTo>
                  <a:lnTo>
                    <a:pt x="166721" y="199030"/>
                  </a:lnTo>
                  <a:lnTo>
                    <a:pt x="171671" y="202129"/>
                  </a:lnTo>
                  <a:lnTo>
                    <a:pt x="175963" y="205187"/>
                  </a:lnTo>
                  <a:lnTo>
                    <a:pt x="179817" y="208218"/>
                  </a:lnTo>
                  <a:lnTo>
                    <a:pt x="184371" y="210239"/>
                  </a:lnTo>
                  <a:lnTo>
                    <a:pt x="189391" y="211586"/>
                  </a:lnTo>
                  <a:lnTo>
                    <a:pt x="194722" y="212484"/>
                  </a:lnTo>
                  <a:lnTo>
                    <a:pt x="199267" y="214075"/>
                  </a:lnTo>
                  <a:lnTo>
                    <a:pt x="203290" y="216128"/>
                  </a:lnTo>
                  <a:lnTo>
                    <a:pt x="214313" y="223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SMARTInkAnnotation39"/>
            <p:cNvSpPr/>
            <p:nvPr/>
          </p:nvSpPr>
          <p:spPr>
            <a:xfrm>
              <a:off x="7368480" y="4205520"/>
              <a:ext cx="498600" cy="39276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498508" h="392893">
                  <a:moveTo>
                    <a:pt x="293248" y="17859"/>
                  </a:moveTo>
                  <a:lnTo>
                    <a:pt x="285559" y="10171"/>
                  </a:lnTo>
                  <a:lnTo>
                    <a:pt x="271298" y="9174"/>
                  </a:lnTo>
                  <a:lnTo>
                    <a:pt x="260065" y="9002"/>
                  </a:lnTo>
                  <a:lnTo>
                    <a:pt x="223413" y="8932"/>
                  </a:lnTo>
                  <a:lnTo>
                    <a:pt x="218910" y="9924"/>
                  </a:lnTo>
                  <a:lnTo>
                    <a:pt x="205848" y="15067"/>
                  </a:lnTo>
                  <a:lnTo>
                    <a:pt x="191895" y="16618"/>
                  </a:lnTo>
                  <a:lnTo>
                    <a:pt x="178418" y="19954"/>
                  </a:lnTo>
                  <a:lnTo>
                    <a:pt x="165814" y="24743"/>
                  </a:lnTo>
                  <a:lnTo>
                    <a:pt x="153597" y="30179"/>
                  </a:lnTo>
                  <a:lnTo>
                    <a:pt x="141554" y="38548"/>
                  </a:lnTo>
                  <a:lnTo>
                    <a:pt x="128594" y="47890"/>
                  </a:lnTo>
                  <a:lnTo>
                    <a:pt x="120970" y="51770"/>
                  </a:lnTo>
                  <a:lnTo>
                    <a:pt x="105555" y="58727"/>
                  </a:lnTo>
                  <a:lnTo>
                    <a:pt x="92089" y="65127"/>
                  </a:lnTo>
                  <a:lnTo>
                    <a:pt x="79490" y="73924"/>
                  </a:lnTo>
                  <a:lnTo>
                    <a:pt x="67276" y="84449"/>
                  </a:lnTo>
                  <a:lnTo>
                    <a:pt x="55231" y="95741"/>
                  </a:lnTo>
                  <a:lnTo>
                    <a:pt x="45911" y="107374"/>
                  </a:lnTo>
                  <a:lnTo>
                    <a:pt x="37468" y="119160"/>
                  </a:lnTo>
                  <a:lnTo>
                    <a:pt x="27102" y="131012"/>
                  </a:lnTo>
                  <a:lnTo>
                    <a:pt x="18526" y="142894"/>
                  </a:lnTo>
                  <a:lnTo>
                    <a:pt x="14850" y="148840"/>
                  </a:lnTo>
                  <a:lnTo>
                    <a:pt x="10765" y="160739"/>
                  </a:lnTo>
                  <a:lnTo>
                    <a:pt x="7958" y="172643"/>
                  </a:lnTo>
                  <a:lnTo>
                    <a:pt x="3403" y="184548"/>
                  </a:lnTo>
                  <a:lnTo>
                    <a:pt x="717" y="196453"/>
                  </a:lnTo>
                  <a:lnTo>
                    <a:pt x="0" y="202406"/>
                  </a:lnTo>
                  <a:lnTo>
                    <a:pt x="515" y="209351"/>
                  </a:lnTo>
                  <a:lnTo>
                    <a:pt x="1850" y="216958"/>
                  </a:lnTo>
                  <a:lnTo>
                    <a:pt x="3733" y="225006"/>
                  </a:lnTo>
                  <a:lnTo>
                    <a:pt x="4987" y="232356"/>
                  </a:lnTo>
                  <a:lnTo>
                    <a:pt x="5824" y="239239"/>
                  </a:lnTo>
                  <a:lnTo>
                    <a:pt x="6382" y="245813"/>
                  </a:lnTo>
                  <a:lnTo>
                    <a:pt x="7747" y="252180"/>
                  </a:lnTo>
                  <a:lnTo>
                    <a:pt x="9647" y="258409"/>
                  </a:lnTo>
                  <a:lnTo>
                    <a:pt x="14406" y="270622"/>
                  </a:lnTo>
                  <a:lnTo>
                    <a:pt x="19828" y="282664"/>
                  </a:lnTo>
                  <a:lnTo>
                    <a:pt x="28191" y="294631"/>
                  </a:lnTo>
                  <a:lnTo>
                    <a:pt x="37531" y="306564"/>
                  </a:lnTo>
                  <a:lnTo>
                    <a:pt x="44989" y="318482"/>
                  </a:lnTo>
                  <a:lnTo>
                    <a:pt x="54256" y="330394"/>
                  </a:lnTo>
                  <a:lnTo>
                    <a:pt x="59506" y="336348"/>
                  </a:lnTo>
                  <a:lnTo>
                    <a:pt x="73277" y="345610"/>
                  </a:lnTo>
                  <a:lnTo>
                    <a:pt x="101630" y="359640"/>
                  </a:lnTo>
                  <a:lnTo>
                    <a:pt x="116803" y="365884"/>
                  </a:lnTo>
                  <a:lnTo>
                    <a:pt x="133468" y="371967"/>
                  </a:lnTo>
                  <a:lnTo>
                    <a:pt x="177288" y="386939"/>
                  </a:lnTo>
                  <a:lnTo>
                    <a:pt x="192432" y="390254"/>
                  </a:lnTo>
                  <a:lnTo>
                    <a:pt x="206769" y="391727"/>
                  </a:lnTo>
                  <a:lnTo>
                    <a:pt x="214759" y="392119"/>
                  </a:lnTo>
                  <a:lnTo>
                    <a:pt x="231575" y="392556"/>
                  </a:lnTo>
                  <a:lnTo>
                    <a:pt x="302210" y="392892"/>
                  </a:lnTo>
                  <a:lnTo>
                    <a:pt x="317405" y="390254"/>
                  </a:lnTo>
                  <a:lnTo>
                    <a:pt x="331766" y="385774"/>
                  </a:lnTo>
                  <a:lnTo>
                    <a:pt x="348070" y="380476"/>
                  </a:lnTo>
                  <a:lnTo>
                    <a:pt x="362592" y="374814"/>
                  </a:lnTo>
                  <a:lnTo>
                    <a:pt x="375661" y="368989"/>
                  </a:lnTo>
                  <a:lnTo>
                    <a:pt x="394176" y="360133"/>
                  </a:lnTo>
                  <a:lnTo>
                    <a:pt x="406235" y="354197"/>
                  </a:lnTo>
                  <a:lnTo>
                    <a:pt x="411237" y="350233"/>
                  </a:lnTo>
                  <a:lnTo>
                    <a:pt x="419440" y="340536"/>
                  </a:lnTo>
                  <a:lnTo>
                    <a:pt x="429040" y="329613"/>
                  </a:lnTo>
                  <a:lnTo>
                    <a:pt x="438927" y="318142"/>
                  </a:lnTo>
                  <a:lnTo>
                    <a:pt x="446630" y="306430"/>
                  </a:lnTo>
                  <a:lnTo>
                    <a:pt x="456006" y="294611"/>
                  </a:lnTo>
                  <a:lnTo>
                    <a:pt x="465796" y="282742"/>
                  </a:lnTo>
                  <a:lnTo>
                    <a:pt x="473455" y="270853"/>
                  </a:lnTo>
                  <a:lnTo>
                    <a:pt x="480165" y="258955"/>
                  </a:lnTo>
                  <a:lnTo>
                    <a:pt x="483344" y="253004"/>
                  </a:lnTo>
                  <a:lnTo>
                    <a:pt x="486876" y="241099"/>
                  </a:lnTo>
                  <a:lnTo>
                    <a:pt x="489437" y="229194"/>
                  </a:lnTo>
                  <a:lnTo>
                    <a:pt x="493883" y="217288"/>
                  </a:lnTo>
                  <a:lnTo>
                    <a:pt x="496522" y="205383"/>
                  </a:lnTo>
                  <a:lnTo>
                    <a:pt x="497694" y="193476"/>
                  </a:lnTo>
                  <a:lnTo>
                    <a:pt x="498214" y="181570"/>
                  </a:lnTo>
                  <a:lnTo>
                    <a:pt x="498507" y="158970"/>
                  </a:lnTo>
                  <a:lnTo>
                    <a:pt x="497556" y="151620"/>
                  </a:lnTo>
                  <a:lnTo>
                    <a:pt x="495930" y="144737"/>
                  </a:lnTo>
                  <a:lnTo>
                    <a:pt x="493854" y="138162"/>
                  </a:lnTo>
                  <a:lnTo>
                    <a:pt x="492470" y="131796"/>
                  </a:lnTo>
                  <a:lnTo>
                    <a:pt x="491547" y="125567"/>
                  </a:lnTo>
                  <a:lnTo>
                    <a:pt x="489529" y="113355"/>
                  </a:lnTo>
                  <a:lnTo>
                    <a:pt x="485326" y="101311"/>
                  </a:lnTo>
                  <a:lnTo>
                    <a:pt x="481823" y="96315"/>
                  </a:lnTo>
                  <a:lnTo>
                    <a:pt x="472639" y="88116"/>
                  </a:lnTo>
                  <a:lnTo>
                    <a:pt x="464589" y="78519"/>
                  </a:lnTo>
                  <a:lnTo>
                    <a:pt x="457705" y="67639"/>
                  </a:lnTo>
                  <a:lnTo>
                    <a:pt x="451337" y="56190"/>
                  </a:lnTo>
                  <a:lnTo>
                    <a:pt x="442554" y="47132"/>
                  </a:lnTo>
                  <a:lnTo>
                    <a:pt x="432036" y="38807"/>
                  </a:lnTo>
                  <a:lnTo>
                    <a:pt x="420747" y="28492"/>
                  </a:lnTo>
                  <a:lnTo>
                    <a:pt x="406468" y="19939"/>
                  </a:lnTo>
                  <a:lnTo>
                    <a:pt x="391194" y="13823"/>
                  </a:lnTo>
                  <a:lnTo>
                    <a:pt x="377789" y="11104"/>
                  </a:lnTo>
                  <a:lnTo>
                    <a:pt x="362572" y="9896"/>
                  </a:lnTo>
                  <a:lnTo>
                    <a:pt x="347872" y="8367"/>
                  </a:lnTo>
                  <a:lnTo>
                    <a:pt x="342562" y="6570"/>
                  </a:lnTo>
                  <a:lnTo>
                    <a:pt x="32896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SMARTInkAnnotation40"/>
            <p:cNvSpPr/>
            <p:nvPr/>
          </p:nvSpPr>
          <p:spPr>
            <a:xfrm>
              <a:off x="7920720" y="4536000"/>
              <a:ext cx="214200" cy="3391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39120"/>
                <a:gd name="textAreaBottom" fmla="*/ 339480 h 339120"/>
              </a:gdLst>
              <a:ahLst/>
              <a:rect l="textAreaLeft" t="textAreaTop" r="textAreaRight" b="textAreaBottom"/>
              <a:pathLst>
                <a:path w="214148" h="339319">
                  <a:moveTo>
                    <a:pt x="0" y="17850"/>
                  </a:moveTo>
                  <a:lnTo>
                    <a:pt x="0" y="13109"/>
                  </a:lnTo>
                  <a:lnTo>
                    <a:pt x="992" y="11713"/>
                  </a:lnTo>
                  <a:lnTo>
                    <a:pt x="2645" y="10782"/>
                  </a:lnTo>
                  <a:lnTo>
                    <a:pt x="7688" y="9288"/>
                  </a:lnTo>
                  <a:lnTo>
                    <a:pt x="13302" y="9029"/>
                  </a:lnTo>
                  <a:lnTo>
                    <a:pt x="14821" y="8000"/>
                  </a:lnTo>
                  <a:lnTo>
                    <a:pt x="15834" y="6322"/>
                  </a:lnTo>
                  <a:lnTo>
                    <a:pt x="16509" y="4212"/>
                  </a:lnTo>
                  <a:lnTo>
                    <a:pt x="17951" y="2804"/>
                  </a:lnTo>
                  <a:lnTo>
                    <a:pt x="19905" y="1866"/>
                  </a:lnTo>
                  <a:lnTo>
                    <a:pt x="24722" y="824"/>
                  </a:lnTo>
                  <a:lnTo>
                    <a:pt x="30170" y="361"/>
                  </a:lnTo>
                  <a:lnTo>
                    <a:pt x="35898" y="155"/>
                  </a:lnTo>
                  <a:lnTo>
                    <a:pt x="47347" y="39"/>
                  </a:lnTo>
                  <a:lnTo>
                    <a:pt x="64253" y="0"/>
                  </a:lnTo>
                  <a:lnTo>
                    <a:pt x="67641" y="989"/>
                  </a:lnTo>
                  <a:lnTo>
                    <a:pt x="74049" y="4733"/>
                  </a:lnTo>
                  <a:lnTo>
                    <a:pt x="78140" y="6129"/>
                  </a:lnTo>
                  <a:lnTo>
                    <a:pt x="82851" y="7059"/>
                  </a:lnTo>
                  <a:lnTo>
                    <a:pt x="87977" y="7679"/>
                  </a:lnTo>
                  <a:lnTo>
                    <a:pt x="92385" y="9085"/>
                  </a:lnTo>
                  <a:lnTo>
                    <a:pt x="96316" y="11014"/>
                  </a:lnTo>
                  <a:lnTo>
                    <a:pt x="99929" y="13292"/>
                  </a:lnTo>
                  <a:lnTo>
                    <a:pt x="104323" y="15804"/>
                  </a:lnTo>
                  <a:lnTo>
                    <a:pt x="114496" y="21240"/>
                  </a:lnTo>
                  <a:lnTo>
                    <a:pt x="118994" y="25070"/>
                  </a:lnTo>
                  <a:lnTo>
                    <a:pt x="122985" y="29609"/>
                  </a:lnTo>
                  <a:lnTo>
                    <a:pt x="126639" y="34619"/>
                  </a:lnTo>
                  <a:lnTo>
                    <a:pt x="130066" y="38951"/>
                  </a:lnTo>
                  <a:lnTo>
                    <a:pt x="136521" y="46410"/>
                  </a:lnTo>
                  <a:lnTo>
                    <a:pt x="142696" y="55679"/>
                  </a:lnTo>
                  <a:lnTo>
                    <a:pt x="148748" y="65420"/>
                  </a:lnTo>
                  <a:lnTo>
                    <a:pt x="154746" y="73057"/>
                  </a:lnTo>
                  <a:lnTo>
                    <a:pt x="156742" y="77474"/>
                  </a:lnTo>
                  <a:lnTo>
                    <a:pt x="158960" y="87676"/>
                  </a:lnTo>
                  <a:lnTo>
                    <a:pt x="160544" y="93174"/>
                  </a:lnTo>
                  <a:lnTo>
                    <a:pt x="162591" y="98823"/>
                  </a:lnTo>
                  <a:lnTo>
                    <a:pt x="164949" y="104574"/>
                  </a:lnTo>
                  <a:lnTo>
                    <a:pt x="165528" y="109401"/>
                  </a:lnTo>
                  <a:lnTo>
                    <a:pt x="164922" y="113610"/>
                  </a:lnTo>
                  <a:lnTo>
                    <a:pt x="162595" y="120933"/>
                  </a:lnTo>
                  <a:lnTo>
                    <a:pt x="161562" y="127496"/>
                  </a:lnTo>
                  <a:lnTo>
                    <a:pt x="160294" y="130634"/>
                  </a:lnTo>
                  <a:lnTo>
                    <a:pt x="156239" y="136768"/>
                  </a:lnTo>
                  <a:lnTo>
                    <a:pt x="153768" y="138801"/>
                  </a:lnTo>
                  <a:lnTo>
                    <a:pt x="151129" y="140155"/>
                  </a:lnTo>
                  <a:lnTo>
                    <a:pt x="148378" y="141058"/>
                  </a:lnTo>
                  <a:lnTo>
                    <a:pt x="142674" y="144708"/>
                  </a:lnTo>
                  <a:lnTo>
                    <a:pt x="139765" y="147070"/>
                  </a:lnTo>
                  <a:lnTo>
                    <a:pt x="136833" y="148645"/>
                  </a:lnTo>
                  <a:lnTo>
                    <a:pt x="130929" y="150395"/>
                  </a:lnTo>
                  <a:lnTo>
                    <a:pt x="127966" y="149869"/>
                  </a:lnTo>
                  <a:lnTo>
                    <a:pt x="122027" y="146640"/>
                  </a:lnTo>
                  <a:lnTo>
                    <a:pt x="116080" y="144543"/>
                  </a:lnTo>
                  <a:lnTo>
                    <a:pt x="110130" y="143611"/>
                  </a:lnTo>
                  <a:lnTo>
                    <a:pt x="104179" y="143197"/>
                  </a:lnTo>
                  <a:lnTo>
                    <a:pt x="101201" y="142094"/>
                  </a:lnTo>
                  <a:lnTo>
                    <a:pt x="95249" y="138223"/>
                  </a:lnTo>
                  <a:lnTo>
                    <a:pt x="89480" y="133790"/>
                  </a:lnTo>
                  <a:lnTo>
                    <a:pt x="80490" y="125124"/>
                  </a:lnTo>
                  <a:lnTo>
                    <a:pt x="85144" y="129781"/>
                  </a:lnTo>
                  <a:lnTo>
                    <a:pt x="87520" y="131166"/>
                  </a:lnTo>
                  <a:lnTo>
                    <a:pt x="92807" y="132705"/>
                  </a:lnTo>
                  <a:lnTo>
                    <a:pt x="98464" y="136035"/>
                  </a:lnTo>
                  <a:lnTo>
                    <a:pt x="101361" y="138311"/>
                  </a:lnTo>
                  <a:lnTo>
                    <a:pt x="105278" y="140821"/>
                  </a:lnTo>
                  <a:lnTo>
                    <a:pt x="109872" y="143487"/>
                  </a:lnTo>
                  <a:lnTo>
                    <a:pt x="114920" y="146257"/>
                  </a:lnTo>
                  <a:lnTo>
                    <a:pt x="120270" y="150087"/>
                  </a:lnTo>
                  <a:lnTo>
                    <a:pt x="125820" y="154625"/>
                  </a:lnTo>
                  <a:lnTo>
                    <a:pt x="131505" y="159634"/>
                  </a:lnTo>
                  <a:lnTo>
                    <a:pt x="137280" y="163967"/>
                  </a:lnTo>
                  <a:lnTo>
                    <a:pt x="143114" y="167847"/>
                  </a:lnTo>
                  <a:lnTo>
                    <a:pt x="148987" y="171426"/>
                  </a:lnTo>
                  <a:lnTo>
                    <a:pt x="157863" y="178773"/>
                  </a:lnTo>
                  <a:lnTo>
                    <a:pt x="168742" y="188631"/>
                  </a:lnTo>
                  <a:lnTo>
                    <a:pt x="180956" y="200165"/>
                  </a:lnTo>
                  <a:lnTo>
                    <a:pt x="189098" y="208846"/>
                  </a:lnTo>
                  <a:lnTo>
                    <a:pt x="194526" y="215626"/>
                  </a:lnTo>
                  <a:lnTo>
                    <a:pt x="198144" y="221139"/>
                  </a:lnTo>
                  <a:lnTo>
                    <a:pt x="204811" y="229909"/>
                  </a:lnTo>
                  <a:lnTo>
                    <a:pt x="207979" y="233637"/>
                  </a:lnTo>
                  <a:lnTo>
                    <a:pt x="211497" y="240424"/>
                  </a:lnTo>
                  <a:lnTo>
                    <a:pt x="213061" y="246748"/>
                  </a:lnTo>
                  <a:lnTo>
                    <a:pt x="213942" y="255887"/>
                  </a:lnTo>
                  <a:lnTo>
                    <a:pt x="214147" y="261889"/>
                  </a:lnTo>
                  <a:lnTo>
                    <a:pt x="211593" y="270509"/>
                  </a:lnTo>
                  <a:lnTo>
                    <a:pt x="207150" y="279964"/>
                  </a:lnTo>
                  <a:lnTo>
                    <a:pt x="201868" y="287472"/>
                  </a:lnTo>
                  <a:lnTo>
                    <a:pt x="196214" y="294117"/>
                  </a:lnTo>
                  <a:lnTo>
                    <a:pt x="190394" y="300377"/>
                  </a:lnTo>
                  <a:lnTo>
                    <a:pt x="184499" y="306467"/>
                  </a:lnTo>
                  <a:lnTo>
                    <a:pt x="180546" y="309480"/>
                  </a:lnTo>
                  <a:lnTo>
                    <a:pt x="175927" y="312480"/>
                  </a:lnTo>
                  <a:lnTo>
                    <a:pt x="170863" y="315473"/>
                  </a:lnTo>
                  <a:lnTo>
                    <a:pt x="165501" y="318461"/>
                  </a:lnTo>
                  <a:lnTo>
                    <a:pt x="154254" y="324425"/>
                  </a:lnTo>
                  <a:lnTo>
                    <a:pt x="149469" y="327406"/>
                  </a:lnTo>
                  <a:lnTo>
                    <a:pt x="145286" y="330384"/>
                  </a:lnTo>
                  <a:lnTo>
                    <a:pt x="141506" y="333362"/>
                  </a:lnTo>
                  <a:lnTo>
                    <a:pt x="137002" y="335348"/>
                  </a:lnTo>
                  <a:lnTo>
                    <a:pt x="132013" y="336671"/>
                  </a:lnTo>
                  <a:lnTo>
                    <a:pt x="126704" y="337553"/>
                  </a:lnTo>
                  <a:lnTo>
                    <a:pt x="122172" y="338142"/>
                  </a:lnTo>
                  <a:lnTo>
                    <a:pt x="118159" y="338534"/>
                  </a:lnTo>
                  <a:lnTo>
                    <a:pt x="114491" y="338796"/>
                  </a:lnTo>
                  <a:lnTo>
                    <a:pt x="110061" y="338970"/>
                  </a:lnTo>
                  <a:lnTo>
                    <a:pt x="89297" y="339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eaking down Compou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ompound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be broken down into simpler compounds or individual elements by chemical means, but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can no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hemical change is a change that produces matter with a different composition than the original m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 – sugar is composed of C, H, and O heating sugar will break it down into carbon and water vapor but the carbon will never be broken down furth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B7E-046B-4C8A-AA01-0BF7BBF660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9"/>
          <p:cNvGrpSpPr/>
          <p:nvPr/>
        </p:nvGrpSpPr>
        <p:grpSpPr>
          <a:xfrm>
            <a:off x="2938320" y="5705640"/>
            <a:ext cx="2776680" cy="777600"/>
            <a:chOff x="2938320" y="5705640"/>
            <a:chExt cx="2776680" cy="777600"/>
          </a:xfrm>
        </p:grpSpPr>
        <p:sp>
          <p:nvSpPr>
            <p:cNvPr id="210" name="SMARTInkAnnotation19"/>
            <p:cNvSpPr/>
            <p:nvPr/>
          </p:nvSpPr>
          <p:spPr>
            <a:xfrm>
              <a:off x="2938320" y="5705640"/>
              <a:ext cx="437040" cy="500400"/>
            </a:xfrm>
            <a:custGeom>
              <a:avLst/>
              <a:gdLst>
                <a:gd name="textAreaLeft" fmla="*/ 0 w 437040"/>
                <a:gd name="textAreaRight" fmla="*/ 437400 w 437040"/>
                <a:gd name="textAreaTop" fmla="*/ 0 h 500400"/>
                <a:gd name="textAreaBottom" fmla="*/ 500760 h 500400"/>
              </a:gdLst>
              <a:ahLst/>
              <a:rect l="textAreaLeft" t="textAreaTop" r="textAreaRight" b="textAreaBottom"/>
              <a:pathLst>
                <a:path w="437033" h="500044">
                  <a:moveTo>
                    <a:pt x="347735" y="26779"/>
                  </a:moveTo>
                  <a:lnTo>
                    <a:pt x="347735" y="19091"/>
                  </a:lnTo>
                  <a:lnTo>
                    <a:pt x="346742" y="18677"/>
                  </a:lnTo>
                  <a:lnTo>
                    <a:pt x="342995" y="18217"/>
                  </a:lnTo>
                  <a:lnTo>
                    <a:pt x="341599" y="17103"/>
                  </a:lnTo>
                  <a:lnTo>
                    <a:pt x="340667" y="15368"/>
                  </a:lnTo>
                  <a:lnTo>
                    <a:pt x="340047" y="13218"/>
                  </a:lnTo>
                  <a:lnTo>
                    <a:pt x="338641" y="11785"/>
                  </a:lnTo>
                  <a:lnTo>
                    <a:pt x="336712" y="10830"/>
                  </a:lnTo>
                  <a:lnTo>
                    <a:pt x="331226" y="9297"/>
                  </a:lnTo>
                  <a:lnTo>
                    <a:pt x="323014" y="2858"/>
                  </a:lnTo>
                  <a:lnTo>
                    <a:pt x="317566" y="1264"/>
                  </a:lnTo>
                  <a:lnTo>
                    <a:pt x="305983" y="242"/>
                  </a:lnTo>
                  <a:lnTo>
                    <a:pt x="296118" y="64"/>
                  </a:lnTo>
                  <a:lnTo>
                    <a:pt x="274559" y="0"/>
                  </a:lnTo>
                  <a:lnTo>
                    <a:pt x="265272" y="2641"/>
                  </a:lnTo>
                  <a:lnTo>
                    <a:pt x="260017" y="4733"/>
                  </a:lnTo>
                  <a:lnTo>
                    <a:pt x="253538" y="6129"/>
                  </a:lnTo>
                  <a:lnTo>
                    <a:pt x="246242" y="7060"/>
                  </a:lnTo>
                  <a:lnTo>
                    <a:pt x="238401" y="7680"/>
                  </a:lnTo>
                  <a:lnTo>
                    <a:pt x="227043" y="11014"/>
                  </a:lnTo>
                  <a:lnTo>
                    <a:pt x="218688" y="14812"/>
                  </a:lnTo>
                  <a:lnTo>
                    <a:pt x="207414" y="17941"/>
                  </a:lnTo>
                  <a:lnTo>
                    <a:pt x="197396" y="22190"/>
                  </a:lnTo>
                  <a:lnTo>
                    <a:pt x="186329" y="27386"/>
                  </a:lnTo>
                  <a:lnTo>
                    <a:pt x="180600" y="30160"/>
                  </a:lnTo>
                  <a:lnTo>
                    <a:pt x="175788" y="33994"/>
                  </a:lnTo>
                  <a:lnTo>
                    <a:pt x="163284" y="47878"/>
                  </a:lnTo>
                  <a:lnTo>
                    <a:pt x="152978" y="55338"/>
                  </a:lnTo>
                  <a:lnTo>
                    <a:pt x="141784" y="61962"/>
                  </a:lnTo>
                  <a:lnTo>
                    <a:pt x="131186" y="68213"/>
                  </a:lnTo>
                  <a:lnTo>
                    <a:pt x="118648" y="78303"/>
                  </a:lnTo>
                  <a:lnTo>
                    <a:pt x="108336" y="88043"/>
                  </a:lnTo>
                  <a:lnTo>
                    <a:pt x="99783" y="98987"/>
                  </a:lnTo>
                  <a:lnTo>
                    <a:pt x="96113" y="104683"/>
                  </a:lnTo>
                  <a:lnTo>
                    <a:pt x="86745" y="113658"/>
                  </a:lnTo>
                  <a:lnTo>
                    <a:pt x="75966" y="121947"/>
                  </a:lnTo>
                  <a:lnTo>
                    <a:pt x="64561" y="132245"/>
                  </a:lnTo>
                  <a:lnTo>
                    <a:pt x="55523" y="143437"/>
                  </a:lnTo>
                  <a:lnTo>
                    <a:pt x="48199" y="155026"/>
                  </a:lnTo>
                  <a:lnTo>
                    <a:pt x="41637" y="166791"/>
                  </a:lnTo>
                  <a:lnTo>
                    <a:pt x="32364" y="184571"/>
                  </a:lnTo>
                  <a:lnTo>
                    <a:pt x="5434" y="238116"/>
                  </a:lnTo>
                  <a:lnTo>
                    <a:pt x="2125" y="250022"/>
                  </a:lnTo>
                  <a:lnTo>
                    <a:pt x="262" y="265235"/>
                  </a:lnTo>
                  <a:lnTo>
                    <a:pt x="0" y="269094"/>
                  </a:lnTo>
                  <a:lnTo>
                    <a:pt x="2356" y="278673"/>
                  </a:lnTo>
                  <a:lnTo>
                    <a:pt x="5718" y="289545"/>
                  </a:lnTo>
                  <a:lnTo>
                    <a:pt x="7212" y="300991"/>
                  </a:lnTo>
                  <a:lnTo>
                    <a:pt x="10521" y="310047"/>
                  </a:lnTo>
                  <a:lnTo>
                    <a:pt x="12793" y="313851"/>
                  </a:lnTo>
                  <a:lnTo>
                    <a:pt x="15318" y="323370"/>
                  </a:lnTo>
                  <a:lnTo>
                    <a:pt x="17432" y="334214"/>
                  </a:lnTo>
                  <a:lnTo>
                    <a:pt x="21678" y="345649"/>
                  </a:lnTo>
                  <a:lnTo>
                    <a:pt x="26873" y="357346"/>
                  </a:lnTo>
                  <a:lnTo>
                    <a:pt x="32489" y="368166"/>
                  </a:lnTo>
                  <a:lnTo>
                    <a:pt x="41229" y="380828"/>
                  </a:lnTo>
                  <a:lnTo>
                    <a:pt x="47138" y="391171"/>
                  </a:lnTo>
                  <a:lnTo>
                    <a:pt x="53071" y="402382"/>
                  </a:lnTo>
                  <a:lnTo>
                    <a:pt x="61990" y="417205"/>
                  </a:lnTo>
                  <a:lnTo>
                    <a:pt x="73893" y="431102"/>
                  </a:lnTo>
                  <a:lnTo>
                    <a:pt x="87562" y="445117"/>
                  </a:lnTo>
                  <a:lnTo>
                    <a:pt x="95842" y="450832"/>
                  </a:lnTo>
                  <a:lnTo>
                    <a:pt x="108728" y="456696"/>
                  </a:lnTo>
                  <a:lnTo>
                    <a:pt x="148428" y="476316"/>
                  </a:lnTo>
                  <a:lnTo>
                    <a:pt x="160266" y="479582"/>
                  </a:lnTo>
                  <a:lnTo>
                    <a:pt x="171150" y="481033"/>
                  </a:lnTo>
                  <a:lnTo>
                    <a:pt x="179294" y="481677"/>
                  </a:lnTo>
                  <a:lnTo>
                    <a:pt x="188868" y="484610"/>
                  </a:lnTo>
                  <a:lnTo>
                    <a:pt x="199737" y="488229"/>
                  </a:lnTo>
                  <a:lnTo>
                    <a:pt x="211182" y="489837"/>
                  </a:lnTo>
                  <a:lnTo>
                    <a:pt x="222883" y="490552"/>
                  </a:lnTo>
                  <a:lnTo>
                    <a:pt x="228782" y="490742"/>
                  </a:lnTo>
                  <a:lnTo>
                    <a:pt x="240628" y="493600"/>
                  </a:lnTo>
                  <a:lnTo>
                    <a:pt x="252507" y="497185"/>
                  </a:lnTo>
                  <a:lnTo>
                    <a:pt x="264401" y="498778"/>
                  </a:lnTo>
                  <a:lnTo>
                    <a:pt x="276302" y="499487"/>
                  </a:lnTo>
                  <a:lnTo>
                    <a:pt x="291513" y="499885"/>
                  </a:lnTo>
                  <a:lnTo>
                    <a:pt x="327267" y="500043"/>
                  </a:lnTo>
                  <a:lnTo>
                    <a:pt x="338969" y="497403"/>
                  </a:lnTo>
                  <a:lnTo>
                    <a:pt x="349792" y="493914"/>
                  </a:lnTo>
                  <a:lnTo>
                    <a:pt x="362456" y="491951"/>
                  </a:lnTo>
                  <a:lnTo>
                    <a:pt x="372798" y="491490"/>
                  </a:lnTo>
                  <a:lnTo>
                    <a:pt x="385037" y="491232"/>
                  </a:lnTo>
                  <a:lnTo>
                    <a:pt x="388478" y="490204"/>
                  </a:lnTo>
                  <a:lnTo>
                    <a:pt x="398061" y="485008"/>
                  </a:lnTo>
                  <a:lnTo>
                    <a:pt x="404167" y="483445"/>
                  </a:lnTo>
                  <a:lnTo>
                    <a:pt x="416172" y="482441"/>
                  </a:lnTo>
                  <a:lnTo>
                    <a:pt x="428746" y="482200"/>
                  </a:lnTo>
                  <a:lnTo>
                    <a:pt x="437032" y="48219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SMARTInkAnnotation20"/>
            <p:cNvSpPr/>
            <p:nvPr/>
          </p:nvSpPr>
          <p:spPr>
            <a:xfrm>
              <a:off x="3420000" y="5768280"/>
              <a:ext cx="508320" cy="43776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508457" h="437390">
                  <a:moveTo>
                    <a:pt x="285736" y="17748"/>
                  </a:moveTo>
                  <a:lnTo>
                    <a:pt x="280996" y="17748"/>
                  </a:lnTo>
                  <a:lnTo>
                    <a:pt x="278607" y="16755"/>
                  </a:lnTo>
                  <a:lnTo>
                    <a:pt x="269486" y="10059"/>
                  </a:lnTo>
                  <a:lnTo>
                    <a:pt x="265946" y="9369"/>
                  </a:lnTo>
                  <a:lnTo>
                    <a:pt x="263614" y="9186"/>
                  </a:lnTo>
                  <a:lnTo>
                    <a:pt x="261065" y="8071"/>
                  </a:lnTo>
                  <a:lnTo>
                    <a:pt x="252740" y="2753"/>
                  </a:lnTo>
                  <a:lnTo>
                    <a:pt x="246928" y="1162"/>
                  </a:lnTo>
                  <a:lnTo>
                    <a:pt x="234120" y="140"/>
                  </a:lnTo>
                  <a:lnTo>
                    <a:pt x="224431" y="0"/>
                  </a:lnTo>
                  <a:lnTo>
                    <a:pt x="220062" y="955"/>
                  </a:lnTo>
                  <a:lnTo>
                    <a:pt x="208179" y="6046"/>
                  </a:lnTo>
                  <a:lnTo>
                    <a:pt x="192532" y="8989"/>
                  </a:lnTo>
                  <a:lnTo>
                    <a:pt x="181143" y="13194"/>
                  </a:lnTo>
                  <a:lnTo>
                    <a:pt x="169466" y="18369"/>
                  </a:lnTo>
                  <a:lnTo>
                    <a:pt x="163575" y="21139"/>
                  </a:lnTo>
                  <a:lnTo>
                    <a:pt x="138507" y="34799"/>
                  </a:lnTo>
                  <a:lnTo>
                    <a:pt x="109176" y="51123"/>
                  </a:lnTo>
                  <a:lnTo>
                    <a:pt x="89525" y="61685"/>
                  </a:lnTo>
                  <a:lnTo>
                    <a:pt x="76823" y="72333"/>
                  </a:lnTo>
                  <a:lnTo>
                    <a:pt x="65886" y="83680"/>
                  </a:lnTo>
                  <a:lnTo>
                    <a:pt x="51103" y="95337"/>
                  </a:lnTo>
                  <a:lnTo>
                    <a:pt x="39903" y="107132"/>
                  </a:lnTo>
                  <a:lnTo>
                    <a:pt x="31618" y="117998"/>
                  </a:lnTo>
                  <a:lnTo>
                    <a:pt x="24628" y="126134"/>
                  </a:lnTo>
                  <a:lnTo>
                    <a:pt x="18215" y="138349"/>
                  </a:lnTo>
                  <a:lnTo>
                    <a:pt x="15115" y="145773"/>
                  </a:lnTo>
                  <a:lnTo>
                    <a:pt x="9026" y="159315"/>
                  </a:lnTo>
                  <a:lnTo>
                    <a:pt x="4004" y="171948"/>
                  </a:lnTo>
                  <a:lnTo>
                    <a:pt x="1772" y="184177"/>
                  </a:lnTo>
                  <a:lnTo>
                    <a:pt x="780" y="196226"/>
                  </a:lnTo>
                  <a:lnTo>
                    <a:pt x="339" y="208197"/>
                  </a:lnTo>
                  <a:lnTo>
                    <a:pt x="91" y="227084"/>
                  </a:lnTo>
                  <a:lnTo>
                    <a:pt x="0" y="263559"/>
                  </a:lnTo>
                  <a:lnTo>
                    <a:pt x="2639" y="276155"/>
                  </a:lnTo>
                  <a:lnTo>
                    <a:pt x="7119" y="288369"/>
                  </a:lnTo>
                  <a:lnTo>
                    <a:pt x="12416" y="300411"/>
                  </a:lnTo>
                  <a:lnTo>
                    <a:pt x="18079" y="312379"/>
                  </a:lnTo>
                  <a:lnTo>
                    <a:pt x="23903" y="325304"/>
                  </a:lnTo>
                  <a:lnTo>
                    <a:pt x="26844" y="332918"/>
                  </a:lnTo>
                  <a:lnTo>
                    <a:pt x="29799" y="340971"/>
                  </a:lnTo>
                  <a:lnTo>
                    <a:pt x="33752" y="347331"/>
                  </a:lnTo>
                  <a:lnTo>
                    <a:pt x="47805" y="362016"/>
                  </a:lnTo>
                  <a:lnTo>
                    <a:pt x="55304" y="372832"/>
                  </a:lnTo>
                  <a:lnTo>
                    <a:pt x="61945" y="384253"/>
                  </a:lnTo>
                  <a:lnTo>
                    <a:pt x="65104" y="390076"/>
                  </a:lnTo>
                  <a:lnTo>
                    <a:pt x="73907" y="399193"/>
                  </a:lnTo>
                  <a:lnTo>
                    <a:pt x="84434" y="406552"/>
                  </a:lnTo>
                  <a:lnTo>
                    <a:pt x="95727" y="413130"/>
                  </a:lnTo>
                  <a:lnTo>
                    <a:pt x="107360" y="419361"/>
                  </a:lnTo>
                  <a:lnTo>
                    <a:pt x="119146" y="424446"/>
                  </a:lnTo>
                  <a:lnTo>
                    <a:pt x="130998" y="426705"/>
                  </a:lnTo>
                  <a:lnTo>
                    <a:pt x="142880" y="430356"/>
                  </a:lnTo>
                  <a:lnTo>
                    <a:pt x="148827" y="432718"/>
                  </a:lnTo>
                  <a:lnTo>
                    <a:pt x="163372" y="435343"/>
                  </a:lnTo>
                  <a:lnTo>
                    <a:pt x="171418" y="436043"/>
                  </a:lnTo>
                  <a:lnTo>
                    <a:pt x="179758" y="436510"/>
                  </a:lnTo>
                  <a:lnTo>
                    <a:pt x="196963" y="437028"/>
                  </a:lnTo>
                  <a:lnTo>
                    <a:pt x="231443" y="437389"/>
                  </a:lnTo>
                  <a:lnTo>
                    <a:pt x="244739" y="436427"/>
                  </a:lnTo>
                  <a:lnTo>
                    <a:pt x="260570" y="432692"/>
                  </a:lnTo>
                  <a:lnTo>
                    <a:pt x="274882" y="430370"/>
                  </a:lnTo>
                  <a:lnTo>
                    <a:pt x="287858" y="428346"/>
                  </a:lnTo>
                  <a:lnTo>
                    <a:pt x="300239" y="424140"/>
                  </a:lnTo>
                  <a:lnTo>
                    <a:pt x="315002" y="421609"/>
                  </a:lnTo>
                  <a:lnTo>
                    <a:pt x="330494" y="419492"/>
                  </a:lnTo>
                  <a:lnTo>
                    <a:pt x="343993" y="415243"/>
                  </a:lnTo>
                  <a:lnTo>
                    <a:pt x="349379" y="411729"/>
                  </a:lnTo>
                  <a:lnTo>
                    <a:pt x="362691" y="398295"/>
                  </a:lnTo>
                  <a:lnTo>
                    <a:pt x="373186" y="390939"/>
                  </a:lnTo>
                  <a:lnTo>
                    <a:pt x="384465" y="384363"/>
                  </a:lnTo>
                  <a:lnTo>
                    <a:pt x="396092" y="378134"/>
                  </a:lnTo>
                  <a:lnTo>
                    <a:pt x="407874" y="372057"/>
                  </a:lnTo>
                  <a:lnTo>
                    <a:pt x="419725" y="363403"/>
                  </a:lnTo>
                  <a:lnTo>
                    <a:pt x="434908" y="350021"/>
                  </a:lnTo>
                  <a:lnTo>
                    <a:pt x="448337" y="337126"/>
                  </a:lnTo>
                  <a:lnTo>
                    <a:pt x="453668" y="331869"/>
                  </a:lnTo>
                  <a:lnTo>
                    <a:pt x="457222" y="326381"/>
                  </a:lnTo>
                  <a:lnTo>
                    <a:pt x="461171" y="314991"/>
                  </a:lnTo>
                  <a:lnTo>
                    <a:pt x="465572" y="303314"/>
                  </a:lnTo>
                  <a:lnTo>
                    <a:pt x="470835" y="291509"/>
                  </a:lnTo>
                  <a:lnTo>
                    <a:pt x="476481" y="279649"/>
                  </a:lnTo>
                  <a:lnTo>
                    <a:pt x="485238" y="266555"/>
                  </a:lnTo>
                  <a:lnTo>
                    <a:pt x="491151" y="256982"/>
                  </a:lnTo>
                  <a:lnTo>
                    <a:pt x="497087" y="246114"/>
                  </a:lnTo>
                  <a:lnTo>
                    <a:pt x="503031" y="234668"/>
                  </a:lnTo>
                  <a:lnTo>
                    <a:pt x="506335" y="222966"/>
                  </a:lnTo>
                  <a:lnTo>
                    <a:pt x="507804" y="210159"/>
                  </a:lnTo>
                  <a:lnTo>
                    <a:pt x="508195" y="202577"/>
                  </a:lnTo>
                  <a:lnTo>
                    <a:pt x="508456" y="194546"/>
                  </a:lnTo>
                  <a:lnTo>
                    <a:pt x="507638" y="188199"/>
                  </a:lnTo>
                  <a:lnTo>
                    <a:pt x="504083" y="178501"/>
                  </a:lnTo>
                  <a:lnTo>
                    <a:pt x="501842" y="168238"/>
                  </a:lnTo>
                  <a:lnTo>
                    <a:pt x="499853" y="157062"/>
                  </a:lnTo>
                  <a:lnTo>
                    <a:pt x="495662" y="145480"/>
                  </a:lnTo>
                  <a:lnTo>
                    <a:pt x="490492" y="133718"/>
                  </a:lnTo>
                  <a:lnTo>
                    <a:pt x="485880" y="121876"/>
                  </a:lnTo>
                  <a:lnTo>
                    <a:pt x="483830" y="109998"/>
                  </a:lnTo>
                  <a:lnTo>
                    <a:pt x="481298" y="105045"/>
                  </a:lnTo>
                  <a:lnTo>
                    <a:pt x="477627" y="100750"/>
                  </a:lnTo>
                  <a:lnTo>
                    <a:pt x="469248" y="92341"/>
                  </a:lnTo>
                  <a:lnTo>
                    <a:pt x="462216" y="81989"/>
                  </a:lnTo>
                  <a:lnTo>
                    <a:pt x="453137" y="73419"/>
                  </a:lnTo>
                  <a:lnTo>
                    <a:pt x="442489" y="66303"/>
                  </a:lnTo>
                  <a:lnTo>
                    <a:pt x="431141" y="59833"/>
                  </a:lnTo>
                  <a:lnTo>
                    <a:pt x="419483" y="53650"/>
                  </a:lnTo>
                  <a:lnTo>
                    <a:pt x="395830" y="41596"/>
                  </a:lnTo>
                  <a:lnTo>
                    <a:pt x="381299" y="35624"/>
                  </a:lnTo>
                  <a:lnTo>
                    <a:pt x="365912" y="30653"/>
                  </a:lnTo>
                  <a:lnTo>
                    <a:pt x="352459" y="28444"/>
                  </a:lnTo>
                  <a:lnTo>
                    <a:pt x="339865" y="24817"/>
                  </a:lnTo>
                  <a:lnTo>
                    <a:pt x="324264" y="19842"/>
                  </a:lnTo>
                  <a:lnTo>
                    <a:pt x="312525" y="177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SMARTInkAnnotation21"/>
            <p:cNvSpPr/>
            <p:nvPr/>
          </p:nvSpPr>
          <p:spPr>
            <a:xfrm>
              <a:off x="4027320" y="6134760"/>
              <a:ext cx="106920" cy="71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07157" h="71439">
                  <a:moveTo>
                    <a:pt x="0" y="0"/>
                  </a:moveTo>
                  <a:lnTo>
                    <a:pt x="38732" y="0"/>
                  </a:lnTo>
                  <a:lnTo>
                    <a:pt x="41696" y="993"/>
                  </a:lnTo>
                  <a:lnTo>
                    <a:pt x="44664" y="2646"/>
                  </a:lnTo>
                  <a:lnTo>
                    <a:pt x="47636" y="4741"/>
                  </a:lnTo>
                  <a:lnTo>
                    <a:pt x="50609" y="6138"/>
                  </a:lnTo>
                  <a:lnTo>
                    <a:pt x="53583" y="7068"/>
                  </a:lnTo>
                  <a:lnTo>
                    <a:pt x="56558" y="7689"/>
                  </a:lnTo>
                  <a:lnTo>
                    <a:pt x="59533" y="9095"/>
                  </a:lnTo>
                  <a:lnTo>
                    <a:pt x="62509" y="11024"/>
                  </a:lnTo>
                  <a:lnTo>
                    <a:pt x="65485" y="13302"/>
                  </a:lnTo>
                  <a:lnTo>
                    <a:pt x="68462" y="15814"/>
                  </a:lnTo>
                  <a:lnTo>
                    <a:pt x="71438" y="18481"/>
                  </a:lnTo>
                  <a:lnTo>
                    <a:pt x="77391" y="24089"/>
                  </a:lnTo>
                  <a:lnTo>
                    <a:pt x="92273" y="38732"/>
                  </a:lnTo>
                  <a:lnTo>
                    <a:pt x="94258" y="41696"/>
                  </a:lnTo>
                  <a:lnTo>
                    <a:pt x="95581" y="44665"/>
                  </a:lnTo>
                  <a:lnTo>
                    <a:pt x="96463" y="47636"/>
                  </a:lnTo>
                  <a:lnTo>
                    <a:pt x="98043" y="50609"/>
                  </a:lnTo>
                  <a:lnTo>
                    <a:pt x="100089" y="53583"/>
                  </a:lnTo>
                  <a:lnTo>
                    <a:pt x="102445" y="56558"/>
                  </a:lnTo>
                  <a:lnTo>
                    <a:pt x="104015" y="59534"/>
                  </a:lnTo>
                  <a:lnTo>
                    <a:pt x="105061" y="62510"/>
                  </a:lnTo>
                  <a:lnTo>
                    <a:pt x="107156" y="714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SMARTInkAnnotation22"/>
            <p:cNvSpPr/>
            <p:nvPr/>
          </p:nvSpPr>
          <p:spPr>
            <a:xfrm>
              <a:off x="4018320" y="6269040"/>
              <a:ext cx="115920" cy="802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16076" h="80217">
                  <a:moveTo>
                    <a:pt x="62497" y="80216"/>
                  </a:moveTo>
                  <a:lnTo>
                    <a:pt x="40633" y="80216"/>
                  </a:lnTo>
                  <a:lnTo>
                    <a:pt x="37999" y="79223"/>
                  </a:lnTo>
                  <a:lnTo>
                    <a:pt x="35251" y="77570"/>
                  </a:lnTo>
                  <a:lnTo>
                    <a:pt x="32427" y="75475"/>
                  </a:lnTo>
                  <a:lnTo>
                    <a:pt x="29552" y="73087"/>
                  </a:lnTo>
                  <a:lnTo>
                    <a:pt x="26642" y="70502"/>
                  </a:lnTo>
                  <a:lnTo>
                    <a:pt x="23712" y="67787"/>
                  </a:lnTo>
                  <a:lnTo>
                    <a:pt x="20765" y="65977"/>
                  </a:lnTo>
                  <a:lnTo>
                    <a:pt x="17808" y="64770"/>
                  </a:lnTo>
                  <a:lnTo>
                    <a:pt x="14845" y="63965"/>
                  </a:lnTo>
                  <a:lnTo>
                    <a:pt x="12869" y="62437"/>
                  </a:lnTo>
                  <a:lnTo>
                    <a:pt x="11553" y="60426"/>
                  </a:lnTo>
                  <a:lnTo>
                    <a:pt x="10674" y="58092"/>
                  </a:lnTo>
                  <a:lnTo>
                    <a:pt x="9097" y="55545"/>
                  </a:lnTo>
                  <a:lnTo>
                    <a:pt x="7053" y="52855"/>
                  </a:lnTo>
                  <a:lnTo>
                    <a:pt x="4698" y="50068"/>
                  </a:lnTo>
                  <a:lnTo>
                    <a:pt x="3129" y="47219"/>
                  </a:lnTo>
                  <a:lnTo>
                    <a:pt x="2082" y="44327"/>
                  </a:lnTo>
                  <a:lnTo>
                    <a:pt x="1385" y="41407"/>
                  </a:lnTo>
                  <a:lnTo>
                    <a:pt x="919" y="38469"/>
                  </a:lnTo>
                  <a:lnTo>
                    <a:pt x="609" y="35517"/>
                  </a:lnTo>
                  <a:lnTo>
                    <a:pt x="111" y="28391"/>
                  </a:lnTo>
                  <a:lnTo>
                    <a:pt x="43" y="24772"/>
                  </a:lnTo>
                  <a:lnTo>
                    <a:pt x="0" y="14363"/>
                  </a:lnTo>
                  <a:lnTo>
                    <a:pt x="2973" y="11510"/>
                  </a:lnTo>
                  <a:lnTo>
                    <a:pt x="7931" y="8614"/>
                  </a:lnTo>
                  <a:lnTo>
                    <a:pt x="14213" y="5692"/>
                  </a:lnTo>
                  <a:lnTo>
                    <a:pt x="19394" y="3744"/>
                  </a:lnTo>
                  <a:lnTo>
                    <a:pt x="23839" y="2445"/>
                  </a:lnTo>
                  <a:lnTo>
                    <a:pt x="27796" y="1580"/>
                  </a:lnTo>
                  <a:lnTo>
                    <a:pt x="31425" y="1002"/>
                  </a:lnTo>
                  <a:lnTo>
                    <a:pt x="34837" y="618"/>
                  </a:lnTo>
                  <a:lnTo>
                    <a:pt x="38104" y="361"/>
                  </a:lnTo>
                  <a:lnTo>
                    <a:pt x="41274" y="190"/>
                  </a:lnTo>
                  <a:lnTo>
                    <a:pt x="47442" y="0"/>
                  </a:lnTo>
                  <a:lnTo>
                    <a:pt x="51468" y="942"/>
                  </a:lnTo>
                  <a:lnTo>
                    <a:pt x="56136" y="2562"/>
                  </a:lnTo>
                  <a:lnTo>
                    <a:pt x="61234" y="4634"/>
                  </a:lnTo>
                  <a:lnTo>
                    <a:pt x="65623" y="6016"/>
                  </a:lnTo>
                  <a:lnTo>
                    <a:pt x="69542" y="6937"/>
                  </a:lnTo>
                  <a:lnTo>
                    <a:pt x="73147" y="7550"/>
                  </a:lnTo>
                  <a:lnTo>
                    <a:pt x="77535" y="8952"/>
                  </a:lnTo>
                  <a:lnTo>
                    <a:pt x="82444" y="10878"/>
                  </a:lnTo>
                  <a:lnTo>
                    <a:pt x="87701" y="13154"/>
                  </a:lnTo>
                  <a:lnTo>
                    <a:pt x="98834" y="18330"/>
                  </a:lnTo>
                  <a:lnTo>
                    <a:pt x="116075" y="266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4920" bIns="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MARTInkAnnotation23"/>
            <p:cNvSpPr/>
            <p:nvPr/>
          </p:nvSpPr>
          <p:spPr>
            <a:xfrm>
              <a:off x="4037400" y="6170400"/>
              <a:ext cx="177120" cy="21456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177340" h="214279">
                  <a:moveTo>
                    <a:pt x="61253" y="0"/>
                  </a:moveTo>
                  <a:lnTo>
                    <a:pt x="61253" y="4740"/>
                  </a:lnTo>
                  <a:lnTo>
                    <a:pt x="62245" y="6137"/>
                  </a:lnTo>
                  <a:lnTo>
                    <a:pt x="63898" y="7068"/>
                  </a:lnTo>
                  <a:lnTo>
                    <a:pt x="68941" y="8562"/>
                  </a:lnTo>
                  <a:lnTo>
                    <a:pt x="72277" y="8766"/>
                  </a:lnTo>
                  <a:lnTo>
                    <a:pt x="74556" y="8821"/>
                  </a:lnTo>
                  <a:lnTo>
                    <a:pt x="77066" y="9849"/>
                  </a:lnTo>
                  <a:lnTo>
                    <a:pt x="82502" y="13638"/>
                  </a:lnTo>
                  <a:lnTo>
                    <a:pt x="85341" y="15045"/>
                  </a:lnTo>
                  <a:lnTo>
                    <a:pt x="88226" y="15984"/>
                  </a:lnTo>
                  <a:lnTo>
                    <a:pt x="91141" y="16609"/>
                  </a:lnTo>
                  <a:lnTo>
                    <a:pt x="94077" y="18018"/>
                  </a:lnTo>
                  <a:lnTo>
                    <a:pt x="97026" y="19950"/>
                  </a:lnTo>
                  <a:lnTo>
                    <a:pt x="99984" y="22229"/>
                  </a:lnTo>
                  <a:lnTo>
                    <a:pt x="102949" y="24742"/>
                  </a:lnTo>
                  <a:lnTo>
                    <a:pt x="105918" y="27408"/>
                  </a:lnTo>
                  <a:lnTo>
                    <a:pt x="108888" y="30179"/>
                  </a:lnTo>
                  <a:lnTo>
                    <a:pt x="110869" y="33017"/>
                  </a:lnTo>
                  <a:lnTo>
                    <a:pt x="113070" y="38818"/>
                  </a:lnTo>
                  <a:lnTo>
                    <a:pt x="116694" y="44702"/>
                  </a:lnTo>
                  <a:lnTo>
                    <a:pt x="119049" y="47661"/>
                  </a:lnTo>
                  <a:lnTo>
                    <a:pt x="121612" y="49634"/>
                  </a:lnTo>
                  <a:lnTo>
                    <a:pt x="124312" y="50948"/>
                  </a:lnTo>
                  <a:lnTo>
                    <a:pt x="127106" y="51824"/>
                  </a:lnTo>
                  <a:lnTo>
                    <a:pt x="128966" y="53401"/>
                  </a:lnTo>
                  <a:lnTo>
                    <a:pt x="130208" y="55445"/>
                  </a:lnTo>
                  <a:lnTo>
                    <a:pt x="131036" y="57800"/>
                  </a:lnTo>
                  <a:lnTo>
                    <a:pt x="134601" y="63061"/>
                  </a:lnTo>
                  <a:lnTo>
                    <a:pt x="136940" y="65853"/>
                  </a:lnTo>
                  <a:lnTo>
                    <a:pt x="138501" y="68707"/>
                  </a:lnTo>
                  <a:lnTo>
                    <a:pt x="140233" y="74524"/>
                  </a:lnTo>
                  <a:lnTo>
                    <a:pt x="141003" y="80416"/>
                  </a:lnTo>
                  <a:lnTo>
                    <a:pt x="141346" y="86342"/>
                  </a:lnTo>
                  <a:lnTo>
                    <a:pt x="141498" y="92283"/>
                  </a:lnTo>
                  <a:lnTo>
                    <a:pt x="141620" y="145851"/>
                  </a:lnTo>
                  <a:lnTo>
                    <a:pt x="140627" y="148829"/>
                  </a:lnTo>
                  <a:lnTo>
                    <a:pt x="136879" y="154781"/>
                  </a:lnTo>
                  <a:lnTo>
                    <a:pt x="134552" y="160734"/>
                  </a:lnTo>
                  <a:lnTo>
                    <a:pt x="133931" y="163711"/>
                  </a:lnTo>
                  <a:lnTo>
                    <a:pt x="130596" y="169664"/>
                  </a:lnTo>
                  <a:lnTo>
                    <a:pt x="125111" y="176830"/>
                  </a:lnTo>
                  <a:lnTo>
                    <a:pt x="121714" y="180456"/>
                  </a:lnTo>
                  <a:lnTo>
                    <a:pt x="111451" y="190868"/>
                  </a:lnTo>
                  <a:lnTo>
                    <a:pt x="109600" y="193722"/>
                  </a:lnTo>
                  <a:lnTo>
                    <a:pt x="107545" y="199539"/>
                  </a:lnTo>
                  <a:lnTo>
                    <a:pt x="106005" y="201487"/>
                  </a:lnTo>
                  <a:lnTo>
                    <a:pt x="103986" y="202786"/>
                  </a:lnTo>
                  <a:lnTo>
                    <a:pt x="99096" y="204228"/>
                  </a:lnTo>
                  <a:lnTo>
                    <a:pt x="93616" y="204870"/>
                  </a:lnTo>
                  <a:lnTo>
                    <a:pt x="90766" y="206032"/>
                  </a:lnTo>
                  <a:lnTo>
                    <a:pt x="87873" y="207800"/>
                  </a:lnTo>
                  <a:lnTo>
                    <a:pt x="80843" y="213026"/>
                  </a:lnTo>
                  <a:lnTo>
                    <a:pt x="77235" y="213741"/>
                  </a:lnTo>
                  <a:lnTo>
                    <a:pt x="72325" y="214059"/>
                  </a:lnTo>
                  <a:lnTo>
                    <a:pt x="62907" y="214278"/>
                  </a:lnTo>
                  <a:lnTo>
                    <a:pt x="59342" y="211652"/>
                  </a:lnTo>
                  <a:lnTo>
                    <a:pt x="57002" y="209562"/>
                  </a:lnTo>
                  <a:lnTo>
                    <a:pt x="54451" y="208169"/>
                  </a:lnTo>
                  <a:lnTo>
                    <a:pt x="48969" y="206621"/>
                  </a:lnTo>
                  <a:lnTo>
                    <a:pt x="43503" y="205627"/>
                  </a:lnTo>
                  <a:lnTo>
                    <a:pt x="39143" y="205492"/>
                  </a:lnTo>
                  <a:lnTo>
                    <a:pt x="37583" y="204463"/>
                  </a:lnTo>
                  <a:lnTo>
                    <a:pt x="36543" y="202785"/>
                  </a:lnTo>
                  <a:lnTo>
                    <a:pt x="35850" y="200675"/>
                  </a:lnTo>
                  <a:lnTo>
                    <a:pt x="32434" y="195683"/>
                  </a:lnTo>
                  <a:lnTo>
                    <a:pt x="27608" y="189166"/>
                  </a:lnTo>
                  <a:lnTo>
                    <a:pt x="24933" y="184649"/>
                  </a:lnTo>
                  <a:lnTo>
                    <a:pt x="22156" y="179654"/>
                  </a:lnTo>
                  <a:lnTo>
                    <a:pt x="19314" y="175332"/>
                  </a:lnTo>
                  <a:lnTo>
                    <a:pt x="16426" y="171458"/>
                  </a:lnTo>
                  <a:lnTo>
                    <a:pt x="9404" y="162853"/>
                  </a:lnTo>
                  <a:lnTo>
                    <a:pt x="8827" y="161155"/>
                  </a:lnTo>
                  <a:lnTo>
                    <a:pt x="8187" y="156622"/>
                  </a:lnTo>
                  <a:lnTo>
                    <a:pt x="7902" y="151300"/>
                  </a:lnTo>
                  <a:lnTo>
                    <a:pt x="7826" y="148491"/>
                  </a:lnTo>
                  <a:lnTo>
                    <a:pt x="6784" y="145627"/>
                  </a:lnTo>
                  <a:lnTo>
                    <a:pt x="2979" y="139799"/>
                  </a:lnTo>
                  <a:lnTo>
                    <a:pt x="0" y="135680"/>
                  </a:lnTo>
                  <a:lnTo>
                    <a:pt x="573" y="134109"/>
                  </a:lnTo>
                  <a:lnTo>
                    <a:pt x="5130" y="128151"/>
                  </a:lnTo>
                  <a:lnTo>
                    <a:pt x="7340" y="125429"/>
                  </a:lnTo>
                  <a:lnTo>
                    <a:pt x="7608" y="118960"/>
                  </a:lnTo>
                  <a:lnTo>
                    <a:pt x="7645" y="117363"/>
                  </a:lnTo>
                  <a:lnTo>
                    <a:pt x="8648" y="116938"/>
                  </a:lnTo>
                  <a:lnTo>
                    <a:pt x="12406" y="116464"/>
                  </a:lnTo>
                  <a:lnTo>
                    <a:pt x="17385" y="116254"/>
                  </a:lnTo>
                  <a:lnTo>
                    <a:pt x="25453" y="116108"/>
                  </a:lnTo>
                  <a:lnTo>
                    <a:pt x="46483" y="116087"/>
                  </a:lnTo>
                  <a:lnTo>
                    <a:pt x="49422" y="117079"/>
                  </a:lnTo>
                  <a:lnTo>
                    <a:pt x="52373" y="118732"/>
                  </a:lnTo>
                  <a:lnTo>
                    <a:pt x="55333" y="120826"/>
                  </a:lnTo>
                  <a:lnTo>
                    <a:pt x="58299" y="122222"/>
                  </a:lnTo>
                  <a:lnTo>
                    <a:pt x="61267" y="123154"/>
                  </a:lnTo>
                  <a:lnTo>
                    <a:pt x="64239" y="123775"/>
                  </a:lnTo>
                  <a:lnTo>
                    <a:pt x="67213" y="125180"/>
                  </a:lnTo>
                  <a:lnTo>
                    <a:pt x="70187" y="127110"/>
                  </a:lnTo>
                  <a:lnTo>
                    <a:pt x="73162" y="129388"/>
                  </a:lnTo>
                  <a:lnTo>
                    <a:pt x="76137" y="131899"/>
                  </a:lnTo>
                  <a:lnTo>
                    <a:pt x="79113" y="134566"/>
                  </a:lnTo>
                  <a:lnTo>
                    <a:pt x="85066" y="140174"/>
                  </a:lnTo>
                  <a:lnTo>
                    <a:pt x="91019" y="145974"/>
                  </a:lnTo>
                  <a:lnTo>
                    <a:pt x="94987" y="147917"/>
                  </a:lnTo>
                  <a:lnTo>
                    <a:pt x="99617" y="149214"/>
                  </a:lnTo>
                  <a:lnTo>
                    <a:pt x="104689" y="150077"/>
                  </a:lnTo>
                  <a:lnTo>
                    <a:pt x="109061" y="151645"/>
                  </a:lnTo>
                  <a:lnTo>
                    <a:pt x="112969" y="153683"/>
                  </a:lnTo>
                  <a:lnTo>
                    <a:pt x="116566" y="156033"/>
                  </a:lnTo>
                  <a:lnTo>
                    <a:pt x="120949" y="158593"/>
                  </a:lnTo>
                  <a:lnTo>
                    <a:pt x="125855" y="161291"/>
                  </a:lnTo>
                  <a:lnTo>
                    <a:pt x="131110" y="164082"/>
                  </a:lnTo>
                  <a:lnTo>
                    <a:pt x="135605" y="166934"/>
                  </a:lnTo>
                  <a:lnTo>
                    <a:pt x="139595" y="169829"/>
                  </a:lnTo>
                  <a:lnTo>
                    <a:pt x="143246" y="172750"/>
                  </a:lnTo>
                  <a:lnTo>
                    <a:pt x="146673" y="174698"/>
                  </a:lnTo>
                  <a:lnTo>
                    <a:pt x="149949" y="175997"/>
                  </a:lnTo>
                  <a:lnTo>
                    <a:pt x="153126" y="176863"/>
                  </a:lnTo>
                  <a:lnTo>
                    <a:pt x="156236" y="178431"/>
                  </a:lnTo>
                  <a:lnTo>
                    <a:pt x="159301" y="180470"/>
                  </a:lnTo>
                  <a:lnTo>
                    <a:pt x="162337" y="182821"/>
                  </a:lnTo>
                  <a:lnTo>
                    <a:pt x="164361" y="185381"/>
                  </a:lnTo>
                  <a:lnTo>
                    <a:pt x="165711" y="188079"/>
                  </a:lnTo>
                  <a:lnTo>
                    <a:pt x="166610" y="190871"/>
                  </a:lnTo>
                  <a:lnTo>
                    <a:pt x="170255" y="196618"/>
                  </a:lnTo>
                  <a:lnTo>
                    <a:pt x="177339" y="20538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MARTInkAnnotation24"/>
            <p:cNvSpPr/>
            <p:nvPr/>
          </p:nvSpPr>
          <p:spPr>
            <a:xfrm>
              <a:off x="4956120" y="5776920"/>
              <a:ext cx="464400" cy="45576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464331" h="455296">
                  <a:moveTo>
                    <a:pt x="205372" y="26789"/>
                  </a:moveTo>
                  <a:lnTo>
                    <a:pt x="200632" y="26789"/>
                  </a:lnTo>
                  <a:lnTo>
                    <a:pt x="199235" y="25796"/>
                  </a:lnTo>
                  <a:lnTo>
                    <a:pt x="198305" y="24143"/>
                  </a:lnTo>
                  <a:lnTo>
                    <a:pt x="197684" y="22048"/>
                  </a:lnTo>
                  <a:lnTo>
                    <a:pt x="196278" y="20651"/>
                  </a:lnTo>
                  <a:lnTo>
                    <a:pt x="194348" y="19721"/>
                  </a:lnTo>
                  <a:lnTo>
                    <a:pt x="189559" y="18687"/>
                  </a:lnTo>
                  <a:lnTo>
                    <a:pt x="176666" y="17908"/>
                  </a:lnTo>
                  <a:lnTo>
                    <a:pt x="139878" y="17860"/>
                  </a:lnTo>
                  <a:lnTo>
                    <a:pt x="136905" y="18851"/>
                  </a:lnTo>
                  <a:lnTo>
                    <a:pt x="130955" y="22600"/>
                  </a:lnTo>
                  <a:lnTo>
                    <a:pt x="122358" y="24927"/>
                  </a:lnTo>
                  <a:lnTo>
                    <a:pt x="117287" y="25548"/>
                  </a:lnTo>
                  <a:lnTo>
                    <a:pt x="112914" y="26954"/>
                  </a:lnTo>
                  <a:lnTo>
                    <a:pt x="105409" y="31161"/>
                  </a:lnTo>
                  <a:lnTo>
                    <a:pt x="91515" y="41948"/>
                  </a:lnTo>
                  <a:lnTo>
                    <a:pt x="77269" y="50684"/>
                  </a:lnTo>
                  <a:lnTo>
                    <a:pt x="63063" y="62524"/>
                  </a:lnTo>
                  <a:lnTo>
                    <a:pt x="59898" y="65495"/>
                  </a:lnTo>
                  <a:lnTo>
                    <a:pt x="50703" y="79157"/>
                  </a:lnTo>
                  <a:lnTo>
                    <a:pt x="38706" y="95415"/>
                  </a:lnTo>
                  <a:lnTo>
                    <a:pt x="32741" y="105576"/>
                  </a:lnTo>
                  <a:lnTo>
                    <a:pt x="23805" y="117712"/>
                  </a:lnTo>
                  <a:lnTo>
                    <a:pt x="20827" y="124115"/>
                  </a:lnTo>
                  <a:lnTo>
                    <a:pt x="17850" y="132353"/>
                  </a:lnTo>
                  <a:lnTo>
                    <a:pt x="14874" y="141814"/>
                  </a:lnTo>
                  <a:lnTo>
                    <a:pt x="12888" y="150105"/>
                  </a:lnTo>
                  <a:lnTo>
                    <a:pt x="11565" y="157617"/>
                  </a:lnTo>
                  <a:lnTo>
                    <a:pt x="9102" y="171254"/>
                  </a:lnTo>
                  <a:lnTo>
                    <a:pt x="4701" y="183931"/>
                  </a:lnTo>
                  <a:lnTo>
                    <a:pt x="2083" y="196179"/>
                  </a:lnTo>
                  <a:lnTo>
                    <a:pt x="920" y="208237"/>
                  </a:lnTo>
                  <a:lnTo>
                    <a:pt x="403" y="220212"/>
                  </a:lnTo>
                  <a:lnTo>
                    <a:pt x="112" y="238109"/>
                  </a:lnTo>
                  <a:lnTo>
                    <a:pt x="0" y="281531"/>
                  </a:lnTo>
                  <a:lnTo>
                    <a:pt x="2641" y="294128"/>
                  </a:lnTo>
                  <a:lnTo>
                    <a:pt x="7120" y="305348"/>
                  </a:lnTo>
                  <a:lnTo>
                    <a:pt x="15220" y="318235"/>
                  </a:lnTo>
                  <a:lnTo>
                    <a:pt x="20981" y="328631"/>
                  </a:lnTo>
                  <a:lnTo>
                    <a:pt x="29801" y="345639"/>
                  </a:lnTo>
                  <a:lnTo>
                    <a:pt x="38698" y="358506"/>
                  </a:lnTo>
                  <a:lnTo>
                    <a:pt x="47290" y="368026"/>
                  </a:lnTo>
                  <a:lnTo>
                    <a:pt x="64234" y="385566"/>
                  </a:lnTo>
                  <a:lnTo>
                    <a:pt x="73522" y="392289"/>
                  </a:lnTo>
                  <a:lnTo>
                    <a:pt x="84264" y="398585"/>
                  </a:lnTo>
                  <a:lnTo>
                    <a:pt x="95653" y="404691"/>
                  </a:lnTo>
                  <a:lnTo>
                    <a:pt x="107330" y="413357"/>
                  </a:lnTo>
                  <a:lnTo>
                    <a:pt x="113221" y="418446"/>
                  </a:lnTo>
                  <a:lnTo>
                    <a:pt x="119134" y="421840"/>
                  </a:lnTo>
                  <a:lnTo>
                    <a:pt x="130994" y="425609"/>
                  </a:lnTo>
                  <a:lnTo>
                    <a:pt x="137927" y="427606"/>
                  </a:lnTo>
                  <a:lnTo>
                    <a:pt x="153569" y="432471"/>
                  </a:lnTo>
                  <a:lnTo>
                    <a:pt x="167796" y="435295"/>
                  </a:lnTo>
                  <a:lnTo>
                    <a:pt x="180734" y="437542"/>
                  </a:lnTo>
                  <a:lnTo>
                    <a:pt x="193099" y="441848"/>
                  </a:lnTo>
                  <a:lnTo>
                    <a:pt x="205209" y="444423"/>
                  </a:lnTo>
                  <a:lnTo>
                    <a:pt x="218198" y="446561"/>
                  </a:lnTo>
                  <a:lnTo>
                    <a:pt x="225828" y="448519"/>
                  </a:lnTo>
                  <a:lnTo>
                    <a:pt x="233893" y="450817"/>
                  </a:lnTo>
                  <a:lnTo>
                    <a:pt x="248144" y="453371"/>
                  </a:lnTo>
                  <a:lnTo>
                    <a:pt x="261093" y="454506"/>
                  </a:lnTo>
                  <a:lnTo>
                    <a:pt x="273463" y="455010"/>
                  </a:lnTo>
                  <a:lnTo>
                    <a:pt x="296323" y="455295"/>
                  </a:lnTo>
                  <a:lnTo>
                    <a:pt x="310618" y="452715"/>
                  </a:lnTo>
                  <a:lnTo>
                    <a:pt x="323585" y="449254"/>
                  </a:lnTo>
                  <a:lnTo>
                    <a:pt x="335963" y="447715"/>
                  </a:lnTo>
                  <a:lnTo>
                    <a:pt x="348079" y="444385"/>
                  </a:lnTo>
                  <a:lnTo>
                    <a:pt x="359087" y="440590"/>
                  </a:lnTo>
                  <a:lnTo>
                    <a:pt x="367286" y="438904"/>
                  </a:lnTo>
                  <a:lnTo>
                    <a:pt x="376883" y="432863"/>
                  </a:lnTo>
                  <a:lnTo>
                    <a:pt x="390797" y="420951"/>
                  </a:lnTo>
                  <a:lnTo>
                    <a:pt x="404387" y="408037"/>
                  </a:lnTo>
                  <a:lnTo>
                    <a:pt x="422625" y="389952"/>
                  </a:lnTo>
                  <a:lnTo>
                    <a:pt x="431580" y="376266"/>
                  </a:lnTo>
                  <a:lnTo>
                    <a:pt x="440517" y="364383"/>
                  </a:lnTo>
                  <a:lnTo>
                    <a:pt x="449449" y="354579"/>
                  </a:lnTo>
                  <a:lnTo>
                    <a:pt x="451434" y="350487"/>
                  </a:lnTo>
                  <a:lnTo>
                    <a:pt x="455220" y="335248"/>
                  </a:lnTo>
                  <a:lnTo>
                    <a:pt x="459622" y="323955"/>
                  </a:lnTo>
                  <a:lnTo>
                    <a:pt x="462238" y="312321"/>
                  </a:lnTo>
                  <a:lnTo>
                    <a:pt x="463402" y="300536"/>
                  </a:lnTo>
                  <a:lnTo>
                    <a:pt x="463919" y="288683"/>
                  </a:lnTo>
                  <a:lnTo>
                    <a:pt x="464210" y="275595"/>
                  </a:lnTo>
                  <a:lnTo>
                    <a:pt x="464330" y="226109"/>
                  </a:lnTo>
                  <a:lnTo>
                    <a:pt x="463339" y="221185"/>
                  </a:lnTo>
                  <a:lnTo>
                    <a:pt x="458196" y="208521"/>
                  </a:lnTo>
                  <a:lnTo>
                    <a:pt x="456645" y="198179"/>
                  </a:lnTo>
                  <a:lnTo>
                    <a:pt x="453309" y="186967"/>
                  </a:lnTo>
                  <a:lnTo>
                    <a:pt x="448520" y="175371"/>
                  </a:lnTo>
                  <a:lnTo>
                    <a:pt x="443083" y="163601"/>
                  </a:lnTo>
                  <a:lnTo>
                    <a:pt x="434445" y="150559"/>
                  </a:lnTo>
                  <a:lnTo>
                    <a:pt x="428560" y="140999"/>
                  </a:lnTo>
                  <a:lnTo>
                    <a:pt x="419669" y="127106"/>
                  </a:lnTo>
                  <a:lnTo>
                    <a:pt x="386388" y="85860"/>
                  </a:lnTo>
                  <a:lnTo>
                    <a:pt x="375783" y="73548"/>
                  </a:lnTo>
                  <a:lnTo>
                    <a:pt x="365115" y="62123"/>
                  </a:lnTo>
                  <a:lnTo>
                    <a:pt x="346839" y="43359"/>
                  </a:lnTo>
                  <a:lnTo>
                    <a:pt x="337369" y="36469"/>
                  </a:lnTo>
                  <a:lnTo>
                    <a:pt x="326545" y="30099"/>
                  </a:lnTo>
                  <a:lnTo>
                    <a:pt x="315120" y="23961"/>
                  </a:lnTo>
                  <a:lnTo>
                    <a:pt x="297531" y="14926"/>
                  </a:lnTo>
                  <a:lnTo>
                    <a:pt x="285689" y="11594"/>
                  </a:lnTo>
                  <a:lnTo>
                    <a:pt x="272819" y="10115"/>
                  </a:lnTo>
                  <a:lnTo>
                    <a:pt x="265219" y="9719"/>
                  </a:lnTo>
                  <a:lnTo>
                    <a:pt x="257177" y="9456"/>
                  </a:lnTo>
                  <a:lnTo>
                    <a:pt x="245594" y="6517"/>
                  </a:lnTo>
                  <a:lnTo>
                    <a:pt x="237139" y="2897"/>
                  </a:lnTo>
                  <a:lnTo>
                    <a:pt x="22323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SMARTInkAnnotation25"/>
            <p:cNvSpPr/>
            <p:nvPr/>
          </p:nvSpPr>
          <p:spPr>
            <a:xfrm>
              <a:off x="5518800" y="6242040"/>
              <a:ext cx="196200" cy="2412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96454" h="241102">
                  <a:moveTo>
                    <a:pt x="0" y="0"/>
                  </a:moveTo>
                  <a:lnTo>
                    <a:pt x="65149" y="0"/>
                  </a:lnTo>
                  <a:lnTo>
                    <a:pt x="68238" y="992"/>
                  </a:lnTo>
                  <a:lnTo>
                    <a:pt x="74314" y="4740"/>
                  </a:lnTo>
                  <a:lnTo>
                    <a:pt x="80322" y="7067"/>
                  </a:lnTo>
                  <a:lnTo>
                    <a:pt x="83314" y="7688"/>
                  </a:lnTo>
                  <a:lnTo>
                    <a:pt x="89284" y="11024"/>
                  </a:lnTo>
                  <a:lnTo>
                    <a:pt x="92264" y="13301"/>
                  </a:lnTo>
                  <a:lnTo>
                    <a:pt x="98223" y="15834"/>
                  </a:lnTo>
                  <a:lnTo>
                    <a:pt x="101201" y="16509"/>
                  </a:lnTo>
                  <a:lnTo>
                    <a:pt x="107155" y="19905"/>
                  </a:lnTo>
                  <a:lnTo>
                    <a:pt x="110132" y="22200"/>
                  </a:lnTo>
                  <a:lnTo>
                    <a:pt x="116086" y="24749"/>
                  </a:lnTo>
                  <a:lnTo>
                    <a:pt x="119062" y="25429"/>
                  </a:lnTo>
                  <a:lnTo>
                    <a:pt x="125016" y="28830"/>
                  </a:lnTo>
                  <a:lnTo>
                    <a:pt x="127992" y="31126"/>
                  </a:lnTo>
                  <a:lnTo>
                    <a:pt x="129976" y="33650"/>
                  </a:lnTo>
                  <a:lnTo>
                    <a:pt x="131299" y="36323"/>
                  </a:lnTo>
                  <a:lnTo>
                    <a:pt x="132182" y="39098"/>
                  </a:lnTo>
                  <a:lnTo>
                    <a:pt x="135807" y="44827"/>
                  </a:lnTo>
                  <a:lnTo>
                    <a:pt x="140726" y="50681"/>
                  </a:lnTo>
                  <a:lnTo>
                    <a:pt x="146219" y="56590"/>
                  </a:lnTo>
                  <a:lnTo>
                    <a:pt x="148081" y="59554"/>
                  </a:lnTo>
                  <a:lnTo>
                    <a:pt x="150149" y="65495"/>
                  </a:lnTo>
                  <a:lnTo>
                    <a:pt x="153715" y="71442"/>
                  </a:lnTo>
                  <a:lnTo>
                    <a:pt x="158606" y="77392"/>
                  </a:lnTo>
                  <a:lnTo>
                    <a:pt x="164088" y="83344"/>
                  </a:lnTo>
                  <a:lnTo>
                    <a:pt x="165947" y="86321"/>
                  </a:lnTo>
                  <a:lnTo>
                    <a:pt x="168012" y="92273"/>
                  </a:lnTo>
                  <a:lnTo>
                    <a:pt x="168929" y="98226"/>
                  </a:lnTo>
                  <a:lnTo>
                    <a:pt x="169338" y="104180"/>
                  </a:lnTo>
                  <a:lnTo>
                    <a:pt x="169519" y="110132"/>
                  </a:lnTo>
                  <a:lnTo>
                    <a:pt x="170560" y="117078"/>
                  </a:lnTo>
                  <a:lnTo>
                    <a:pt x="175772" y="146586"/>
                  </a:lnTo>
                  <a:lnTo>
                    <a:pt x="176713" y="153287"/>
                  </a:lnTo>
                  <a:lnTo>
                    <a:pt x="177339" y="158745"/>
                  </a:lnTo>
                  <a:lnTo>
                    <a:pt x="177757" y="163377"/>
                  </a:lnTo>
                  <a:lnTo>
                    <a:pt x="178036" y="167456"/>
                  </a:lnTo>
                  <a:lnTo>
                    <a:pt x="178346" y="174636"/>
                  </a:lnTo>
                  <a:lnTo>
                    <a:pt x="178484" y="181133"/>
                  </a:lnTo>
                  <a:lnTo>
                    <a:pt x="177528" y="183264"/>
                  </a:lnTo>
                  <a:lnTo>
                    <a:pt x="175899" y="184684"/>
                  </a:lnTo>
                  <a:lnTo>
                    <a:pt x="173821" y="185630"/>
                  </a:lnTo>
                  <a:lnTo>
                    <a:pt x="172435" y="187254"/>
                  </a:lnTo>
                  <a:lnTo>
                    <a:pt x="171512" y="189327"/>
                  </a:lnTo>
                  <a:lnTo>
                    <a:pt x="170484" y="194278"/>
                  </a:lnTo>
                  <a:lnTo>
                    <a:pt x="170029" y="199785"/>
                  </a:lnTo>
                  <a:lnTo>
                    <a:pt x="168915" y="201651"/>
                  </a:lnTo>
                  <a:lnTo>
                    <a:pt x="167180" y="202895"/>
                  </a:lnTo>
                  <a:lnTo>
                    <a:pt x="162607" y="204277"/>
                  </a:lnTo>
                  <a:lnTo>
                    <a:pt x="157267" y="204891"/>
                  </a:lnTo>
                  <a:lnTo>
                    <a:pt x="154454" y="206047"/>
                  </a:lnTo>
                  <a:lnTo>
                    <a:pt x="148683" y="209977"/>
                  </a:lnTo>
                  <a:lnTo>
                    <a:pt x="142810" y="212386"/>
                  </a:lnTo>
                  <a:lnTo>
                    <a:pt x="136893" y="213456"/>
                  </a:lnTo>
                  <a:lnTo>
                    <a:pt x="130956" y="213932"/>
                  </a:lnTo>
                  <a:lnTo>
                    <a:pt x="125010" y="214143"/>
                  </a:lnTo>
                  <a:lnTo>
                    <a:pt x="113438" y="214261"/>
                  </a:lnTo>
                  <a:lnTo>
                    <a:pt x="86688" y="214309"/>
                  </a:lnTo>
                  <a:lnTo>
                    <a:pt x="83588" y="213318"/>
                  </a:lnTo>
                  <a:lnTo>
                    <a:pt x="77499" y="209571"/>
                  </a:lnTo>
                  <a:lnTo>
                    <a:pt x="71486" y="207244"/>
                  </a:lnTo>
                  <a:lnTo>
                    <a:pt x="68493" y="206623"/>
                  </a:lnTo>
                  <a:lnTo>
                    <a:pt x="62522" y="203289"/>
                  </a:lnTo>
                  <a:lnTo>
                    <a:pt x="56561" y="198498"/>
                  </a:lnTo>
                  <a:lnTo>
                    <a:pt x="50604" y="193062"/>
                  </a:lnTo>
                  <a:lnTo>
                    <a:pt x="47627" y="191216"/>
                  </a:lnTo>
                  <a:lnTo>
                    <a:pt x="41673" y="189164"/>
                  </a:lnTo>
                  <a:lnTo>
                    <a:pt x="39688" y="187625"/>
                  </a:lnTo>
                  <a:lnTo>
                    <a:pt x="38364" y="185606"/>
                  </a:lnTo>
                  <a:lnTo>
                    <a:pt x="36241" y="179979"/>
                  </a:lnTo>
                  <a:lnTo>
                    <a:pt x="31132" y="174264"/>
                  </a:lnTo>
                  <a:lnTo>
                    <a:pt x="30677" y="172730"/>
                  </a:lnTo>
                  <a:lnTo>
                    <a:pt x="31365" y="171708"/>
                  </a:lnTo>
                  <a:lnTo>
                    <a:pt x="34859" y="170067"/>
                  </a:lnTo>
                  <a:lnTo>
                    <a:pt x="35336" y="167197"/>
                  </a:lnTo>
                  <a:lnTo>
                    <a:pt x="35643" y="162011"/>
                  </a:lnTo>
                  <a:lnTo>
                    <a:pt x="36660" y="161585"/>
                  </a:lnTo>
                  <a:lnTo>
                    <a:pt x="42777" y="160902"/>
                  </a:lnTo>
                  <a:lnTo>
                    <a:pt x="46739" y="160784"/>
                  </a:lnTo>
                  <a:lnTo>
                    <a:pt x="65607" y="160737"/>
                  </a:lnTo>
                  <a:lnTo>
                    <a:pt x="68542" y="161728"/>
                  </a:lnTo>
                  <a:lnTo>
                    <a:pt x="74450" y="165475"/>
                  </a:lnTo>
                  <a:lnTo>
                    <a:pt x="80384" y="170448"/>
                  </a:lnTo>
                  <a:lnTo>
                    <a:pt x="83354" y="173163"/>
                  </a:lnTo>
                  <a:lnTo>
                    <a:pt x="87319" y="175965"/>
                  </a:lnTo>
                  <a:lnTo>
                    <a:pt x="91947" y="178826"/>
                  </a:lnTo>
                  <a:lnTo>
                    <a:pt x="97017" y="181725"/>
                  </a:lnTo>
                  <a:lnTo>
                    <a:pt x="102381" y="183658"/>
                  </a:lnTo>
                  <a:lnTo>
                    <a:pt x="107942" y="184946"/>
                  </a:lnTo>
                  <a:lnTo>
                    <a:pt x="113633" y="185805"/>
                  </a:lnTo>
                  <a:lnTo>
                    <a:pt x="118419" y="187370"/>
                  </a:lnTo>
                  <a:lnTo>
                    <a:pt x="122602" y="189406"/>
                  </a:lnTo>
                  <a:lnTo>
                    <a:pt x="126384" y="191754"/>
                  </a:lnTo>
                  <a:lnTo>
                    <a:pt x="130888" y="194313"/>
                  </a:lnTo>
                  <a:lnTo>
                    <a:pt x="141186" y="199801"/>
                  </a:lnTo>
                  <a:lnTo>
                    <a:pt x="145718" y="202654"/>
                  </a:lnTo>
                  <a:lnTo>
                    <a:pt x="149731" y="205547"/>
                  </a:lnTo>
                  <a:lnTo>
                    <a:pt x="153399" y="208469"/>
                  </a:lnTo>
                  <a:lnTo>
                    <a:pt x="156836" y="211409"/>
                  </a:lnTo>
                  <a:lnTo>
                    <a:pt x="160120" y="214361"/>
                  </a:lnTo>
                  <a:lnTo>
                    <a:pt x="166415" y="220287"/>
                  </a:lnTo>
                  <a:lnTo>
                    <a:pt x="172519" y="226228"/>
                  </a:lnTo>
                  <a:lnTo>
                    <a:pt x="175536" y="228209"/>
                  </a:lnTo>
                  <a:lnTo>
                    <a:pt x="181534" y="230411"/>
                  </a:lnTo>
                  <a:lnTo>
                    <a:pt x="183530" y="231990"/>
                  </a:lnTo>
                  <a:lnTo>
                    <a:pt x="184862" y="234035"/>
                  </a:lnTo>
                  <a:lnTo>
                    <a:pt x="186997" y="239705"/>
                  </a:lnTo>
                  <a:lnTo>
                    <a:pt x="188165" y="240171"/>
                  </a:lnTo>
                  <a:lnTo>
                    <a:pt x="189935" y="240481"/>
                  </a:lnTo>
                  <a:lnTo>
                    <a:pt x="196453" y="241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ompoun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very different properties than their componen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lem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chemical change the resulting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ompou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s new and different proper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– sodium chlori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dium is a soft gray met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lorine is a yellow-green poisonous ga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dium chloride is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ble sal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128D-F5EB-4FA5-A878-2BD6E592B0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04920" y="457200"/>
            <a:ext cx="10058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.. How are Compounds Different from Mixtu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tance (Element/ Compound) or Mixtur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DA20-C145-479D-B092-05D17726C1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4572000" y="2286000"/>
            <a:ext cx="0" cy="419112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580400" y="220968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5658120" y="2392200"/>
            <a:ext cx="129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990720" y="2819520"/>
            <a:ext cx="8153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371600" y="28195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of one k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1371600" y="4038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b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137160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te 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"/>
          <p:cNvSpPr/>
          <p:nvPr/>
        </p:nvSpPr>
        <p:spPr>
          <a:xfrm>
            <a:off x="990720" y="3962520"/>
            <a:ext cx="8153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990720" y="5105520"/>
            <a:ext cx="8153280" cy="0"/>
          </a:xfrm>
          <a:prstGeom prst="line">
            <a:avLst/>
          </a:prstGeom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4800600" y="2895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of more 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kind of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4800600" y="40384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de by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ysica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4876920" y="51814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 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Distinguishing Substances and Mixtur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sition of a material is fixed, the material is a substance (element or compoun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the composition of a material varies, the material is a mix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mium, plus and regular gas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ole, 2%, 1% and skim milk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bon dioxide –              - always 1 carbon for every 2 oxyg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4396-E8CC-4738-BC25-6BFFC67B24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793480" y="43718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659920" y="47530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3962520" y="51195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4"/>
          <p:cNvGraphicFramePr/>
          <p:nvPr/>
        </p:nvGraphicFramePr>
        <p:xfrm>
          <a:off x="609480" y="-22320"/>
          <a:ext cx="8229600" cy="688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-22320"/>
                    <a:ext cx="8229600" cy="68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4E1C-FE10-46A0-A660-CBB1750842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3733920" y="15238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it 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parated by physical mea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2057400" y="3200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x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594360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re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1676520" y="4419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composition uni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791320" y="434340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it be decomposed by ordinary chemical mean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85800" y="579132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mogeneous mixtures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(air, sugar water, stainless ste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2743200" y="5867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eterogeneous mixtures (granite, blo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4876920" y="58672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ou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x: Wate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Cl, sucro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6934320" y="58672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6"/>
          <p:cNvSpPr/>
          <p:nvPr/>
        </p:nvSpPr>
        <p:spPr>
          <a:xfrm>
            <a:off x="6934320" y="5867280"/>
            <a:ext cx="1828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ex: gold, aluminum,oxyge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7"/>
          <p:cNvSpPr/>
          <p:nvPr/>
        </p:nvSpPr>
        <p:spPr>
          <a:xfrm>
            <a:off x="838080" y="1522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ifying Mat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7"/>
          <p:cNvGrpSpPr/>
          <p:nvPr/>
        </p:nvGrpSpPr>
        <p:grpSpPr>
          <a:xfrm>
            <a:off x="5967360" y="1411200"/>
            <a:ext cx="2408040" cy="527040"/>
            <a:chOff x="5967360" y="1411200"/>
            <a:chExt cx="2408040" cy="527040"/>
          </a:xfrm>
        </p:grpSpPr>
        <p:sp>
          <p:nvSpPr>
            <p:cNvPr id="256" name="SMARTInkAnnotation13"/>
            <p:cNvSpPr/>
            <p:nvPr/>
          </p:nvSpPr>
          <p:spPr>
            <a:xfrm>
              <a:off x="7805520" y="1411200"/>
              <a:ext cx="338040" cy="47340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338042" h="473239">
                  <a:moveTo>
                    <a:pt x="329111" y="0"/>
                  </a:moveTo>
                  <a:lnTo>
                    <a:pt x="307861" y="0"/>
                  </a:lnTo>
                  <a:lnTo>
                    <a:pt x="305023" y="992"/>
                  </a:lnTo>
                  <a:lnTo>
                    <a:pt x="296288" y="6137"/>
                  </a:lnTo>
                  <a:lnTo>
                    <a:pt x="290380" y="7688"/>
                  </a:lnTo>
                  <a:lnTo>
                    <a:pt x="281475" y="8562"/>
                  </a:lnTo>
                  <a:lnTo>
                    <a:pt x="278503" y="9676"/>
                  </a:lnTo>
                  <a:lnTo>
                    <a:pt x="269578" y="14993"/>
                  </a:lnTo>
                  <a:lnTo>
                    <a:pt x="259657" y="18002"/>
                  </a:lnTo>
                  <a:lnTo>
                    <a:pt x="249957" y="22222"/>
                  </a:lnTo>
                  <a:lnTo>
                    <a:pt x="241676" y="27405"/>
                  </a:lnTo>
                  <a:lnTo>
                    <a:pt x="238079" y="30176"/>
                  </a:lnTo>
                  <a:lnTo>
                    <a:pt x="231436" y="33255"/>
                  </a:lnTo>
                  <a:lnTo>
                    <a:pt x="224185" y="35616"/>
                  </a:lnTo>
                  <a:lnTo>
                    <a:pt x="214347" y="39972"/>
                  </a:lnTo>
                  <a:lnTo>
                    <a:pt x="209937" y="43515"/>
                  </a:lnTo>
                  <a:lnTo>
                    <a:pt x="202393" y="52744"/>
                  </a:lnTo>
                  <a:lnTo>
                    <a:pt x="193086" y="60814"/>
                  </a:lnTo>
                  <a:lnTo>
                    <a:pt x="183327" y="67708"/>
                  </a:lnTo>
                  <a:lnTo>
                    <a:pt x="175683" y="74079"/>
                  </a:lnTo>
                  <a:lnTo>
                    <a:pt x="166332" y="80218"/>
                  </a:lnTo>
                  <a:lnTo>
                    <a:pt x="161060" y="83244"/>
                  </a:lnTo>
                  <a:lnTo>
                    <a:pt x="152585" y="90223"/>
                  </a:lnTo>
                  <a:lnTo>
                    <a:pt x="141974" y="99836"/>
                  </a:lnTo>
                  <a:lnTo>
                    <a:pt x="129939" y="111206"/>
                  </a:lnTo>
                  <a:lnTo>
                    <a:pt x="120924" y="120770"/>
                  </a:lnTo>
                  <a:lnTo>
                    <a:pt x="113921" y="129130"/>
                  </a:lnTo>
                  <a:lnTo>
                    <a:pt x="108260" y="136688"/>
                  </a:lnTo>
                  <a:lnTo>
                    <a:pt x="102502" y="142719"/>
                  </a:lnTo>
                  <a:lnTo>
                    <a:pt x="96680" y="147732"/>
                  </a:lnTo>
                  <a:lnTo>
                    <a:pt x="90813" y="152066"/>
                  </a:lnTo>
                  <a:lnTo>
                    <a:pt x="81649" y="162173"/>
                  </a:lnTo>
                  <a:lnTo>
                    <a:pt x="74268" y="173280"/>
                  </a:lnTo>
                  <a:lnTo>
                    <a:pt x="67682" y="184831"/>
                  </a:lnTo>
                  <a:lnTo>
                    <a:pt x="58800" y="196579"/>
                  </a:lnTo>
                  <a:lnTo>
                    <a:pt x="49230" y="208415"/>
                  </a:lnTo>
                  <a:lnTo>
                    <a:pt x="41671" y="220290"/>
                  </a:lnTo>
                  <a:lnTo>
                    <a:pt x="35003" y="232183"/>
                  </a:lnTo>
                  <a:lnTo>
                    <a:pt x="25671" y="250034"/>
                  </a:lnTo>
                  <a:lnTo>
                    <a:pt x="13629" y="273844"/>
                  </a:lnTo>
                  <a:lnTo>
                    <a:pt x="10303" y="285750"/>
                  </a:lnTo>
                  <a:lnTo>
                    <a:pt x="8825" y="297656"/>
                  </a:lnTo>
                  <a:lnTo>
                    <a:pt x="8167" y="309562"/>
                  </a:lnTo>
                  <a:lnTo>
                    <a:pt x="5230" y="321468"/>
                  </a:lnTo>
                  <a:lnTo>
                    <a:pt x="1610" y="332382"/>
                  </a:lnTo>
                  <a:lnTo>
                    <a:pt x="0" y="340540"/>
                  </a:lnTo>
                  <a:lnTo>
                    <a:pt x="1931" y="350119"/>
                  </a:lnTo>
                  <a:lnTo>
                    <a:pt x="5950" y="364023"/>
                  </a:lnTo>
                  <a:lnTo>
                    <a:pt x="7882" y="372132"/>
                  </a:lnTo>
                  <a:lnTo>
                    <a:pt x="14548" y="386861"/>
                  </a:lnTo>
                  <a:lnTo>
                    <a:pt x="21816" y="397950"/>
                  </a:lnTo>
                  <a:lnTo>
                    <a:pt x="25402" y="407520"/>
                  </a:lnTo>
                  <a:lnTo>
                    <a:pt x="32307" y="416639"/>
                  </a:lnTo>
                  <a:lnTo>
                    <a:pt x="40637" y="425624"/>
                  </a:lnTo>
                  <a:lnTo>
                    <a:pt x="55300" y="440528"/>
                  </a:lnTo>
                  <a:lnTo>
                    <a:pt x="63881" y="446483"/>
                  </a:lnTo>
                  <a:lnTo>
                    <a:pt x="73318" y="451445"/>
                  </a:lnTo>
                  <a:lnTo>
                    <a:pt x="80818" y="453649"/>
                  </a:lnTo>
                  <a:lnTo>
                    <a:pt x="90105" y="457275"/>
                  </a:lnTo>
                  <a:lnTo>
                    <a:pt x="99856" y="461202"/>
                  </a:lnTo>
                  <a:lnTo>
                    <a:pt x="107495" y="462947"/>
                  </a:lnTo>
                  <a:lnTo>
                    <a:pt x="116844" y="466369"/>
                  </a:lnTo>
                  <a:lnTo>
                    <a:pt x="122115" y="468670"/>
                  </a:lnTo>
                  <a:lnTo>
                    <a:pt x="127614" y="470204"/>
                  </a:lnTo>
                  <a:lnTo>
                    <a:pt x="133264" y="471227"/>
                  </a:lnTo>
                  <a:lnTo>
                    <a:pt x="139015" y="471909"/>
                  </a:lnTo>
                  <a:lnTo>
                    <a:pt x="148051" y="472667"/>
                  </a:lnTo>
                  <a:lnTo>
                    <a:pt x="156366" y="473004"/>
                  </a:lnTo>
                  <a:lnTo>
                    <a:pt x="178897" y="473238"/>
                  </a:lnTo>
                  <a:lnTo>
                    <a:pt x="188266" y="470612"/>
                  </a:lnTo>
                  <a:lnTo>
                    <a:pt x="193543" y="468522"/>
                  </a:lnTo>
                  <a:lnTo>
                    <a:pt x="199045" y="467129"/>
                  </a:lnTo>
                  <a:lnTo>
                    <a:pt x="204697" y="466201"/>
                  </a:lnTo>
                  <a:lnTo>
                    <a:pt x="210450" y="465582"/>
                  </a:lnTo>
                  <a:lnTo>
                    <a:pt x="219488" y="464894"/>
                  </a:lnTo>
                  <a:lnTo>
                    <a:pt x="227804" y="464588"/>
                  </a:lnTo>
                  <a:lnTo>
                    <a:pt x="238115" y="464452"/>
                  </a:lnTo>
                  <a:lnTo>
                    <a:pt x="242649" y="463424"/>
                  </a:lnTo>
                  <a:lnTo>
                    <a:pt x="250335" y="459635"/>
                  </a:lnTo>
                  <a:lnTo>
                    <a:pt x="259704" y="457290"/>
                  </a:lnTo>
                  <a:lnTo>
                    <a:pt x="269490" y="456248"/>
                  </a:lnTo>
                  <a:lnTo>
                    <a:pt x="277147" y="455784"/>
                  </a:lnTo>
                  <a:lnTo>
                    <a:pt x="280578" y="454669"/>
                  </a:lnTo>
                  <a:lnTo>
                    <a:pt x="290147" y="449350"/>
                  </a:lnTo>
                  <a:lnTo>
                    <a:pt x="299267" y="446341"/>
                  </a:lnTo>
                  <a:lnTo>
                    <a:pt x="308251" y="440599"/>
                  </a:lnTo>
                  <a:lnTo>
                    <a:pt x="314218" y="438908"/>
                  </a:lnTo>
                  <a:lnTo>
                    <a:pt x="323155" y="437955"/>
                  </a:lnTo>
                  <a:lnTo>
                    <a:pt x="333328" y="437590"/>
                  </a:lnTo>
                  <a:lnTo>
                    <a:pt x="338041" y="4375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SMARTInkAnnotation14"/>
            <p:cNvSpPr/>
            <p:nvPr/>
          </p:nvSpPr>
          <p:spPr>
            <a:xfrm>
              <a:off x="8215200" y="1715040"/>
              <a:ext cx="160200" cy="22320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60503" h="223131">
                  <a:moveTo>
                    <a:pt x="124896" y="0"/>
                  </a:moveTo>
                  <a:lnTo>
                    <a:pt x="102773" y="0"/>
                  </a:lnTo>
                  <a:lnTo>
                    <a:pt x="100226" y="992"/>
                  </a:lnTo>
                  <a:lnTo>
                    <a:pt x="97535" y="2646"/>
                  </a:lnTo>
                  <a:lnTo>
                    <a:pt x="94750" y="4740"/>
                  </a:lnTo>
                  <a:lnTo>
                    <a:pt x="91900" y="6137"/>
                  </a:lnTo>
                  <a:lnTo>
                    <a:pt x="89008" y="7068"/>
                  </a:lnTo>
                  <a:lnTo>
                    <a:pt x="86088" y="7688"/>
                  </a:lnTo>
                  <a:lnTo>
                    <a:pt x="81164" y="12071"/>
                  </a:lnTo>
                  <a:lnTo>
                    <a:pt x="74905" y="18962"/>
                  </a:lnTo>
                  <a:lnTo>
                    <a:pt x="67756" y="27524"/>
                  </a:lnTo>
                  <a:lnTo>
                    <a:pt x="61998" y="34224"/>
                  </a:lnTo>
                  <a:lnTo>
                    <a:pt x="52956" y="44315"/>
                  </a:lnTo>
                  <a:lnTo>
                    <a:pt x="49154" y="49387"/>
                  </a:lnTo>
                  <a:lnTo>
                    <a:pt x="45629" y="54753"/>
                  </a:lnTo>
                  <a:lnTo>
                    <a:pt x="42285" y="60314"/>
                  </a:lnTo>
                  <a:lnTo>
                    <a:pt x="39064" y="65014"/>
                  </a:lnTo>
                  <a:lnTo>
                    <a:pt x="35926" y="69140"/>
                  </a:lnTo>
                  <a:lnTo>
                    <a:pt x="32840" y="72882"/>
                  </a:lnTo>
                  <a:lnTo>
                    <a:pt x="29412" y="79687"/>
                  </a:lnTo>
                  <a:lnTo>
                    <a:pt x="28497" y="82890"/>
                  </a:lnTo>
                  <a:lnTo>
                    <a:pt x="24836" y="89095"/>
                  </a:lnTo>
                  <a:lnTo>
                    <a:pt x="22471" y="92139"/>
                  </a:lnTo>
                  <a:lnTo>
                    <a:pt x="20894" y="96153"/>
                  </a:lnTo>
                  <a:lnTo>
                    <a:pt x="19842" y="100813"/>
                  </a:lnTo>
                  <a:lnTo>
                    <a:pt x="19142" y="105904"/>
                  </a:lnTo>
                  <a:lnTo>
                    <a:pt x="17683" y="110290"/>
                  </a:lnTo>
                  <a:lnTo>
                    <a:pt x="15718" y="114206"/>
                  </a:lnTo>
                  <a:lnTo>
                    <a:pt x="13415" y="117809"/>
                  </a:lnTo>
                  <a:lnTo>
                    <a:pt x="11880" y="122196"/>
                  </a:lnTo>
                  <a:lnTo>
                    <a:pt x="10857" y="127105"/>
                  </a:lnTo>
                  <a:lnTo>
                    <a:pt x="10174" y="132361"/>
                  </a:lnTo>
                  <a:lnTo>
                    <a:pt x="8727" y="136858"/>
                  </a:lnTo>
                  <a:lnTo>
                    <a:pt x="6771" y="140848"/>
                  </a:lnTo>
                  <a:lnTo>
                    <a:pt x="4474" y="144500"/>
                  </a:lnTo>
                  <a:lnTo>
                    <a:pt x="1922" y="151204"/>
                  </a:lnTo>
                  <a:lnTo>
                    <a:pt x="788" y="157491"/>
                  </a:lnTo>
                  <a:lnTo>
                    <a:pt x="284" y="163593"/>
                  </a:lnTo>
                  <a:lnTo>
                    <a:pt x="60" y="169611"/>
                  </a:lnTo>
                  <a:lnTo>
                    <a:pt x="0" y="172605"/>
                  </a:lnTo>
                  <a:lnTo>
                    <a:pt x="953" y="175594"/>
                  </a:lnTo>
                  <a:lnTo>
                    <a:pt x="4657" y="181560"/>
                  </a:lnTo>
                  <a:lnTo>
                    <a:pt x="6964" y="187519"/>
                  </a:lnTo>
                  <a:lnTo>
                    <a:pt x="7580" y="190497"/>
                  </a:lnTo>
                  <a:lnTo>
                    <a:pt x="10909" y="196452"/>
                  </a:lnTo>
                  <a:lnTo>
                    <a:pt x="16391" y="203619"/>
                  </a:lnTo>
                  <a:lnTo>
                    <a:pt x="19785" y="207245"/>
                  </a:lnTo>
                  <a:lnTo>
                    <a:pt x="25310" y="212916"/>
                  </a:lnTo>
                  <a:lnTo>
                    <a:pt x="26755" y="213382"/>
                  </a:lnTo>
                  <a:lnTo>
                    <a:pt x="31007" y="213899"/>
                  </a:lnTo>
                  <a:lnTo>
                    <a:pt x="34523" y="215029"/>
                  </a:lnTo>
                  <a:lnTo>
                    <a:pt x="38850" y="216775"/>
                  </a:lnTo>
                  <a:lnTo>
                    <a:pt x="43720" y="218930"/>
                  </a:lnTo>
                  <a:lnTo>
                    <a:pt x="47959" y="220368"/>
                  </a:lnTo>
                  <a:lnTo>
                    <a:pt x="51777" y="221326"/>
                  </a:lnTo>
                  <a:lnTo>
                    <a:pt x="55314" y="221965"/>
                  </a:lnTo>
                  <a:lnTo>
                    <a:pt x="58664" y="222391"/>
                  </a:lnTo>
                  <a:lnTo>
                    <a:pt x="61889" y="222674"/>
                  </a:lnTo>
                  <a:lnTo>
                    <a:pt x="65032" y="222864"/>
                  </a:lnTo>
                  <a:lnTo>
                    <a:pt x="71171" y="223074"/>
                  </a:lnTo>
                  <a:lnTo>
                    <a:pt x="74195" y="223130"/>
                  </a:lnTo>
                  <a:lnTo>
                    <a:pt x="76213" y="222175"/>
                  </a:lnTo>
                  <a:lnTo>
                    <a:pt x="77558" y="220547"/>
                  </a:lnTo>
                  <a:lnTo>
                    <a:pt x="78455" y="218469"/>
                  </a:lnTo>
                  <a:lnTo>
                    <a:pt x="80045" y="217083"/>
                  </a:lnTo>
                  <a:lnTo>
                    <a:pt x="82096" y="216159"/>
                  </a:lnTo>
                  <a:lnTo>
                    <a:pt x="87022" y="215134"/>
                  </a:lnTo>
                  <a:lnTo>
                    <a:pt x="89725" y="214860"/>
                  </a:lnTo>
                  <a:lnTo>
                    <a:pt x="92519" y="214677"/>
                  </a:lnTo>
                  <a:lnTo>
                    <a:pt x="95374" y="213564"/>
                  </a:lnTo>
                  <a:lnTo>
                    <a:pt x="98269" y="211829"/>
                  </a:lnTo>
                  <a:lnTo>
                    <a:pt x="101191" y="209680"/>
                  </a:lnTo>
                  <a:lnTo>
                    <a:pt x="104132" y="207256"/>
                  </a:lnTo>
                  <a:lnTo>
                    <a:pt x="107085" y="204647"/>
                  </a:lnTo>
                  <a:lnTo>
                    <a:pt x="110045" y="201916"/>
                  </a:lnTo>
                  <a:lnTo>
                    <a:pt x="113011" y="200095"/>
                  </a:lnTo>
                  <a:lnTo>
                    <a:pt x="115981" y="198881"/>
                  </a:lnTo>
                  <a:lnTo>
                    <a:pt x="118952" y="198072"/>
                  </a:lnTo>
                  <a:lnTo>
                    <a:pt x="121926" y="196540"/>
                  </a:lnTo>
                  <a:lnTo>
                    <a:pt x="124901" y="194527"/>
                  </a:lnTo>
                  <a:lnTo>
                    <a:pt x="127876" y="192192"/>
                  </a:lnTo>
                  <a:lnTo>
                    <a:pt x="130852" y="190636"/>
                  </a:lnTo>
                  <a:lnTo>
                    <a:pt x="133827" y="189599"/>
                  </a:lnTo>
                  <a:lnTo>
                    <a:pt x="136804" y="188907"/>
                  </a:lnTo>
                  <a:lnTo>
                    <a:pt x="138788" y="187454"/>
                  </a:lnTo>
                  <a:lnTo>
                    <a:pt x="140111" y="185492"/>
                  </a:lnTo>
                  <a:lnTo>
                    <a:pt x="140992" y="183193"/>
                  </a:lnTo>
                  <a:lnTo>
                    <a:pt x="144617" y="177992"/>
                  </a:lnTo>
                  <a:lnTo>
                    <a:pt x="146974" y="175216"/>
                  </a:lnTo>
                  <a:lnTo>
                    <a:pt x="148544" y="172373"/>
                  </a:lnTo>
                  <a:lnTo>
                    <a:pt x="150289" y="166569"/>
                  </a:lnTo>
                  <a:lnTo>
                    <a:pt x="151272" y="162463"/>
                  </a:lnTo>
                  <a:lnTo>
                    <a:pt x="154148" y="158857"/>
                  </a:lnTo>
                  <a:lnTo>
                    <a:pt x="156303" y="156506"/>
                  </a:lnTo>
                  <a:lnTo>
                    <a:pt x="157741" y="153947"/>
                  </a:lnTo>
                  <a:lnTo>
                    <a:pt x="159337" y="148457"/>
                  </a:lnTo>
                  <a:lnTo>
                    <a:pt x="160047" y="142710"/>
                  </a:lnTo>
                  <a:lnTo>
                    <a:pt x="160502" y="135677"/>
                  </a:lnTo>
                  <a:lnTo>
                    <a:pt x="157920" y="132069"/>
                  </a:lnTo>
                  <a:lnTo>
                    <a:pt x="152050" y="125429"/>
                  </a:lnTo>
                  <a:lnTo>
                    <a:pt x="147053" y="125138"/>
                  </a:lnTo>
                  <a:lnTo>
                    <a:pt x="135444" y="125026"/>
                  </a:lnTo>
                  <a:lnTo>
                    <a:pt x="129565" y="125019"/>
                  </a:lnTo>
                  <a:lnTo>
                    <a:pt x="127017" y="126010"/>
                  </a:lnTo>
                  <a:lnTo>
                    <a:pt x="124325" y="127663"/>
                  </a:lnTo>
                  <a:lnTo>
                    <a:pt x="121539" y="129757"/>
                  </a:lnTo>
                  <a:lnTo>
                    <a:pt x="117697" y="131153"/>
                  </a:lnTo>
                  <a:lnTo>
                    <a:pt x="113151" y="132084"/>
                  </a:lnTo>
                  <a:lnTo>
                    <a:pt x="108137" y="132704"/>
                  </a:lnTo>
                  <a:lnTo>
                    <a:pt x="103801" y="134110"/>
                  </a:lnTo>
                  <a:lnTo>
                    <a:pt x="99919" y="136040"/>
                  </a:lnTo>
                  <a:lnTo>
                    <a:pt x="96338" y="138318"/>
                  </a:lnTo>
                  <a:lnTo>
                    <a:pt x="92959" y="139837"/>
                  </a:lnTo>
                  <a:lnTo>
                    <a:pt x="89715" y="140850"/>
                  </a:lnTo>
                  <a:lnTo>
                    <a:pt x="86559" y="141525"/>
                  </a:lnTo>
                  <a:lnTo>
                    <a:pt x="83463" y="142967"/>
                  </a:lnTo>
                  <a:lnTo>
                    <a:pt x="80407" y="144921"/>
                  </a:lnTo>
                  <a:lnTo>
                    <a:pt x="53459" y="1607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SMARTInkAnnotation15"/>
            <p:cNvSpPr/>
            <p:nvPr/>
          </p:nvSpPr>
          <p:spPr>
            <a:xfrm>
              <a:off x="8259840" y="1848960"/>
              <a:ext cx="44640" cy="622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44649" h="62509">
                  <a:moveTo>
                    <a:pt x="-20888" y="0"/>
                  </a:moveTo>
                  <a:lnTo>
                    <a:pt x="26901" y="0"/>
                  </a:lnTo>
                  <a:lnTo>
                    <a:pt x="26864" y="993"/>
                  </a:lnTo>
                  <a:lnTo>
                    <a:pt x="26792" y="8562"/>
                  </a:lnTo>
                  <a:lnTo>
                    <a:pt x="25799" y="8685"/>
                  </a:lnTo>
                  <a:lnTo>
                    <a:pt x="24145" y="8766"/>
                  </a:lnTo>
                  <a:lnTo>
                    <a:pt x="19101" y="8898"/>
                  </a:lnTo>
                  <a:lnTo>
                    <a:pt x="18687" y="9900"/>
                  </a:lnTo>
                  <a:lnTo>
                    <a:pt x="18411" y="11561"/>
                  </a:lnTo>
                  <a:lnTo>
                    <a:pt x="17969" y="16616"/>
                  </a:lnTo>
                  <a:lnTo>
                    <a:pt x="16940" y="18022"/>
                  </a:lnTo>
                  <a:lnTo>
                    <a:pt x="15263" y="19953"/>
                  </a:lnTo>
                  <a:lnTo>
                    <a:pt x="9040" y="26671"/>
                  </a:lnTo>
                  <a:lnTo>
                    <a:pt x="9002" y="27702"/>
                  </a:lnTo>
                  <a:lnTo>
                    <a:pt x="8933" y="-25447"/>
                  </a:lnTo>
                  <a:lnTo>
                    <a:pt x="7940" y="-23927"/>
                  </a:lnTo>
                  <a:lnTo>
                    <a:pt x="6286" y="-22914"/>
                  </a:lnTo>
                  <a:lnTo>
                    <a:pt x="4190" y="-22239"/>
                  </a:lnTo>
                  <a:lnTo>
                    <a:pt x="2794" y="-20796"/>
                  </a:lnTo>
                  <a:lnTo>
                    <a:pt x="1863" y="-18842"/>
                  </a:lnTo>
                  <a:lnTo>
                    <a:pt x="109" y="-12360"/>
                  </a:lnTo>
                  <a:lnTo>
                    <a:pt x="73" y="-11234"/>
                  </a:lnTo>
                  <a:lnTo>
                    <a:pt x="0" y="-30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SMARTInkAnnotation16"/>
            <p:cNvSpPr/>
            <p:nvPr/>
          </p:nvSpPr>
          <p:spPr>
            <a:xfrm>
              <a:off x="5967360" y="1455840"/>
              <a:ext cx="371880" cy="34848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348480"/>
                <a:gd name="textAreaBottom" fmla="*/ 348480 h 348480"/>
              </a:gdLst>
              <a:ahLst/>
              <a:rect l="textAreaLeft" t="textAreaTop" r="textAreaRight" b="textAreaBottom"/>
              <a:pathLst>
                <a:path w="372050" h="348256">
                  <a:moveTo>
                    <a:pt x="318471" y="8930"/>
                  </a:moveTo>
                  <a:lnTo>
                    <a:pt x="301347" y="368"/>
                  </a:lnTo>
                  <a:lnTo>
                    <a:pt x="290995" y="49"/>
                  </a:lnTo>
                  <a:lnTo>
                    <a:pt x="248243" y="0"/>
                  </a:lnTo>
                  <a:lnTo>
                    <a:pt x="243871" y="992"/>
                  </a:lnTo>
                  <a:lnTo>
                    <a:pt x="232977" y="6137"/>
                  </a:lnTo>
                  <a:lnTo>
                    <a:pt x="222474" y="9095"/>
                  </a:lnTo>
                  <a:lnTo>
                    <a:pt x="212637" y="13303"/>
                  </a:lnTo>
                  <a:lnTo>
                    <a:pt x="204296" y="15834"/>
                  </a:lnTo>
                  <a:lnTo>
                    <a:pt x="196289" y="17952"/>
                  </a:lnTo>
                  <a:lnTo>
                    <a:pt x="186116" y="22200"/>
                  </a:lnTo>
                  <a:lnTo>
                    <a:pt x="174980" y="27396"/>
                  </a:lnTo>
                  <a:lnTo>
                    <a:pt x="151662" y="38815"/>
                  </a:lnTo>
                  <a:lnTo>
                    <a:pt x="142469" y="44702"/>
                  </a:lnTo>
                  <a:lnTo>
                    <a:pt x="134084" y="50625"/>
                  </a:lnTo>
                  <a:lnTo>
                    <a:pt x="123743" y="56565"/>
                  </a:lnTo>
                  <a:lnTo>
                    <a:pt x="112532" y="65158"/>
                  </a:lnTo>
                  <a:lnTo>
                    <a:pt x="101927" y="75592"/>
                  </a:lnTo>
                  <a:lnTo>
                    <a:pt x="97710" y="81153"/>
                  </a:lnTo>
                  <a:lnTo>
                    <a:pt x="93906" y="86844"/>
                  </a:lnTo>
                  <a:lnTo>
                    <a:pt x="84388" y="95814"/>
                  </a:lnTo>
                  <a:lnTo>
                    <a:pt x="73544" y="104099"/>
                  </a:lnTo>
                  <a:lnTo>
                    <a:pt x="62110" y="114397"/>
                  </a:lnTo>
                  <a:lnTo>
                    <a:pt x="57274" y="119921"/>
                  </a:lnTo>
                  <a:lnTo>
                    <a:pt x="53059" y="125588"/>
                  </a:lnTo>
                  <a:lnTo>
                    <a:pt x="45728" y="136184"/>
                  </a:lnTo>
                  <a:lnTo>
                    <a:pt x="39164" y="144201"/>
                  </a:lnTo>
                  <a:lnTo>
                    <a:pt x="36024" y="149712"/>
                  </a:lnTo>
                  <a:lnTo>
                    <a:pt x="32938" y="156363"/>
                  </a:lnTo>
                  <a:lnTo>
                    <a:pt x="29889" y="163773"/>
                  </a:lnTo>
                  <a:lnTo>
                    <a:pt x="23856" y="174653"/>
                  </a:lnTo>
                  <a:lnTo>
                    <a:pt x="20858" y="178943"/>
                  </a:lnTo>
                  <a:lnTo>
                    <a:pt x="16875" y="188748"/>
                  </a:lnTo>
                  <a:lnTo>
                    <a:pt x="12235" y="202231"/>
                  </a:lnTo>
                  <a:lnTo>
                    <a:pt x="7157" y="218164"/>
                  </a:lnTo>
                  <a:lnTo>
                    <a:pt x="3773" y="229779"/>
                  </a:lnTo>
                  <a:lnTo>
                    <a:pt x="1516" y="238514"/>
                  </a:lnTo>
                  <a:lnTo>
                    <a:pt x="12" y="245330"/>
                  </a:lnTo>
                  <a:lnTo>
                    <a:pt x="0" y="251858"/>
                  </a:lnTo>
                  <a:lnTo>
                    <a:pt x="985" y="258194"/>
                  </a:lnTo>
                  <a:lnTo>
                    <a:pt x="2635" y="264403"/>
                  </a:lnTo>
                  <a:lnTo>
                    <a:pt x="4466" y="273947"/>
                  </a:lnTo>
                  <a:lnTo>
                    <a:pt x="4954" y="277882"/>
                  </a:lnTo>
                  <a:lnTo>
                    <a:pt x="6273" y="281497"/>
                  </a:lnTo>
                  <a:lnTo>
                    <a:pt x="11876" y="291325"/>
                  </a:lnTo>
                  <a:lnTo>
                    <a:pt x="14969" y="300521"/>
                  </a:lnTo>
                  <a:lnTo>
                    <a:pt x="21728" y="309529"/>
                  </a:lnTo>
                  <a:lnTo>
                    <a:pt x="27174" y="315501"/>
                  </a:lnTo>
                  <a:lnTo>
                    <a:pt x="35547" y="321462"/>
                  </a:lnTo>
                  <a:lnTo>
                    <a:pt x="44891" y="326427"/>
                  </a:lnTo>
                  <a:lnTo>
                    <a:pt x="52352" y="328633"/>
                  </a:lnTo>
                  <a:lnTo>
                    <a:pt x="61620" y="332260"/>
                  </a:lnTo>
                  <a:lnTo>
                    <a:pt x="72354" y="336187"/>
                  </a:lnTo>
                  <a:lnTo>
                    <a:pt x="83739" y="337932"/>
                  </a:lnTo>
                  <a:lnTo>
                    <a:pt x="92768" y="341353"/>
                  </a:lnTo>
                  <a:lnTo>
                    <a:pt x="96565" y="343655"/>
                  </a:lnTo>
                  <a:lnTo>
                    <a:pt x="106075" y="346212"/>
                  </a:lnTo>
                  <a:lnTo>
                    <a:pt x="116917" y="347349"/>
                  </a:lnTo>
                  <a:lnTo>
                    <a:pt x="128350" y="347854"/>
                  </a:lnTo>
                  <a:lnTo>
                    <a:pt x="145943" y="348138"/>
                  </a:lnTo>
                  <a:lnTo>
                    <a:pt x="207974" y="348255"/>
                  </a:lnTo>
                  <a:lnTo>
                    <a:pt x="214048" y="347264"/>
                  </a:lnTo>
                  <a:lnTo>
                    <a:pt x="220082" y="345611"/>
                  </a:lnTo>
                  <a:lnTo>
                    <a:pt x="226090" y="343516"/>
                  </a:lnTo>
                  <a:lnTo>
                    <a:pt x="232079" y="342120"/>
                  </a:lnTo>
                  <a:lnTo>
                    <a:pt x="238056" y="341190"/>
                  </a:lnTo>
                  <a:lnTo>
                    <a:pt x="244025" y="340569"/>
                  </a:lnTo>
                  <a:lnTo>
                    <a:pt x="249989" y="340155"/>
                  </a:lnTo>
                  <a:lnTo>
                    <a:pt x="255949" y="339880"/>
                  </a:lnTo>
                  <a:lnTo>
                    <a:pt x="261907" y="339696"/>
                  </a:lnTo>
                  <a:lnTo>
                    <a:pt x="267863" y="338581"/>
                  </a:lnTo>
                  <a:lnTo>
                    <a:pt x="273819" y="336846"/>
                  </a:lnTo>
                  <a:lnTo>
                    <a:pt x="279773" y="334697"/>
                  </a:lnTo>
                  <a:lnTo>
                    <a:pt x="285727" y="333264"/>
                  </a:lnTo>
                  <a:lnTo>
                    <a:pt x="291681" y="332309"/>
                  </a:lnTo>
                  <a:lnTo>
                    <a:pt x="297634" y="331672"/>
                  </a:lnTo>
                  <a:lnTo>
                    <a:pt x="303588" y="331247"/>
                  </a:lnTo>
                  <a:lnTo>
                    <a:pt x="309541" y="330964"/>
                  </a:lnTo>
                  <a:lnTo>
                    <a:pt x="324755" y="330566"/>
                  </a:lnTo>
                  <a:lnTo>
                    <a:pt x="328614" y="330510"/>
                  </a:lnTo>
                  <a:lnTo>
                    <a:pt x="338192" y="327802"/>
                  </a:lnTo>
                  <a:lnTo>
                    <a:pt x="349064" y="324284"/>
                  </a:lnTo>
                  <a:lnTo>
                    <a:pt x="360511" y="322720"/>
                  </a:lnTo>
                  <a:lnTo>
                    <a:pt x="372049" y="3214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SMARTInkAnnotation17"/>
            <p:cNvSpPr/>
            <p:nvPr/>
          </p:nvSpPr>
          <p:spPr>
            <a:xfrm>
              <a:off x="6366240" y="1419840"/>
              <a:ext cx="366120" cy="402120"/>
            </a:xfrm>
            <a:custGeom>
              <a:avLst/>
              <a:gdLst>
                <a:gd name="textAreaLeft" fmla="*/ 0 w 366120"/>
                <a:gd name="textAreaRight" fmla="*/ 366480 w 36612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366004" h="401826">
                  <a:moveTo>
                    <a:pt x="250027" y="0"/>
                  </a:moveTo>
                  <a:lnTo>
                    <a:pt x="210324" y="0"/>
                  </a:lnTo>
                  <a:lnTo>
                    <a:pt x="202285" y="2646"/>
                  </a:lnTo>
                  <a:lnTo>
                    <a:pt x="193090" y="6137"/>
                  </a:lnTo>
                  <a:lnTo>
                    <a:pt x="185696" y="7689"/>
                  </a:lnTo>
                  <a:lnTo>
                    <a:pt x="179102" y="11024"/>
                  </a:lnTo>
                  <a:lnTo>
                    <a:pt x="171873" y="15814"/>
                  </a:lnTo>
                  <a:lnTo>
                    <a:pt x="162044" y="21250"/>
                  </a:lnTo>
                  <a:lnTo>
                    <a:pt x="153708" y="26973"/>
                  </a:lnTo>
                  <a:lnTo>
                    <a:pt x="145704" y="32824"/>
                  </a:lnTo>
                  <a:lnTo>
                    <a:pt x="135531" y="38732"/>
                  </a:lnTo>
                  <a:lnTo>
                    <a:pt x="124395" y="44665"/>
                  </a:lnTo>
                  <a:lnTo>
                    <a:pt x="113825" y="50609"/>
                  </a:lnTo>
                  <a:lnTo>
                    <a:pt x="105818" y="56558"/>
                  </a:lnTo>
                  <a:lnTo>
                    <a:pt x="96307" y="65156"/>
                  </a:lnTo>
                  <a:lnTo>
                    <a:pt x="78773" y="82103"/>
                  </a:lnTo>
                  <a:lnTo>
                    <a:pt x="72049" y="91391"/>
                  </a:lnTo>
                  <a:lnTo>
                    <a:pt x="65755" y="101142"/>
                  </a:lnTo>
                  <a:lnTo>
                    <a:pt x="55640" y="113202"/>
                  </a:lnTo>
                  <a:lnTo>
                    <a:pt x="45893" y="123403"/>
                  </a:lnTo>
                  <a:lnTo>
                    <a:pt x="37593" y="134552"/>
                  </a:lnTo>
                  <a:lnTo>
                    <a:pt x="30597" y="146121"/>
                  </a:lnTo>
                  <a:lnTo>
                    <a:pt x="24180" y="157878"/>
                  </a:lnTo>
                  <a:lnTo>
                    <a:pt x="14989" y="175653"/>
                  </a:lnTo>
                  <a:lnTo>
                    <a:pt x="11621" y="187539"/>
                  </a:lnTo>
                  <a:lnTo>
                    <a:pt x="9132" y="199437"/>
                  </a:lnTo>
                  <a:lnTo>
                    <a:pt x="4718" y="211339"/>
                  </a:lnTo>
                  <a:lnTo>
                    <a:pt x="2094" y="223244"/>
                  </a:lnTo>
                  <a:lnTo>
                    <a:pt x="929" y="235149"/>
                  </a:lnTo>
                  <a:lnTo>
                    <a:pt x="411" y="247055"/>
                  </a:lnTo>
                  <a:lnTo>
                    <a:pt x="120" y="260174"/>
                  </a:lnTo>
                  <a:lnTo>
                    <a:pt x="0" y="310545"/>
                  </a:lnTo>
                  <a:lnTo>
                    <a:pt x="990" y="315179"/>
                  </a:lnTo>
                  <a:lnTo>
                    <a:pt x="6133" y="327432"/>
                  </a:lnTo>
                  <a:lnTo>
                    <a:pt x="7685" y="337679"/>
                  </a:lnTo>
                  <a:lnTo>
                    <a:pt x="9091" y="342198"/>
                  </a:lnTo>
                  <a:lnTo>
                    <a:pt x="13299" y="349864"/>
                  </a:lnTo>
                  <a:lnTo>
                    <a:pt x="21246" y="359758"/>
                  </a:lnTo>
                  <a:lnTo>
                    <a:pt x="29885" y="368973"/>
                  </a:lnTo>
                  <a:lnTo>
                    <a:pt x="47632" y="386943"/>
                  </a:lnTo>
                  <a:lnTo>
                    <a:pt x="50605" y="388930"/>
                  </a:lnTo>
                  <a:lnTo>
                    <a:pt x="59530" y="392720"/>
                  </a:lnTo>
                  <a:lnTo>
                    <a:pt x="65482" y="397123"/>
                  </a:lnTo>
                  <a:lnTo>
                    <a:pt x="69450" y="398694"/>
                  </a:lnTo>
                  <a:lnTo>
                    <a:pt x="79151" y="400440"/>
                  </a:lnTo>
                  <a:lnTo>
                    <a:pt x="88485" y="400905"/>
                  </a:lnTo>
                  <a:lnTo>
                    <a:pt x="133010" y="401652"/>
                  </a:lnTo>
                  <a:lnTo>
                    <a:pt x="175560" y="401825"/>
                  </a:lnTo>
                  <a:lnTo>
                    <a:pt x="180539" y="400837"/>
                  </a:lnTo>
                  <a:lnTo>
                    <a:pt x="188717" y="397092"/>
                  </a:lnTo>
                  <a:lnTo>
                    <a:pt x="198304" y="394767"/>
                  </a:lnTo>
                  <a:lnTo>
                    <a:pt x="203640" y="394147"/>
                  </a:lnTo>
                  <a:lnTo>
                    <a:pt x="208189" y="392741"/>
                  </a:lnTo>
                  <a:lnTo>
                    <a:pt x="215888" y="388533"/>
                  </a:lnTo>
                  <a:lnTo>
                    <a:pt x="225263" y="383356"/>
                  </a:lnTo>
                  <a:lnTo>
                    <a:pt x="235052" y="377748"/>
                  </a:lnTo>
                  <a:lnTo>
                    <a:pt x="246142" y="369012"/>
                  </a:lnTo>
                  <a:lnTo>
                    <a:pt x="255712" y="360140"/>
                  </a:lnTo>
                  <a:lnTo>
                    <a:pt x="261814" y="354200"/>
                  </a:lnTo>
                  <a:lnTo>
                    <a:pt x="267833" y="345608"/>
                  </a:lnTo>
                  <a:lnTo>
                    <a:pt x="273817" y="336166"/>
                  </a:lnTo>
                  <a:lnTo>
                    <a:pt x="282763" y="325273"/>
                  </a:lnTo>
                  <a:lnTo>
                    <a:pt x="291698" y="315761"/>
                  </a:lnTo>
                  <a:lnTo>
                    <a:pt x="297652" y="309672"/>
                  </a:lnTo>
                  <a:lnTo>
                    <a:pt x="306251" y="303658"/>
                  </a:lnTo>
                  <a:lnTo>
                    <a:pt x="311323" y="300665"/>
                  </a:lnTo>
                  <a:lnTo>
                    <a:pt x="314703" y="296686"/>
                  </a:lnTo>
                  <a:lnTo>
                    <a:pt x="316957" y="292048"/>
                  </a:lnTo>
                  <a:lnTo>
                    <a:pt x="320454" y="282596"/>
                  </a:lnTo>
                  <a:lnTo>
                    <a:pt x="328001" y="270705"/>
                  </a:lnTo>
                  <a:lnTo>
                    <a:pt x="333631" y="260542"/>
                  </a:lnTo>
                  <a:lnTo>
                    <a:pt x="336793" y="252057"/>
                  </a:lnTo>
                  <a:lnTo>
                    <a:pt x="339192" y="243987"/>
                  </a:lnTo>
                  <a:lnTo>
                    <a:pt x="343565" y="233785"/>
                  </a:lnTo>
                  <a:lnTo>
                    <a:pt x="351605" y="221626"/>
                  </a:lnTo>
                  <a:lnTo>
                    <a:pt x="353465" y="217204"/>
                  </a:lnTo>
                  <a:lnTo>
                    <a:pt x="355531" y="206999"/>
                  </a:lnTo>
                  <a:lnTo>
                    <a:pt x="356695" y="194838"/>
                  </a:lnTo>
                  <a:lnTo>
                    <a:pt x="356967" y="185483"/>
                  </a:lnTo>
                  <a:lnTo>
                    <a:pt x="357039" y="180210"/>
                  </a:lnTo>
                  <a:lnTo>
                    <a:pt x="359765" y="169060"/>
                  </a:lnTo>
                  <a:lnTo>
                    <a:pt x="363293" y="158481"/>
                  </a:lnTo>
                  <a:lnTo>
                    <a:pt x="365278" y="146948"/>
                  </a:lnTo>
                  <a:lnTo>
                    <a:pt x="365865" y="136255"/>
                  </a:lnTo>
                  <a:lnTo>
                    <a:pt x="366003" y="126373"/>
                  </a:lnTo>
                  <a:lnTo>
                    <a:pt x="365048" y="121952"/>
                  </a:lnTo>
                  <a:lnTo>
                    <a:pt x="359955" y="109997"/>
                  </a:lnTo>
                  <a:lnTo>
                    <a:pt x="358416" y="99820"/>
                  </a:lnTo>
                  <a:lnTo>
                    <a:pt x="357549" y="87675"/>
                  </a:lnTo>
                  <a:lnTo>
                    <a:pt x="356436" y="84247"/>
                  </a:lnTo>
                  <a:lnTo>
                    <a:pt x="351120" y="74682"/>
                  </a:lnTo>
                  <a:lnTo>
                    <a:pt x="348111" y="65564"/>
                  </a:lnTo>
                  <a:lnTo>
                    <a:pt x="341376" y="56579"/>
                  </a:lnTo>
                  <a:lnTo>
                    <a:pt x="335937" y="50612"/>
                  </a:lnTo>
                  <a:lnTo>
                    <a:pt x="334090" y="47632"/>
                  </a:lnTo>
                  <a:lnTo>
                    <a:pt x="330498" y="38697"/>
                  </a:lnTo>
                  <a:lnTo>
                    <a:pt x="320898" y="26790"/>
                  </a:lnTo>
                  <a:lnTo>
                    <a:pt x="312368" y="17860"/>
                  </a:lnTo>
                  <a:lnTo>
                    <a:pt x="309446" y="14883"/>
                  </a:lnTo>
                  <a:lnTo>
                    <a:pt x="306508" y="12899"/>
                  </a:lnTo>
                  <a:lnTo>
                    <a:pt x="297630" y="9114"/>
                  </a:lnTo>
                  <a:lnTo>
                    <a:pt x="288717" y="3141"/>
                  </a:lnTo>
                  <a:lnTo>
                    <a:pt x="282767" y="1396"/>
                  </a:lnTo>
                  <a:lnTo>
                    <a:pt x="271856" y="276"/>
                  </a:lnTo>
                  <a:lnTo>
                    <a:pt x="26788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SMARTInkAnnotation18"/>
            <p:cNvSpPr/>
            <p:nvPr/>
          </p:nvSpPr>
          <p:spPr>
            <a:xfrm>
              <a:off x="6750360" y="1777680"/>
              <a:ext cx="142920" cy="160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142876" h="160702">
                  <a:moveTo>
                    <a:pt x="0" y="17826"/>
                  </a:moveTo>
                  <a:lnTo>
                    <a:pt x="0" y="1240"/>
                  </a:lnTo>
                  <a:lnTo>
                    <a:pt x="992" y="816"/>
                  </a:lnTo>
                  <a:lnTo>
                    <a:pt x="4740" y="344"/>
                  </a:lnTo>
                  <a:lnTo>
                    <a:pt x="7129" y="218"/>
                  </a:lnTo>
                  <a:lnTo>
                    <a:pt x="16250" y="0"/>
                  </a:lnTo>
                  <a:lnTo>
                    <a:pt x="19763" y="1973"/>
                  </a:lnTo>
                  <a:lnTo>
                    <a:pt x="25081" y="5273"/>
                  </a:lnTo>
                  <a:lnTo>
                    <a:pt x="31603" y="9458"/>
                  </a:lnTo>
                  <a:lnTo>
                    <a:pt x="36945" y="12247"/>
                  </a:lnTo>
                  <a:lnTo>
                    <a:pt x="41496" y="14107"/>
                  </a:lnTo>
                  <a:lnTo>
                    <a:pt x="45523" y="15346"/>
                  </a:lnTo>
                  <a:lnTo>
                    <a:pt x="49201" y="17165"/>
                  </a:lnTo>
                  <a:lnTo>
                    <a:pt x="52644" y="19370"/>
                  </a:lnTo>
                  <a:lnTo>
                    <a:pt x="55932" y="21832"/>
                  </a:lnTo>
                  <a:lnTo>
                    <a:pt x="59116" y="23473"/>
                  </a:lnTo>
                  <a:lnTo>
                    <a:pt x="62231" y="24567"/>
                  </a:lnTo>
                  <a:lnTo>
                    <a:pt x="65300" y="25297"/>
                  </a:lnTo>
                  <a:lnTo>
                    <a:pt x="68338" y="26775"/>
                  </a:lnTo>
                  <a:lnTo>
                    <a:pt x="71355" y="28753"/>
                  </a:lnTo>
                  <a:lnTo>
                    <a:pt x="74360" y="31064"/>
                  </a:lnTo>
                  <a:lnTo>
                    <a:pt x="76363" y="33597"/>
                  </a:lnTo>
                  <a:lnTo>
                    <a:pt x="77697" y="36278"/>
                  </a:lnTo>
                  <a:lnTo>
                    <a:pt x="78587" y="39057"/>
                  </a:lnTo>
                  <a:lnTo>
                    <a:pt x="80172" y="41902"/>
                  </a:lnTo>
                  <a:lnTo>
                    <a:pt x="82222" y="44790"/>
                  </a:lnTo>
                  <a:lnTo>
                    <a:pt x="84580" y="47709"/>
                  </a:lnTo>
                  <a:lnTo>
                    <a:pt x="87144" y="51639"/>
                  </a:lnTo>
                  <a:lnTo>
                    <a:pt x="89847" y="56243"/>
                  </a:lnTo>
                  <a:lnTo>
                    <a:pt x="96571" y="68409"/>
                  </a:lnTo>
                  <a:lnTo>
                    <a:pt x="97490" y="72719"/>
                  </a:lnTo>
                  <a:lnTo>
                    <a:pt x="97736" y="75257"/>
                  </a:lnTo>
                  <a:lnTo>
                    <a:pt x="97899" y="77942"/>
                  </a:lnTo>
                  <a:lnTo>
                    <a:pt x="98081" y="83571"/>
                  </a:lnTo>
                  <a:lnTo>
                    <a:pt x="98207" y="98227"/>
                  </a:lnTo>
                  <a:lnTo>
                    <a:pt x="98222" y="105366"/>
                  </a:lnTo>
                  <a:lnTo>
                    <a:pt x="95578" y="108988"/>
                  </a:lnTo>
                  <a:lnTo>
                    <a:pt x="90538" y="114657"/>
                  </a:lnTo>
                  <a:lnTo>
                    <a:pt x="88139" y="116115"/>
                  </a:lnTo>
                  <a:lnTo>
                    <a:pt x="84556" y="118078"/>
                  </a:lnTo>
                  <a:lnTo>
                    <a:pt x="80184" y="120380"/>
                  </a:lnTo>
                  <a:lnTo>
                    <a:pt x="76276" y="121914"/>
                  </a:lnTo>
                  <a:lnTo>
                    <a:pt x="72679" y="122937"/>
                  </a:lnTo>
                  <a:lnTo>
                    <a:pt x="69289" y="123619"/>
                  </a:lnTo>
                  <a:lnTo>
                    <a:pt x="66036" y="124073"/>
                  </a:lnTo>
                  <a:lnTo>
                    <a:pt x="62876" y="124376"/>
                  </a:lnTo>
                  <a:lnTo>
                    <a:pt x="59776" y="124578"/>
                  </a:lnTo>
                  <a:lnTo>
                    <a:pt x="56718" y="125705"/>
                  </a:lnTo>
                  <a:lnTo>
                    <a:pt x="53687" y="127449"/>
                  </a:lnTo>
                  <a:lnTo>
                    <a:pt x="50674" y="129603"/>
                  </a:lnTo>
                  <a:lnTo>
                    <a:pt x="46681" y="131040"/>
                  </a:lnTo>
                  <a:lnTo>
                    <a:pt x="42034" y="131997"/>
                  </a:lnTo>
                  <a:lnTo>
                    <a:pt x="36953" y="132635"/>
                  </a:lnTo>
                  <a:lnTo>
                    <a:pt x="32572" y="133061"/>
                  </a:lnTo>
                  <a:lnTo>
                    <a:pt x="28660" y="133345"/>
                  </a:lnTo>
                  <a:lnTo>
                    <a:pt x="19993" y="133800"/>
                  </a:lnTo>
                  <a:lnTo>
                    <a:pt x="16162" y="133862"/>
                  </a:lnTo>
                  <a:lnTo>
                    <a:pt x="8966" y="133912"/>
                  </a:lnTo>
                  <a:lnTo>
                    <a:pt x="8940" y="129172"/>
                  </a:lnTo>
                  <a:lnTo>
                    <a:pt x="9929" y="127775"/>
                  </a:lnTo>
                  <a:lnTo>
                    <a:pt x="11580" y="126844"/>
                  </a:lnTo>
                  <a:lnTo>
                    <a:pt x="16619" y="125350"/>
                  </a:lnTo>
                  <a:lnTo>
                    <a:pt x="19954" y="125146"/>
                  </a:lnTo>
                  <a:lnTo>
                    <a:pt x="25439" y="125015"/>
                  </a:lnTo>
                  <a:lnTo>
                    <a:pt x="65495" y="124982"/>
                  </a:lnTo>
                  <a:lnTo>
                    <a:pt x="69459" y="125975"/>
                  </a:lnTo>
                  <a:lnTo>
                    <a:pt x="74087" y="127628"/>
                  </a:lnTo>
                  <a:lnTo>
                    <a:pt x="79158" y="129723"/>
                  </a:lnTo>
                  <a:lnTo>
                    <a:pt x="83529" y="132111"/>
                  </a:lnTo>
                  <a:lnTo>
                    <a:pt x="87436" y="134696"/>
                  </a:lnTo>
                  <a:lnTo>
                    <a:pt x="91033" y="137411"/>
                  </a:lnTo>
                  <a:lnTo>
                    <a:pt x="94423" y="139221"/>
                  </a:lnTo>
                  <a:lnTo>
                    <a:pt x="97675" y="140428"/>
                  </a:lnTo>
                  <a:lnTo>
                    <a:pt x="100835" y="141233"/>
                  </a:lnTo>
                  <a:lnTo>
                    <a:pt x="103934" y="142761"/>
                  </a:lnTo>
                  <a:lnTo>
                    <a:pt x="106992" y="144773"/>
                  </a:lnTo>
                  <a:lnTo>
                    <a:pt x="110024" y="147106"/>
                  </a:lnTo>
                  <a:lnTo>
                    <a:pt x="113037" y="148661"/>
                  </a:lnTo>
                  <a:lnTo>
                    <a:pt x="116037" y="149698"/>
                  </a:lnTo>
                  <a:lnTo>
                    <a:pt x="119030" y="150389"/>
                  </a:lnTo>
                  <a:lnTo>
                    <a:pt x="122017" y="150850"/>
                  </a:lnTo>
                  <a:lnTo>
                    <a:pt x="125001" y="151157"/>
                  </a:lnTo>
                  <a:lnTo>
                    <a:pt x="127982" y="151362"/>
                  </a:lnTo>
                  <a:lnTo>
                    <a:pt x="130962" y="152490"/>
                  </a:lnTo>
                  <a:lnTo>
                    <a:pt x="133940" y="154235"/>
                  </a:lnTo>
                  <a:lnTo>
                    <a:pt x="142875" y="1607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tion 2.4 Chemical Reaction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what happens during a chemical ch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four possible clues that a chemical change has taken pl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y the law of conservation of mass to chemical rea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EA2D-4684-4E56-80B2-F59421825B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is anything that has mass and takes up spa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a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e of the amount of “stuff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or material) the object contai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on’t not confuse mass with we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Volu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sure of the space occupied by the ob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MCj02919260000[1]"/>
          <p:cNvPicPr/>
          <p:nvPr/>
        </p:nvPicPr>
        <p:blipFill>
          <a:blip r:embed="rId1"/>
          <a:stretch/>
        </p:blipFill>
        <p:spPr>
          <a:xfrm>
            <a:off x="5749920" y="2179800"/>
            <a:ext cx="1835280" cy="1469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MCj03252700000[1]"/>
          <p:cNvPicPr/>
          <p:nvPr/>
        </p:nvPicPr>
        <p:blipFill>
          <a:blip r:embed="rId2"/>
          <a:stretch/>
        </p:blipFill>
        <p:spPr>
          <a:xfrm>
            <a:off x="7010280" y="4800600"/>
            <a:ext cx="1765440" cy="180648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E664-6509-4484-BCD7-763AE56FEE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mical Chang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mical proper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bility of a substance to undergo a specific chemical change is called a chemical prop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on plus oxygen forms rust, so the ability to rust is a chemical property of ir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a chemical change the composition of matter always ch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ember – in a physical change – substances present before the change are the same substances present after the change although they are no longer physically blend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FE31-8B8E-4505-97F4-7FB72544F4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mical Ch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mical changes are also called chemical reac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chemical reactions one or more substances are changed into new substa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5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Comic Sans MS"/>
              </a:rPr>
              <a:t>Reacta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hav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w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fferent form the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you started wit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F20E-A3BD-4DF7-B0B4-6E24E6A0E8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3048120" y="28954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 you star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895480" y="32767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s you end up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cognizing Chemical Changes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4 clues that can serve as a guide to identify chemical 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ergy – is absorbed or released (temperature change indicates transfer of energ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or chan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s production (bubbles, fizzing, odor change, smok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ion of a precipit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cipitate – a solid that forms and separates from solution (will not dissolv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ay to be sure that a chemical change has occurred is to test the composition of the sample before and after the chang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FBEB-8173-4E63-8352-43354CF84E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ervation of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any chemical reaction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ss of the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produc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always equal to the mass of the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reacta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of the mass can always be accounted f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w of Conservation of Mas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ny physical or chemical change, mass is conserved.  Mass is neither created nor destroy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67E6-9EBA-4986-86D2-5AF7F36F84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"/>
          <p:cNvSpPr/>
          <p:nvPr/>
        </p:nvSpPr>
        <p:spPr>
          <a:xfrm>
            <a:off x="6885000" y="4973760"/>
            <a:ext cx="3240" cy="360"/>
          </a:xfrm>
          <a:custGeom>
            <a:avLst/>
            <a:gdLst>
              <a:gd name="textAreaLeft" fmla="*/ 0 w 3240"/>
              <a:gd name="textAreaRight" fmla="*/ 3600 w 32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647" h="1">
                <a:moveTo>
                  <a:pt x="0" y="0"/>
                </a:moveTo>
                <a:lnTo>
                  <a:pt x="2646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MARTInkAnnotation1"/>
          <p:cNvSpPr/>
          <p:nvPr/>
        </p:nvSpPr>
        <p:spPr>
          <a:xfrm>
            <a:off x="6670800" y="5000760"/>
            <a:ext cx="295200" cy="366480"/>
          </a:xfrm>
          <a:custGeom>
            <a:avLst/>
            <a:gdLst>
              <a:gd name="textAreaLeft" fmla="*/ 0 w 295200"/>
              <a:gd name="textAreaRight" fmla="*/ 295560 w 2952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94680" h="366118">
                <a:moveTo>
                  <a:pt x="160734" y="0"/>
                </a:moveTo>
                <a:lnTo>
                  <a:pt x="152172" y="0"/>
                </a:lnTo>
                <a:lnTo>
                  <a:pt x="147173" y="4740"/>
                </a:lnTo>
                <a:lnTo>
                  <a:pt x="144747" y="6137"/>
                </a:lnTo>
                <a:lnTo>
                  <a:pt x="139407" y="7689"/>
                </a:lnTo>
                <a:lnTo>
                  <a:pt x="130823" y="8561"/>
                </a:lnTo>
                <a:lnTo>
                  <a:pt x="126736" y="8821"/>
                </a:lnTo>
                <a:lnTo>
                  <a:pt x="123134" y="11528"/>
                </a:lnTo>
                <a:lnTo>
                  <a:pt x="114058" y="19950"/>
                </a:lnTo>
                <a:lnTo>
                  <a:pt x="111758" y="22229"/>
                </a:lnTo>
                <a:lnTo>
                  <a:pt x="109231" y="23749"/>
                </a:lnTo>
                <a:lnTo>
                  <a:pt x="103779" y="25438"/>
                </a:lnTo>
                <a:lnTo>
                  <a:pt x="101928" y="26881"/>
                </a:lnTo>
                <a:lnTo>
                  <a:pt x="100694" y="28835"/>
                </a:lnTo>
                <a:lnTo>
                  <a:pt x="99872" y="31129"/>
                </a:lnTo>
                <a:lnTo>
                  <a:pt x="98331" y="32659"/>
                </a:lnTo>
                <a:lnTo>
                  <a:pt x="96311" y="33679"/>
                </a:lnTo>
                <a:lnTo>
                  <a:pt x="93973" y="34359"/>
                </a:lnTo>
                <a:lnTo>
                  <a:pt x="92415" y="35804"/>
                </a:lnTo>
                <a:lnTo>
                  <a:pt x="91375" y="37760"/>
                </a:lnTo>
                <a:lnTo>
                  <a:pt x="90682" y="40056"/>
                </a:lnTo>
                <a:lnTo>
                  <a:pt x="89227" y="41587"/>
                </a:lnTo>
                <a:lnTo>
                  <a:pt x="87266" y="42607"/>
                </a:lnTo>
                <a:lnTo>
                  <a:pt x="84966" y="43287"/>
                </a:lnTo>
                <a:lnTo>
                  <a:pt x="79766" y="46690"/>
                </a:lnTo>
                <a:lnTo>
                  <a:pt x="71542" y="53663"/>
                </a:lnTo>
                <a:lnTo>
                  <a:pt x="63893" y="61147"/>
                </a:lnTo>
                <a:lnTo>
                  <a:pt x="63431" y="62593"/>
                </a:lnTo>
                <a:lnTo>
                  <a:pt x="62918" y="66845"/>
                </a:lnTo>
                <a:lnTo>
                  <a:pt x="61789" y="68376"/>
                </a:lnTo>
                <a:lnTo>
                  <a:pt x="60044" y="69396"/>
                </a:lnTo>
                <a:lnTo>
                  <a:pt x="57888" y="70076"/>
                </a:lnTo>
                <a:lnTo>
                  <a:pt x="56452" y="71523"/>
                </a:lnTo>
                <a:lnTo>
                  <a:pt x="55494" y="73479"/>
                </a:lnTo>
                <a:lnTo>
                  <a:pt x="54855" y="75775"/>
                </a:lnTo>
                <a:lnTo>
                  <a:pt x="51500" y="80972"/>
                </a:lnTo>
                <a:lnTo>
                  <a:pt x="42604" y="91212"/>
                </a:lnTo>
                <a:lnTo>
                  <a:pt x="22451" y="111493"/>
                </a:lnTo>
                <a:lnTo>
                  <a:pt x="20921" y="114016"/>
                </a:lnTo>
                <a:lnTo>
                  <a:pt x="18262" y="123371"/>
                </a:lnTo>
                <a:lnTo>
                  <a:pt x="11802" y="131819"/>
                </a:lnTo>
                <a:lnTo>
                  <a:pt x="10206" y="137300"/>
                </a:lnTo>
                <a:lnTo>
                  <a:pt x="9308" y="145964"/>
                </a:lnTo>
                <a:lnTo>
                  <a:pt x="9042" y="154814"/>
                </a:lnTo>
                <a:lnTo>
                  <a:pt x="8011" y="157780"/>
                </a:lnTo>
                <a:lnTo>
                  <a:pt x="1251" y="167903"/>
                </a:lnTo>
                <a:lnTo>
                  <a:pt x="556" y="171528"/>
                </a:lnTo>
                <a:lnTo>
                  <a:pt x="110" y="181939"/>
                </a:lnTo>
                <a:lnTo>
                  <a:pt x="0" y="266239"/>
                </a:lnTo>
                <a:lnTo>
                  <a:pt x="2645" y="269802"/>
                </a:lnTo>
                <a:lnTo>
                  <a:pt x="7688" y="275435"/>
                </a:lnTo>
                <a:lnTo>
                  <a:pt x="8378" y="278850"/>
                </a:lnTo>
                <a:lnTo>
                  <a:pt x="8561" y="281150"/>
                </a:lnTo>
                <a:lnTo>
                  <a:pt x="9676" y="283675"/>
                </a:lnTo>
                <a:lnTo>
                  <a:pt x="16585" y="293035"/>
                </a:lnTo>
                <a:lnTo>
                  <a:pt x="17293" y="296595"/>
                </a:lnTo>
                <a:lnTo>
                  <a:pt x="17482" y="298933"/>
                </a:lnTo>
                <a:lnTo>
                  <a:pt x="18599" y="300492"/>
                </a:lnTo>
                <a:lnTo>
                  <a:pt x="20337" y="301530"/>
                </a:lnTo>
                <a:lnTo>
                  <a:pt x="22487" y="302224"/>
                </a:lnTo>
                <a:lnTo>
                  <a:pt x="23921" y="303678"/>
                </a:lnTo>
                <a:lnTo>
                  <a:pt x="24877" y="305639"/>
                </a:lnTo>
                <a:lnTo>
                  <a:pt x="26411" y="311176"/>
                </a:lnTo>
                <a:lnTo>
                  <a:pt x="34444" y="320108"/>
                </a:lnTo>
                <a:lnTo>
                  <a:pt x="35152" y="323510"/>
                </a:lnTo>
                <a:lnTo>
                  <a:pt x="35341" y="325806"/>
                </a:lnTo>
                <a:lnTo>
                  <a:pt x="36459" y="327337"/>
                </a:lnTo>
                <a:lnTo>
                  <a:pt x="38196" y="328357"/>
                </a:lnTo>
                <a:lnTo>
                  <a:pt x="43374" y="329995"/>
                </a:lnTo>
                <a:lnTo>
                  <a:pt x="49011" y="335019"/>
                </a:lnTo>
                <a:lnTo>
                  <a:pt x="51525" y="336455"/>
                </a:lnTo>
                <a:lnTo>
                  <a:pt x="56964" y="338051"/>
                </a:lnTo>
                <a:lnTo>
                  <a:pt x="58812" y="339469"/>
                </a:lnTo>
                <a:lnTo>
                  <a:pt x="60045" y="341407"/>
                </a:lnTo>
                <a:lnTo>
                  <a:pt x="60866" y="343690"/>
                </a:lnTo>
                <a:lnTo>
                  <a:pt x="62404" y="345213"/>
                </a:lnTo>
                <a:lnTo>
                  <a:pt x="64424" y="346228"/>
                </a:lnTo>
                <a:lnTo>
                  <a:pt x="70051" y="347857"/>
                </a:lnTo>
                <a:lnTo>
                  <a:pt x="79005" y="355911"/>
                </a:lnTo>
                <a:lnTo>
                  <a:pt x="82407" y="356620"/>
                </a:lnTo>
                <a:lnTo>
                  <a:pt x="91338" y="357138"/>
                </a:lnTo>
                <a:lnTo>
                  <a:pt x="101606" y="357178"/>
                </a:lnTo>
                <a:lnTo>
                  <a:pt x="103456" y="358174"/>
                </a:lnTo>
                <a:lnTo>
                  <a:pt x="104689" y="359829"/>
                </a:lnTo>
                <a:lnTo>
                  <a:pt x="105511" y="361925"/>
                </a:lnTo>
                <a:lnTo>
                  <a:pt x="107052" y="363323"/>
                </a:lnTo>
                <a:lnTo>
                  <a:pt x="109070" y="364255"/>
                </a:lnTo>
                <a:lnTo>
                  <a:pt x="113959" y="365290"/>
                </a:lnTo>
                <a:lnTo>
                  <a:pt x="122538" y="365953"/>
                </a:lnTo>
                <a:lnTo>
                  <a:pt x="130826" y="366096"/>
                </a:lnTo>
                <a:lnTo>
                  <a:pt x="160797" y="366117"/>
                </a:lnTo>
                <a:lnTo>
                  <a:pt x="164745" y="365125"/>
                </a:lnTo>
                <a:lnTo>
                  <a:pt x="171777" y="361377"/>
                </a:lnTo>
                <a:lnTo>
                  <a:pt x="178210" y="359049"/>
                </a:lnTo>
                <a:lnTo>
                  <a:pt x="187288" y="357432"/>
                </a:lnTo>
                <a:lnTo>
                  <a:pt x="194289" y="357261"/>
                </a:lnTo>
                <a:lnTo>
                  <a:pt x="212580" y="357190"/>
                </a:lnTo>
                <a:lnTo>
                  <a:pt x="216188" y="354543"/>
                </a:lnTo>
                <a:lnTo>
                  <a:pt x="221848" y="349500"/>
                </a:lnTo>
                <a:lnTo>
                  <a:pt x="225268" y="348810"/>
                </a:lnTo>
                <a:lnTo>
                  <a:pt x="232772" y="348422"/>
                </a:lnTo>
                <a:lnTo>
                  <a:pt x="235548" y="348367"/>
                </a:lnTo>
                <a:lnTo>
                  <a:pt x="237399" y="347338"/>
                </a:lnTo>
                <a:lnTo>
                  <a:pt x="238633" y="345661"/>
                </a:lnTo>
                <a:lnTo>
                  <a:pt x="239455" y="343550"/>
                </a:lnTo>
                <a:lnTo>
                  <a:pt x="240996" y="342143"/>
                </a:lnTo>
                <a:lnTo>
                  <a:pt x="243016" y="341205"/>
                </a:lnTo>
                <a:lnTo>
                  <a:pt x="247905" y="340162"/>
                </a:lnTo>
                <a:lnTo>
                  <a:pt x="256483" y="339493"/>
                </a:lnTo>
                <a:lnTo>
                  <a:pt x="257309" y="339438"/>
                </a:lnTo>
                <a:lnTo>
                  <a:pt x="266504" y="331649"/>
                </a:lnTo>
                <a:lnTo>
                  <a:pt x="269920" y="330955"/>
                </a:lnTo>
                <a:lnTo>
                  <a:pt x="278859" y="330447"/>
                </a:lnTo>
                <a:lnTo>
                  <a:pt x="294679" y="3303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MARTInkAnnotation2"/>
          <p:cNvSpPr/>
          <p:nvPr/>
        </p:nvSpPr>
        <p:spPr>
          <a:xfrm>
            <a:off x="7188120" y="5037120"/>
            <a:ext cx="36720" cy="222120"/>
          </a:xfrm>
          <a:custGeom>
            <a:avLst/>
            <a:gdLst>
              <a:gd name="textAreaLeft" fmla="*/ 0 w 36720"/>
              <a:gd name="textAreaRight" fmla="*/ 37080 w 3672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35720" h="223243">
                <a:moveTo>
                  <a:pt x="35719" y="0"/>
                </a:moveTo>
                <a:lnTo>
                  <a:pt x="30978" y="0"/>
                </a:lnTo>
                <a:lnTo>
                  <a:pt x="29582" y="992"/>
                </a:lnTo>
                <a:lnTo>
                  <a:pt x="28651" y="2645"/>
                </a:lnTo>
                <a:lnTo>
                  <a:pt x="27158" y="7688"/>
                </a:lnTo>
                <a:lnTo>
                  <a:pt x="26899" y="13302"/>
                </a:lnTo>
                <a:lnTo>
                  <a:pt x="26804" y="19905"/>
                </a:lnTo>
                <a:lnTo>
                  <a:pt x="26790" y="38815"/>
                </a:lnTo>
                <a:lnTo>
                  <a:pt x="25798" y="41751"/>
                </a:lnTo>
                <a:lnTo>
                  <a:pt x="24144" y="44701"/>
                </a:lnTo>
                <a:lnTo>
                  <a:pt x="22049" y="47660"/>
                </a:lnTo>
                <a:lnTo>
                  <a:pt x="20653" y="50625"/>
                </a:lnTo>
                <a:lnTo>
                  <a:pt x="19722" y="53593"/>
                </a:lnTo>
                <a:lnTo>
                  <a:pt x="18688" y="59538"/>
                </a:lnTo>
                <a:lnTo>
                  <a:pt x="18228" y="65487"/>
                </a:lnTo>
                <a:lnTo>
                  <a:pt x="18023" y="71439"/>
                </a:lnTo>
                <a:lnTo>
                  <a:pt x="17909" y="83013"/>
                </a:lnTo>
                <a:lnTo>
                  <a:pt x="17869" y="99961"/>
                </a:lnTo>
                <a:lnTo>
                  <a:pt x="16875" y="106329"/>
                </a:lnTo>
                <a:lnTo>
                  <a:pt x="15218" y="114542"/>
                </a:lnTo>
                <a:lnTo>
                  <a:pt x="13123" y="123986"/>
                </a:lnTo>
                <a:lnTo>
                  <a:pt x="11725" y="132267"/>
                </a:lnTo>
                <a:lnTo>
                  <a:pt x="10794" y="139771"/>
                </a:lnTo>
                <a:lnTo>
                  <a:pt x="10172" y="146759"/>
                </a:lnTo>
                <a:lnTo>
                  <a:pt x="9759" y="152409"/>
                </a:lnTo>
                <a:lnTo>
                  <a:pt x="9298" y="161334"/>
                </a:lnTo>
                <a:lnTo>
                  <a:pt x="8184" y="166095"/>
                </a:lnTo>
                <a:lnTo>
                  <a:pt x="6448" y="171252"/>
                </a:lnTo>
                <a:lnTo>
                  <a:pt x="4299" y="176677"/>
                </a:lnTo>
                <a:lnTo>
                  <a:pt x="2866" y="181284"/>
                </a:lnTo>
                <a:lnTo>
                  <a:pt x="1911" y="185348"/>
                </a:lnTo>
                <a:lnTo>
                  <a:pt x="1275" y="189050"/>
                </a:lnTo>
                <a:lnTo>
                  <a:pt x="566" y="195808"/>
                </a:lnTo>
                <a:lnTo>
                  <a:pt x="252" y="202119"/>
                </a:lnTo>
                <a:lnTo>
                  <a:pt x="112" y="208232"/>
                </a:lnTo>
                <a:lnTo>
                  <a:pt x="0" y="22324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MARTInkAnnotation3"/>
          <p:cNvSpPr/>
          <p:nvPr/>
        </p:nvSpPr>
        <p:spPr>
          <a:xfrm>
            <a:off x="7081920" y="5133960"/>
            <a:ext cx="249120" cy="27000"/>
          </a:xfrm>
          <a:custGeom>
            <a:avLst/>
            <a:gdLst>
              <a:gd name="textAreaLeft" fmla="*/ 0 w 249120"/>
              <a:gd name="textAreaRight" fmla="*/ 249480 w 24912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249999" h="26758">
                <a:moveTo>
                  <a:pt x="8897" y="8898"/>
                </a:moveTo>
                <a:lnTo>
                  <a:pt x="0" y="8898"/>
                </a:lnTo>
                <a:lnTo>
                  <a:pt x="8529" y="336"/>
                </a:lnTo>
                <a:lnTo>
                  <a:pt x="15916" y="17"/>
                </a:lnTo>
                <a:lnTo>
                  <a:pt x="16553" y="0"/>
                </a:lnTo>
                <a:lnTo>
                  <a:pt x="17969" y="983"/>
                </a:lnTo>
                <a:lnTo>
                  <a:pt x="19906" y="2629"/>
                </a:lnTo>
                <a:lnTo>
                  <a:pt x="25404" y="7660"/>
                </a:lnTo>
                <a:lnTo>
                  <a:pt x="28800" y="8348"/>
                </a:lnTo>
                <a:lnTo>
                  <a:pt x="35771" y="8826"/>
                </a:lnTo>
                <a:lnTo>
                  <a:pt x="57799" y="8897"/>
                </a:lnTo>
                <a:lnTo>
                  <a:pt x="60350" y="9889"/>
                </a:lnTo>
                <a:lnTo>
                  <a:pt x="63042" y="11544"/>
                </a:lnTo>
                <a:lnTo>
                  <a:pt x="69753" y="16587"/>
                </a:lnTo>
                <a:lnTo>
                  <a:pt x="73317" y="17277"/>
                </a:lnTo>
                <a:lnTo>
                  <a:pt x="80900" y="17665"/>
                </a:lnTo>
                <a:lnTo>
                  <a:pt x="92352" y="17796"/>
                </a:lnTo>
                <a:lnTo>
                  <a:pt x="190467" y="17828"/>
                </a:lnTo>
                <a:lnTo>
                  <a:pt x="192452" y="18820"/>
                </a:lnTo>
                <a:lnTo>
                  <a:pt x="193775" y="20473"/>
                </a:lnTo>
                <a:lnTo>
                  <a:pt x="194657" y="22568"/>
                </a:lnTo>
                <a:lnTo>
                  <a:pt x="196237" y="23965"/>
                </a:lnTo>
                <a:lnTo>
                  <a:pt x="198282" y="24895"/>
                </a:lnTo>
                <a:lnTo>
                  <a:pt x="200639" y="25516"/>
                </a:lnTo>
                <a:lnTo>
                  <a:pt x="205902" y="26206"/>
                </a:lnTo>
                <a:lnTo>
                  <a:pt x="212626" y="26648"/>
                </a:lnTo>
                <a:lnTo>
                  <a:pt x="218530" y="26725"/>
                </a:lnTo>
                <a:lnTo>
                  <a:pt x="249998" y="2675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MARTInkAnnotation4"/>
          <p:cNvSpPr/>
          <p:nvPr/>
        </p:nvSpPr>
        <p:spPr>
          <a:xfrm>
            <a:off x="7429680" y="4902120"/>
            <a:ext cx="392040" cy="357120"/>
          </a:xfrm>
          <a:custGeom>
            <a:avLst/>
            <a:gdLst>
              <a:gd name="textAreaLeft" fmla="*/ 0 w 392040"/>
              <a:gd name="textAreaRight" fmla="*/ 392400 w 392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392798" h="357080">
                <a:moveTo>
                  <a:pt x="258961" y="0"/>
                </a:moveTo>
                <a:lnTo>
                  <a:pt x="220152" y="0"/>
                </a:lnTo>
                <a:lnTo>
                  <a:pt x="218206" y="993"/>
                </a:lnTo>
                <a:lnTo>
                  <a:pt x="216908" y="2646"/>
                </a:lnTo>
                <a:lnTo>
                  <a:pt x="216043" y="4741"/>
                </a:lnTo>
                <a:lnTo>
                  <a:pt x="214474" y="6138"/>
                </a:lnTo>
                <a:lnTo>
                  <a:pt x="212436" y="7068"/>
                </a:lnTo>
                <a:lnTo>
                  <a:pt x="207525" y="8103"/>
                </a:lnTo>
                <a:lnTo>
                  <a:pt x="196288" y="8766"/>
                </a:lnTo>
                <a:lnTo>
                  <a:pt x="193367" y="8821"/>
                </a:lnTo>
                <a:lnTo>
                  <a:pt x="190426" y="9849"/>
                </a:lnTo>
                <a:lnTo>
                  <a:pt x="181549" y="15046"/>
                </a:lnTo>
                <a:lnTo>
                  <a:pt x="175608" y="16609"/>
                </a:lnTo>
                <a:lnTo>
                  <a:pt x="166684" y="17489"/>
                </a:lnTo>
                <a:lnTo>
                  <a:pt x="163709" y="18604"/>
                </a:lnTo>
                <a:lnTo>
                  <a:pt x="154780" y="23924"/>
                </a:lnTo>
                <a:lnTo>
                  <a:pt x="145852" y="26933"/>
                </a:lnTo>
                <a:lnTo>
                  <a:pt x="136922" y="32675"/>
                </a:lnTo>
                <a:lnTo>
                  <a:pt x="127992" y="35810"/>
                </a:lnTo>
                <a:lnTo>
                  <a:pt x="119063" y="42581"/>
                </a:lnTo>
                <a:lnTo>
                  <a:pt x="113109" y="48029"/>
                </a:lnTo>
                <a:lnTo>
                  <a:pt x="110133" y="49879"/>
                </a:lnTo>
                <a:lnTo>
                  <a:pt x="101203" y="53475"/>
                </a:lnTo>
                <a:lnTo>
                  <a:pt x="92273" y="59391"/>
                </a:lnTo>
                <a:lnTo>
                  <a:pt x="86320" y="61123"/>
                </a:lnTo>
                <a:lnTo>
                  <a:pt x="84336" y="62577"/>
                </a:lnTo>
                <a:lnTo>
                  <a:pt x="83013" y="64538"/>
                </a:lnTo>
                <a:lnTo>
                  <a:pt x="82131" y="66838"/>
                </a:lnTo>
                <a:lnTo>
                  <a:pt x="76149" y="74815"/>
                </a:lnTo>
                <a:lnTo>
                  <a:pt x="68094" y="83462"/>
                </a:lnTo>
                <a:lnTo>
                  <a:pt x="41663" y="110136"/>
                </a:lnTo>
                <a:lnTo>
                  <a:pt x="39681" y="113112"/>
                </a:lnTo>
                <a:lnTo>
                  <a:pt x="37480" y="119063"/>
                </a:lnTo>
                <a:lnTo>
                  <a:pt x="35901" y="121047"/>
                </a:lnTo>
                <a:lnTo>
                  <a:pt x="33856" y="122370"/>
                </a:lnTo>
                <a:lnTo>
                  <a:pt x="31500" y="123253"/>
                </a:lnTo>
                <a:lnTo>
                  <a:pt x="29929" y="124832"/>
                </a:lnTo>
                <a:lnTo>
                  <a:pt x="28883" y="126879"/>
                </a:lnTo>
                <a:lnTo>
                  <a:pt x="28185" y="129234"/>
                </a:lnTo>
                <a:lnTo>
                  <a:pt x="24764" y="134498"/>
                </a:lnTo>
                <a:lnTo>
                  <a:pt x="22462" y="137290"/>
                </a:lnTo>
                <a:lnTo>
                  <a:pt x="20928" y="140144"/>
                </a:lnTo>
                <a:lnTo>
                  <a:pt x="17776" y="148901"/>
                </a:lnTo>
                <a:lnTo>
                  <a:pt x="10291" y="158980"/>
                </a:lnTo>
                <a:lnTo>
                  <a:pt x="9535" y="162601"/>
                </a:lnTo>
                <a:lnTo>
                  <a:pt x="9333" y="164955"/>
                </a:lnTo>
                <a:lnTo>
                  <a:pt x="8206" y="167517"/>
                </a:lnTo>
                <a:lnTo>
                  <a:pt x="2873" y="175864"/>
                </a:lnTo>
                <a:lnTo>
                  <a:pt x="1277" y="181680"/>
                </a:lnTo>
                <a:lnTo>
                  <a:pt x="378" y="190533"/>
                </a:lnTo>
                <a:lnTo>
                  <a:pt x="112" y="199439"/>
                </a:lnTo>
                <a:lnTo>
                  <a:pt x="0" y="263182"/>
                </a:lnTo>
                <a:lnTo>
                  <a:pt x="2646" y="271090"/>
                </a:lnTo>
                <a:lnTo>
                  <a:pt x="6138" y="280227"/>
                </a:lnTo>
                <a:lnTo>
                  <a:pt x="7689" y="287595"/>
                </a:lnTo>
                <a:lnTo>
                  <a:pt x="9095" y="289957"/>
                </a:lnTo>
                <a:lnTo>
                  <a:pt x="11024" y="291531"/>
                </a:lnTo>
                <a:lnTo>
                  <a:pt x="13302" y="292580"/>
                </a:lnTo>
                <a:lnTo>
                  <a:pt x="14821" y="294273"/>
                </a:lnTo>
                <a:lnTo>
                  <a:pt x="15835" y="296393"/>
                </a:lnTo>
                <a:lnTo>
                  <a:pt x="16509" y="298798"/>
                </a:lnTo>
                <a:lnTo>
                  <a:pt x="17952" y="300402"/>
                </a:lnTo>
                <a:lnTo>
                  <a:pt x="19905" y="301472"/>
                </a:lnTo>
                <a:lnTo>
                  <a:pt x="22200" y="302184"/>
                </a:lnTo>
                <a:lnTo>
                  <a:pt x="23730" y="303652"/>
                </a:lnTo>
                <a:lnTo>
                  <a:pt x="24750" y="305622"/>
                </a:lnTo>
                <a:lnTo>
                  <a:pt x="26386" y="311173"/>
                </a:lnTo>
                <a:lnTo>
                  <a:pt x="32846" y="319399"/>
                </a:lnTo>
                <a:lnTo>
                  <a:pt x="34442" y="324848"/>
                </a:lnTo>
                <a:lnTo>
                  <a:pt x="35860" y="326699"/>
                </a:lnTo>
                <a:lnTo>
                  <a:pt x="37798" y="327932"/>
                </a:lnTo>
                <a:lnTo>
                  <a:pt x="43295" y="329911"/>
                </a:lnTo>
                <a:lnTo>
                  <a:pt x="52219" y="338045"/>
                </a:lnTo>
                <a:lnTo>
                  <a:pt x="55620" y="338758"/>
                </a:lnTo>
                <a:lnTo>
                  <a:pt x="57916" y="338948"/>
                </a:lnTo>
                <a:lnTo>
                  <a:pt x="60439" y="340067"/>
                </a:lnTo>
                <a:lnTo>
                  <a:pt x="68730" y="345390"/>
                </a:lnTo>
                <a:lnTo>
                  <a:pt x="78639" y="347881"/>
                </a:lnTo>
                <a:lnTo>
                  <a:pt x="89853" y="348209"/>
                </a:lnTo>
                <a:lnTo>
                  <a:pt x="101313" y="348249"/>
                </a:lnTo>
                <a:lnTo>
                  <a:pt x="104253" y="349245"/>
                </a:lnTo>
                <a:lnTo>
                  <a:pt x="113131" y="354394"/>
                </a:lnTo>
                <a:lnTo>
                  <a:pt x="119072" y="355946"/>
                </a:lnTo>
                <a:lnTo>
                  <a:pt x="131301" y="357024"/>
                </a:lnTo>
                <a:lnTo>
                  <a:pt x="132182" y="357079"/>
                </a:lnTo>
                <a:lnTo>
                  <a:pt x="135808" y="354494"/>
                </a:lnTo>
                <a:lnTo>
                  <a:pt x="138164" y="352415"/>
                </a:lnTo>
                <a:lnTo>
                  <a:pt x="140726" y="351029"/>
                </a:lnTo>
                <a:lnTo>
                  <a:pt x="146219" y="349490"/>
                </a:lnTo>
                <a:lnTo>
                  <a:pt x="157831" y="348502"/>
                </a:lnTo>
                <a:lnTo>
                  <a:pt x="169679" y="348306"/>
                </a:lnTo>
                <a:lnTo>
                  <a:pt x="181573" y="348268"/>
                </a:lnTo>
                <a:lnTo>
                  <a:pt x="184549" y="347272"/>
                </a:lnTo>
                <a:lnTo>
                  <a:pt x="193477" y="342123"/>
                </a:lnTo>
                <a:lnTo>
                  <a:pt x="199430" y="340570"/>
                </a:lnTo>
                <a:lnTo>
                  <a:pt x="211336" y="339574"/>
                </a:lnTo>
                <a:lnTo>
                  <a:pt x="217289" y="339437"/>
                </a:lnTo>
                <a:lnTo>
                  <a:pt x="220266" y="338409"/>
                </a:lnTo>
                <a:lnTo>
                  <a:pt x="229195" y="333214"/>
                </a:lnTo>
                <a:lnTo>
                  <a:pt x="235148" y="331649"/>
                </a:lnTo>
                <a:lnTo>
                  <a:pt x="244078" y="330769"/>
                </a:lnTo>
                <a:lnTo>
                  <a:pt x="246063" y="329654"/>
                </a:lnTo>
                <a:lnTo>
                  <a:pt x="247386" y="327918"/>
                </a:lnTo>
                <a:lnTo>
                  <a:pt x="248268" y="325768"/>
                </a:lnTo>
                <a:lnTo>
                  <a:pt x="249848" y="324336"/>
                </a:lnTo>
                <a:lnTo>
                  <a:pt x="251893" y="323380"/>
                </a:lnTo>
                <a:lnTo>
                  <a:pt x="256812" y="322318"/>
                </a:lnTo>
                <a:lnTo>
                  <a:pt x="262305" y="321847"/>
                </a:lnTo>
                <a:lnTo>
                  <a:pt x="270701" y="318992"/>
                </a:lnTo>
                <a:lnTo>
                  <a:pt x="280053" y="315407"/>
                </a:lnTo>
                <a:lnTo>
                  <a:pt x="287517" y="313813"/>
                </a:lnTo>
                <a:lnTo>
                  <a:pt x="289906" y="312397"/>
                </a:lnTo>
                <a:lnTo>
                  <a:pt x="291497" y="310461"/>
                </a:lnTo>
                <a:lnTo>
                  <a:pt x="292558" y="308177"/>
                </a:lnTo>
                <a:lnTo>
                  <a:pt x="294257" y="306654"/>
                </a:lnTo>
                <a:lnTo>
                  <a:pt x="296382" y="305640"/>
                </a:lnTo>
                <a:lnTo>
                  <a:pt x="298791" y="304963"/>
                </a:lnTo>
                <a:lnTo>
                  <a:pt x="304114" y="301566"/>
                </a:lnTo>
                <a:lnTo>
                  <a:pt x="306922" y="299271"/>
                </a:lnTo>
                <a:lnTo>
                  <a:pt x="309787" y="297740"/>
                </a:lnTo>
                <a:lnTo>
                  <a:pt x="315616" y="296040"/>
                </a:lnTo>
                <a:lnTo>
                  <a:pt x="317567" y="294594"/>
                </a:lnTo>
                <a:lnTo>
                  <a:pt x="318867" y="292639"/>
                </a:lnTo>
                <a:lnTo>
                  <a:pt x="319734" y="290342"/>
                </a:lnTo>
                <a:lnTo>
                  <a:pt x="321304" y="288812"/>
                </a:lnTo>
                <a:lnTo>
                  <a:pt x="323344" y="287792"/>
                </a:lnTo>
                <a:lnTo>
                  <a:pt x="325696" y="287112"/>
                </a:lnTo>
                <a:lnTo>
                  <a:pt x="330954" y="283709"/>
                </a:lnTo>
                <a:lnTo>
                  <a:pt x="341239" y="274779"/>
                </a:lnTo>
                <a:lnTo>
                  <a:pt x="343578" y="272483"/>
                </a:lnTo>
                <a:lnTo>
                  <a:pt x="346131" y="270953"/>
                </a:lnTo>
                <a:lnTo>
                  <a:pt x="351612" y="269252"/>
                </a:lnTo>
                <a:lnTo>
                  <a:pt x="353471" y="267805"/>
                </a:lnTo>
                <a:lnTo>
                  <a:pt x="354710" y="265850"/>
                </a:lnTo>
                <a:lnTo>
                  <a:pt x="355536" y="263553"/>
                </a:lnTo>
                <a:lnTo>
                  <a:pt x="359099" y="258357"/>
                </a:lnTo>
                <a:lnTo>
                  <a:pt x="363990" y="251748"/>
                </a:lnTo>
                <a:lnTo>
                  <a:pt x="369471" y="242195"/>
                </a:lnTo>
                <a:lnTo>
                  <a:pt x="372570" y="233981"/>
                </a:lnTo>
                <a:lnTo>
                  <a:pt x="374313" y="223779"/>
                </a:lnTo>
                <a:lnTo>
                  <a:pt x="374558" y="220623"/>
                </a:lnTo>
                <a:lnTo>
                  <a:pt x="375713" y="218520"/>
                </a:lnTo>
                <a:lnTo>
                  <a:pt x="377475" y="217117"/>
                </a:lnTo>
                <a:lnTo>
                  <a:pt x="379643" y="216183"/>
                </a:lnTo>
                <a:lnTo>
                  <a:pt x="381088" y="214568"/>
                </a:lnTo>
                <a:lnTo>
                  <a:pt x="382050" y="212498"/>
                </a:lnTo>
                <a:lnTo>
                  <a:pt x="383120" y="207554"/>
                </a:lnTo>
                <a:lnTo>
                  <a:pt x="383723" y="199191"/>
                </a:lnTo>
                <a:lnTo>
                  <a:pt x="383901" y="190430"/>
                </a:lnTo>
                <a:lnTo>
                  <a:pt x="383976" y="157757"/>
                </a:lnTo>
                <a:lnTo>
                  <a:pt x="384968" y="154781"/>
                </a:lnTo>
                <a:lnTo>
                  <a:pt x="390114" y="145852"/>
                </a:lnTo>
                <a:lnTo>
                  <a:pt x="391665" y="139899"/>
                </a:lnTo>
                <a:lnTo>
                  <a:pt x="392538" y="130970"/>
                </a:lnTo>
                <a:lnTo>
                  <a:pt x="392797" y="122040"/>
                </a:lnTo>
                <a:lnTo>
                  <a:pt x="391841" y="119063"/>
                </a:lnTo>
                <a:lnTo>
                  <a:pt x="386748" y="110133"/>
                </a:lnTo>
                <a:lnTo>
                  <a:pt x="384342" y="99990"/>
                </a:lnTo>
                <a:lnTo>
                  <a:pt x="384084" y="94009"/>
                </a:lnTo>
                <a:lnTo>
                  <a:pt x="383056" y="91446"/>
                </a:lnTo>
                <a:lnTo>
                  <a:pt x="375417" y="80858"/>
                </a:lnTo>
                <a:lnTo>
                  <a:pt x="370416" y="75773"/>
                </a:lnTo>
                <a:lnTo>
                  <a:pt x="368984" y="73335"/>
                </a:lnTo>
                <a:lnTo>
                  <a:pt x="365974" y="65165"/>
                </a:lnTo>
                <a:lnTo>
                  <a:pt x="358540" y="55300"/>
                </a:lnTo>
                <a:lnTo>
                  <a:pt x="348173" y="44585"/>
                </a:lnTo>
                <a:lnTo>
                  <a:pt x="340689" y="37083"/>
                </a:lnTo>
                <a:lnTo>
                  <a:pt x="339243" y="36628"/>
                </a:lnTo>
                <a:lnTo>
                  <a:pt x="327018" y="35839"/>
                </a:lnTo>
                <a:lnTo>
                  <a:pt x="323114" y="35755"/>
                </a:lnTo>
                <a:lnTo>
                  <a:pt x="319553" y="33089"/>
                </a:lnTo>
                <a:lnTo>
                  <a:pt x="317216" y="30989"/>
                </a:lnTo>
                <a:lnTo>
                  <a:pt x="314665" y="29590"/>
                </a:lnTo>
                <a:lnTo>
                  <a:pt x="309184" y="28034"/>
                </a:lnTo>
                <a:lnTo>
                  <a:pt x="297582" y="27035"/>
                </a:lnTo>
                <a:lnTo>
                  <a:pt x="285735" y="26838"/>
                </a:lnTo>
                <a:lnTo>
                  <a:pt x="273841" y="26799"/>
                </a:lnTo>
                <a:lnTo>
                  <a:pt x="271858" y="25803"/>
                </a:lnTo>
                <a:lnTo>
                  <a:pt x="270535" y="24148"/>
                </a:lnTo>
                <a:lnTo>
                  <a:pt x="269654" y="22053"/>
                </a:lnTo>
                <a:lnTo>
                  <a:pt x="268074" y="20655"/>
                </a:lnTo>
                <a:lnTo>
                  <a:pt x="266028" y="19723"/>
                </a:lnTo>
                <a:lnTo>
                  <a:pt x="261110" y="18687"/>
                </a:lnTo>
                <a:lnTo>
                  <a:pt x="255617" y="18228"/>
                </a:lnTo>
                <a:lnTo>
                  <a:pt x="252762" y="17113"/>
                </a:lnTo>
                <a:lnTo>
                  <a:pt x="244005" y="11795"/>
                </a:lnTo>
                <a:lnTo>
                  <a:pt x="238093" y="10204"/>
                </a:lnTo>
                <a:lnTo>
                  <a:pt x="225884" y="9098"/>
                </a:lnTo>
                <a:lnTo>
                  <a:pt x="214313" y="893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MARTInkAnnotation5"/>
          <p:cNvSpPr/>
          <p:nvPr/>
        </p:nvSpPr>
        <p:spPr>
          <a:xfrm>
            <a:off x="7732800" y="5180040"/>
            <a:ext cx="206280" cy="231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05383" h="232173">
                <a:moveTo>
                  <a:pt x="89296" y="8929"/>
                </a:moveTo>
                <a:lnTo>
                  <a:pt x="94441" y="8929"/>
                </a:lnTo>
                <a:lnTo>
                  <a:pt x="90170" y="8929"/>
                </a:lnTo>
                <a:lnTo>
                  <a:pt x="94614" y="8929"/>
                </a:lnTo>
                <a:lnTo>
                  <a:pt x="92305" y="8929"/>
                </a:lnTo>
                <a:lnTo>
                  <a:pt x="97938" y="8929"/>
                </a:lnTo>
                <a:lnTo>
                  <a:pt x="98141" y="4189"/>
                </a:lnTo>
                <a:lnTo>
                  <a:pt x="99162" y="2792"/>
                </a:lnTo>
                <a:lnTo>
                  <a:pt x="100834" y="1862"/>
                </a:lnTo>
                <a:lnTo>
                  <a:pt x="105338" y="827"/>
                </a:lnTo>
                <a:lnTo>
                  <a:pt x="110648" y="368"/>
                </a:lnTo>
                <a:lnTo>
                  <a:pt x="116760" y="21"/>
                </a:lnTo>
                <a:lnTo>
                  <a:pt x="147237" y="0"/>
                </a:lnTo>
                <a:lnTo>
                  <a:pt x="149751" y="992"/>
                </a:lnTo>
                <a:lnTo>
                  <a:pt x="155191" y="4740"/>
                </a:lnTo>
                <a:lnTo>
                  <a:pt x="160247" y="8561"/>
                </a:lnTo>
                <a:lnTo>
                  <a:pt x="165330" y="8821"/>
                </a:lnTo>
                <a:lnTo>
                  <a:pt x="168380" y="8897"/>
                </a:lnTo>
                <a:lnTo>
                  <a:pt x="174024" y="13660"/>
                </a:lnTo>
                <a:lnTo>
                  <a:pt x="177240" y="16615"/>
                </a:lnTo>
                <a:lnTo>
                  <a:pt x="177691" y="18022"/>
                </a:lnTo>
                <a:lnTo>
                  <a:pt x="178192" y="22231"/>
                </a:lnTo>
                <a:lnTo>
                  <a:pt x="179318" y="23751"/>
                </a:lnTo>
                <a:lnTo>
                  <a:pt x="181061" y="24763"/>
                </a:lnTo>
                <a:lnTo>
                  <a:pt x="183215" y="25438"/>
                </a:lnTo>
                <a:lnTo>
                  <a:pt x="188255" y="28834"/>
                </a:lnTo>
                <a:lnTo>
                  <a:pt x="194833" y="34359"/>
                </a:lnTo>
                <a:lnTo>
                  <a:pt x="195373" y="35804"/>
                </a:lnTo>
                <a:lnTo>
                  <a:pt x="195973" y="40056"/>
                </a:lnTo>
                <a:lnTo>
                  <a:pt x="197125" y="42580"/>
                </a:lnTo>
                <a:lnTo>
                  <a:pt x="201051" y="48028"/>
                </a:lnTo>
                <a:lnTo>
                  <a:pt x="204099" y="51933"/>
                </a:lnTo>
                <a:lnTo>
                  <a:pt x="204812" y="55493"/>
                </a:lnTo>
                <a:lnTo>
                  <a:pt x="205129" y="60381"/>
                </a:lnTo>
                <a:lnTo>
                  <a:pt x="205270" y="65862"/>
                </a:lnTo>
                <a:lnTo>
                  <a:pt x="205382" y="120313"/>
                </a:lnTo>
                <a:lnTo>
                  <a:pt x="204391" y="122873"/>
                </a:lnTo>
                <a:lnTo>
                  <a:pt x="200641" y="128363"/>
                </a:lnTo>
                <a:lnTo>
                  <a:pt x="198314" y="134110"/>
                </a:lnTo>
                <a:lnTo>
                  <a:pt x="196821" y="141143"/>
                </a:lnTo>
                <a:lnTo>
                  <a:pt x="191821" y="147102"/>
                </a:lnTo>
                <a:lnTo>
                  <a:pt x="190389" y="149662"/>
                </a:lnTo>
                <a:lnTo>
                  <a:pt x="188797" y="155152"/>
                </a:lnTo>
                <a:lnTo>
                  <a:pt x="185443" y="160899"/>
                </a:lnTo>
                <a:lnTo>
                  <a:pt x="179946" y="167932"/>
                </a:lnTo>
                <a:lnTo>
                  <a:pt x="179194" y="171540"/>
                </a:lnTo>
                <a:lnTo>
                  <a:pt x="178994" y="173891"/>
                </a:lnTo>
                <a:lnTo>
                  <a:pt x="177868" y="175458"/>
                </a:lnTo>
                <a:lnTo>
                  <a:pt x="176126" y="176504"/>
                </a:lnTo>
                <a:lnTo>
                  <a:pt x="173971" y="177200"/>
                </a:lnTo>
                <a:lnTo>
                  <a:pt x="172535" y="178656"/>
                </a:lnTo>
                <a:lnTo>
                  <a:pt x="171578" y="180620"/>
                </a:lnTo>
                <a:lnTo>
                  <a:pt x="170940" y="182920"/>
                </a:lnTo>
                <a:lnTo>
                  <a:pt x="167585" y="188124"/>
                </a:lnTo>
                <a:lnTo>
                  <a:pt x="162087" y="194807"/>
                </a:lnTo>
                <a:lnTo>
                  <a:pt x="156394" y="200706"/>
                </a:lnTo>
                <a:lnTo>
                  <a:pt x="153164" y="203997"/>
                </a:lnTo>
                <a:lnTo>
                  <a:pt x="151719" y="204459"/>
                </a:lnTo>
                <a:lnTo>
                  <a:pt x="147466" y="204972"/>
                </a:lnTo>
                <a:lnTo>
                  <a:pt x="144944" y="206101"/>
                </a:lnTo>
                <a:lnTo>
                  <a:pt x="139494" y="210002"/>
                </a:lnTo>
                <a:lnTo>
                  <a:pt x="136652" y="211438"/>
                </a:lnTo>
                <a:lnTo>
                  <a:pt x="130849" y="213035"/>
                </a:lnTo>
                <a:lnTo>
                  <a:pt x="126744" y="213934"/>
                </a:lnTo>
                <a:lnTo>
                  <a:pt x="120787" y="218941"/>
                </a:lnTo>
                <a:lnTo>
                  <a:pt x="118228" y="220375"/>
                </a:lnTo>
                <a:lnTo>
                  <a:pt x="112737" y="221968"/>
                </a:lnTo>
                <a:lnTo>
                  <a:pt x="106991" y="222676"/>
                </a:lnTo>
                <a:lnTo>
                  <a:pt x="101130" y="222990"/>
                </a:lnTo>
                <a:lnTo>
                  <a:pt x="91050" y="223209"/>
                </a:lnTo>
                <a:lnTo>
                  <a:pt x="46409" y="223242"/>
                </a:lnTo>
                <a:lnTo>
                  <a:pt x="42785" y="220596"/>
                </a:lnTo>
                <a:lnTo>
                  <a:pt x="40429" y="218502"/>
                </a:lnTo>
                <a:lnTo>
                  <a:pt x="37867" y="217104"/>
                </a:lnTo>
                <a:lnTo>
                  <a:pt x="32374" y="215553"/>
                </a:lnTo>
                <a:lnTo>
                  <a:pt x="28443" y="214680"/>
                </a:lnTo>
                <a:lnTo>
                  <a:pt x="22539" y="209681"/>
                </a:lnTo>
                <a:lnTo>
                  <a:pt x="19987" y="208248"/>
                </a:lnTo>
                <a:lnTo>
                  <a:pt x="14505" y="206657"/>
                </a:lnTo>
                <a:lnTo>
                  <a:pt x="12647" y="205240"/>
                </a:lnTo>
                <a:lnTo>
                  <a:pt x="11407" y="203303"/>
                </a:lnTo>
                <a:lnTo>
                  <a:pt x="10582" y="201020"/>
                </a:lnTo>
                <a:lnTo>
                  <a:pt x="9038" y="199497"/>
                </a:lnTo>
                <a:lnTo>
                  <a:pt x="7018" y="198483"/>
                </a:lnTo>
                <a:lnTo>
                  <a:pt x="1386" y="196853"/>
                </a:lnTo>
                <a:lnTo>
                  <a:pt x="923" y="195728"/>
                </a:lnTo>
                <a:lnTo>
                  <a:pt x="121" y="188800"/>
                </a:lnTo>
                <a:lnTo>
                  <a:pt x="1" y="182792"/>
                </a:lnTo>
                <a:lnTo>
                  <a:pt x="0" y="179838"/>
                </a:lnTo>
                <a:lnTo>
                  <a:pt x="992" y="179423"/>
                </a:lnTo>
                <a:lnTo>
                  <a:pt x="7067" y="178757"/>
                </a:lnTo>
                <a:lnTo>
                  <a:pt x="13302" y="178626"/>
                </a:lnTo>
                <a:lnTo>
                  <a:pt x="68809" y="178594"/>
                </a:lnTo>
                <a:lnTo>
                  <a:pt x="70678" y="179586"/>
                </a:lnTo>
                <a:lnTo>
                  <a:pt x="75399" y="183334"/>
                </a:lnTo>
                <a:lnTo>
                  <a:pt x="78047" y="184731"/>
                </a:lnTo>
                <a:lnTo>
                  <a:pt x="83635" y="186282"/>
                </a:lnTo>
                <a:lnTo>
                  <a:pt x="89426" y="186972"/>
                </a:lnTo>
                <a:lnTo>
                  <a:pt x="92360" y="187155"/>
                </a:lnTo>
                <a:lnTo>
                  <a:pt x="95308" y="188270"/>
                </a:lnTo>
                <a:lnTo>
                  <a:pt x="101228" y="192155"/>
                </a:lnTo>
                <a:lnTo>
                  <a:pt x="107167" y="194542"/>
                </a:lnTo>
                <a:lnTo>
                  <a:pt x="114323" y="196076"/>
                </a:lnTo>
                <a:lnTo>
                  <a:pt x="120304" y="196341"/>
                </a:lnTo>
                <a:lnTo>
                  <a:pt x="122866" y="197370"/>
                </a:lnTo>
                <a:lnTo>
                  <a:pt x="128359" y="201160"/>
                </a:lnTo>
                <a:lnTo>
                  <a:pt x="134108" y="203506"/>
                </a:lnTo>
                <a:lnTo>
                  <a:pt x="139971" y="204549"/>
                </a:lnTo>
                <a:lnTo>
                  <a:pt x="145883" y="205012"/>
                </a:lnTo>
                <a:lnTo>
                  <a:pt x="147857" y="206127"/>
                </a:lnTo>
                <a:lnTo>
                  <a:pt x="149173" y="207864"/>
                </a:lnTo>
                <a:lnTo>
                  <a:pt x="150049" y="210014"/>
                </a:lnTo>
                <a:lnTo>
                  <a:pt x="151627" y="211447"/>
                </a:lnTo>
                <a:lnTo>
                  <a:pt x="153670" y="212402"/>
                </a:lnTo>
                <a:lnTo>
                  <a:pt x="158587" y="213463"/>
                </a:lnTo>
                <a:lnTo>
                  <a:pt x="164079" y="213935"/>
                </a:lnTo>
                <a:lnTo>
                  <a:pt x="165940" y="215053"/>
                </a:lnTo>
                <a:lnTo>
                  <a:pt x="167181" y="216790"/>
                </a:lnTo>
                <a:lnTo>
                  <a:pt x="168009" y="218941"/>
                </a:lnTo>
                <a:lnTo>
                  <a:pt x="169553" y="220375"/>
                </a:lnTo>
                <a:lnTo>
                  <a:pt x="171574" y="221330"/>
                </a:lnTo>
                <a:lnTo>
                  <a:pt x="177206" y="222864"/>
                </a:lnTo>
                <a:lnTo>
                  <a:pt x="182923" y="227871"/>
                </a:lnTo>
                <a:lnTo>
                  <a:pt x="186160" y="230898"/>
                </a:lnTo>
                <a:lnTo>
                  <a:pt x="189562" y="231606"/>
                </a:lnTo>
                <a:lnTo>
                  <a:pt x="195091" y="232060"/>
                </a:lnTo>
                <a:lnTo>
                  <a:pt x="200790" y="232138"/>
                </a:lnTo>
                <a:lnTo>
                  <a:pt x="205382" y="23217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MARTInkAnnotation6"/>
          <p:cNvSpPr/>
          <p:nvPr/>
        </p:nvSpPr>
        <p:spPr>
          <a:xfrm>
            <a:off x="8082000" y="4902120"/>
            <a:ext cx="382680" cy="250920"/>
          </a:xfrm>
          <a:custGeom>
            <a:avLst/>
            <a:gdLst>
              <a:gd name="textAreaLeft" fmla="*/ 0 w 382680"/>
              <a:gd name="textAreaRight" fmla="*/ 383040 w 38268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382718" h="250000">
                <a:moveTo>
                  <a:pt x="8921" y="98194"/>
                </a:moveTo>
                <a:lnTo>
                  <a:pt x="0" y="98194"/>
                </a:lnTo>
                <a:lnTo>
                  <a:pt x="92374" y="98194"/>
                </a:lnTo>
                <a:lnTo>
                  <a:pt x="95314" y="97203"/>
                </a:lnTo>
                <a:lnTo>
                  <a:pt x="105393" y="90505"/>
                </a:lnTo>
                <a:lnTo>
                  <a:pt x="109013" y="89816"/>
                </a:lnTo>
                <a:lnTo>
                  <a:pt x="119422" y="89373"/>
                </a:lnTo>
                <a:lnTo>
                  <a:pt x="122277" y="90329"/>
                </a:lnTo>
                <a:lnTo>
                  <a:pt x="131033" y="95424"/>
                </a:lnTo>
                <a:lnTo>
                  <a:pt x="136945" y="96963"/>
                </a:lnTo>
                <a:lnTo>
                  <a:pt x="145526" y="97647"/>
                </a:lnTo>
                <a:lnTo>
                  <a:pt x="157723" y="98086"/>
                </a:lnTo>
                <a:lnTo>
                  <a:pt x="159716" y="97129"/>
                </a:lnTo>
                <a:lnTo>
                  <a:pt x="167262" y="92035"/>
                </a:lnTo>
                <a:lnTo>
                  <a:pt x="172891" y="90496"/>
                </a:lnTo>
                <a:lnTo>
                  <a:pt x="184589" y="89508"/>
                </a:lnTo>
                <a:lnTo>
                  <a:pt x="196454" y="89312"/>
                </a:lnTo>
                <a:lnTo>
                  <a:pt x="244069" y="89264"/>
                </a:lnTo>
                <a:lnTo>
                  <a:pt x="252668" y="91910"/>
                </a:lnTo>
                <a:lnTo>
                  <a:pt x="264877" y="96953"/>
                </a:lnTo>
                <a:lnTo>
                  <a:pt x="271732" y="97826"/>
                </a:lnTo>
                <a:lnTo>
                  <a:pt x="282937" y="98122"/>
                </a:lnTo>
                <a:lnTo>
                  <a:pt x="352608" y="98194"/>
                </a:lnTo>
                <a:lnTo>
                  <a:pt x="354132" y="97203"/>
                </a:lnTo>
                <a:lnTo>
                  <a:pt x="355148" y="95548"/>
                </a:lnTo>
                <a:lnTo>
                  <a:pt x="355825" y="93454"/>
                </a:lnTo>
                <a:lnTo>
                  <a:pt x="357268" y="92058"/>
                </a:lnTo>
                <a:lnTo>
                  <a:pt x="359223" y="91126"/>
                </a:lnTo>
                <a:lnTo>
                  <a:pt x="364748" y="89632"/>
                </a:lnTo>
                <a:lnTo>
                  <a:pt x="373678" y="89296"/>
                </a:lnTo>
                <a:lnTo>
                  <a:pt x="374131" y="88294"/>
                </a:lnTo>
                <a:lnTo>
                  <a:pt x="375002" y="80704"/>
                </a:lnTo>
                <a:lnTo>
                  <a:pt x="375038" y="63828"/>
                </a:lnTo>
                <a:lnTo>
                  <a:pt x="368900" y="56605"/>
                </a:lnTo>
                <a:lnTo>
                  <a:pt x="367350" y="54905"/>
                </a:lnTo>
                <a:lnTo>
                  <a:pt x="365943" y="54452"/>
                </a:lnTo>
                <a:lnTo>
                  <a:pt x="361736" y="53949"/>
                </a:lnTo>
                <a:lnTo>
                  <a:pt x="360216" y="52823"/>
                </a:lnTo>
                <a:lnTo>
                  <a:pt x="359203" y="51079"/>
                </a:lnTo>
                <a:lnTo>
                  <a:pt x="358079" y="46496"/>
                </a:lnTo>
                <a:lnTo>
                  <a:pt x="357579" y="41152"/>
                </a:lnTo>
                <a:lnTo>
                  <a:pt x="356453" y="39331"/>
                </a:lnTo>
                <a:lnTo>
                  <a:pt x="354711" y="38115"/>
                </a:lnTo>
                <a:lnTo>
                  <a:pt x="350129" y="36766"/>
                </a:lnTo>
                <a:lnTo>
                  <a:pt x="344784" y="36167"/>
                </a:lnTo>
                <a:lnTo>
                  <a:pt x="342963" y="35014"/>
                </a:lnTo>
                <a:lnTo>
                  <a:pt x="341749" y="33254"/>
                </a:lnTo>
                <a:lnTo>
                  <a:pt x="340939" y="31088"/>
                </a:lnTo>
                <a:lnTo>
                  <a:pt x="339408" y="29644"/>
                </a:lnTo>
                <a:lnTo>
                  <a:pt x="337393" y="28682"/>
                </a:lnTo>
                <a:lnTo>
                  <a:pt x="332510" y="27612"/>
                </a:lnTo>
                <a:lnTo>
                  <a:pt x="327033" y="27137"/>
                </a:lnTo>
                <a:lnTo>
                  <a:pt x="324182" y="26018"/>
                </a:lnTo>
                <a:lnTo>
                  <a:pt x="314260" y="19102"/>
                </a:lnTo>
                <a:lnTo>
                  <a:pt x="310654" y="18393"/>
                </a:lnTo>
                <a:lnTo>
                  <a:pt x="308303" y="18204"/>
                </a:lnTo>
                <a:lnTo>
                  <a:pt x="305743" y="17087"/>
                </a:lnTo>
                <a:lnTo>
                  <a:pt x="297400" y="11764"/>
                </a:lnTo>
                <a:lnTo>
                  <a:pt x="287472" y="9275"/>
                </a:lnTo>
                <a:lnTo>
                  <a:pt x="276748" y="8920"/>
                </a:lnTo>
                <a:lnTo>
                  <a:pt x="269245" y="8900"/>
                </a:lnTo>
                <a:lnTo>
                  <a:pt x="261023" y="2761"/>
                </a:lnTo>
                <a:lnTo>
                  <a:pt x="250167" y="0"/>
                </a:lnTo>
                <a:lnTo>
                  <a:pt x="250036" y="7659"/>
                </a:lnTo>
                <a:lnTo>
                  <a:pt x="250023" y="16553"/>
                </a:lnTo>
                <a:lnTo>
                  <a:pt x="256159" y="23712"/>
                </a:lnTo>
                <a:lnTo>
                  <a:pt x="257711" y="25404"/>
                </a:lnTo>
                <a:lnTo>
                  <a:pt x="259117" y="25855"/>
                </a:lnTo>
                <a:lnTo>
                  <a:pt x="263326" y="26356"/>
                </a:lnTo>
                <a:lnTo>
                  <a:pt x="265836" y="27481"/>
                </a:lnTo>
                <a:lnTo>
                  <a:pt x="271272" y="31378"/>
                </a:lnTo>
                <a:lnTo>
                  <a:pt x="273119" y="33806"/>
                </a:lnTo>
                <a:lnTo>
                  <a:pt x="274350" y="36418"/>
                </a:lnTo>
                <a:lnTo>
                  <a:pt x="275171" y="39151"/>
                </a:lnTo>
                <a:lnTo>
                  <a:pt x="276709" y="40972"/>
                </a:lnTo>
                <a:lnTo>
                  <a:pt x="278728" y="42186"/>
                </a:lnTo>
                <a:lnTo>
                  <a:pt x="281066" y="42997"/>
                </a:lnTo>
                <a:lnTo>
                  <a:pt x="286309" y="46542"/>
                </a:lnTo>
                <a:lnTo>
                  <a:pt x="294562" y="53615"/>
                </a:lnTo>
                <a:lnTo>
                  <a:pt x="305630" y="64515"/>
                </a:lnTo>
                <a:lnTo>
                  <a:pt x="307931" y="66812"/>
                </a:lnTo>
                <a:lnTo>
                  <a:pt x="309464" y="69335"/>
                </a:lnTo>
                <a:lnTo>
                  <a:pt x="311168" y="74785"/>
                </a:lnTo>
                <a:lnTo>
                  <a:pt x="312614" y="76634"/>
                </a:lnTo>
                <a:lnTo>
                  <a:pt x="314570" y="77868"/>
                </a:lnTo>
                <a:lnTo>
                  <a:pt x="319390" y="79239"/>
                </a:lnTo>
                <a:lnTo>
                  <a:pt x="330569" y="80118"/>
                </a:lnTo>
                <a:lnTo>
                  <a:pt x="333486" y="80190"/>
                </a:lnTo>
                <a:lnTo>
                  <a:pt x="335431" y="81231"/>
                </a:lnTo>
                <a:lnTo>
                  <a:pt x="336726" y="82917"/>
                </a:lnTo>
                <a:lnTo>
                  <a:pt x="337591" y="85032"/>
                </a:lnTo>
                <a:lnTo>
                  <a:pt x="339159" y="86443"/>
                </a:lnTo>
                <a:lnTo>
                  <a:pt x="341197" y="87383"/>
                </a:lnTo>
                <a:lnTo>
                  <a:pt x="346856" y="88893"/>
                </a:lnTo>
                <a:lnTo>
                  <a:pt x="355134" y="96283"/>
                </a:lnTo>
                <a:lnTo>
                  <a:pt x="355814" y="96920"/>
                </a:lnTo>
                <a:lnTo>
                  <a:pt x="359218" y="97628"/>
                </a:lnTo>
                <a:lnTo>
                  <a:pt x="361514" y="97817"/>
                </a:lnTo>
                <a:lnTo>
                  <a:pt x="363047" y="98934"/>
                </a:lnTo>
                <a:lnTo>
                  <a:pt x="364067" y="100672"/>
                </a:lnTo>
                <a:lnTo>
                  <a:pt x="365705" y="105850"/>
                </a:lnTo>
                <a:lnTo>
                  <a:pt x="366832" y="106274"/>
                </a:lnTo>
                <a:lnTo>
                  <a:pt x="374661" y="107092"/>
                </a:lnTo>
                <a:lnTo>
                  <a:pt x="374926" y="111854"/>
                </a:lnTo>
                <a:lnTo>
                  <a:pt x="375955" y="113254"/>
                </a:lnTo>
                <a:lnTo>
                  <a:pt x="377634" y="114187"/>
                </a:lnTo>
                <a:lnTo>
                  <a:pt x="382717" y="115685"/>
                </a:lnTo>
                <a:lnTo>
                  <a:pt x="382142" y="115807"/>
                </a:lnTo>
                <a:lnTo>
                  <a:pt x="378856" y="115944"/>
                </a:lnTo>
                <a:lnTo>
                  <a:pt x="377584" y="116972"/>
                </a:lnTo>
                <a:lnTo>
                  <a:pt x="376735" y="118651"/>
                </a:lnTo>
                <a:lnTo>
                  <a:pt x="375373" y="123732"/>
                </a:lnTo>
                <a:lnTo>
                  <a:pt x="375104" y="130873"/>
                </a:lnTo>
                <a:lnTo>
                  <a:pt x="375068" y="132562"/>
                </a:lnTo>
                <a:lnTo>
                  <a:pt x="368907" y="139783"/>
                </a:lnTo>
                <a:lnTo>
                  <a:pt x="361737" y="147180"/>
                </a:lnTo>
                <a:lnTo>
                  <a:pt x="360216" y="149704"/>
                </a:lnTo>
                <a:lnTo>
                  <a:pt x="358530" y="155152"/>
                </a:lnTo>
                <a:lnTo>
                  <a:pt x="355133" y="160881"/>
                </a:lnTo>
                <a:lnTo>
                  <a:pt x="352839" y="163799"/>
                </a:lnTo>
                <a:lnTo>
                  <a:pt x="350316" y="165742"/>
                </a:lnTo>
                <a:lnTo>
                  <a:pt x="347643" y="167039"/>
                </a:lnTo>
                <a:lnTo>
                  <a:pt x="344869" y="167903"/>
                </a:lnTo>
                <a:lnTo>
                  <a:pt x="339139" y="171509"/>
                </a:lnTo>
                <a:lnTo>
                  <a:pt x="330336" y="179117"/>
                </a:lnTo>
                <a:lnTo>
                  <a:pt x="324412" y="184762"/>
                </a:lnTo>
                <a:lnTo>
                  <a:pt x="309551" y="199430"/>
                </a:lnTo>
                <a:lnTo>
                  <a:pt x="306575" y="201403"/>
                </a:lnTo>
                <a:lnTo>
                  <a:pt x="297647" y="205173"/>
                </a:lnTo>
                <a:lnTo>
                  <a:pt x="288718" y="211141"/>
                </a:lnTo>
                <a:lnTo>
                  <a:pt x="278796" y="214342"/>
                </a:lnTo>
                <a:lnTo>
                  <a:pt x="269095" y="218607"/>
                </a:lnTo>
                <a:lnTo>
                  <a:pt x="260814" y="221164"/>
                </a:lnTo>
                <a:lnTo>
                  <a:pt x="257217" y="221846"/>
                </a:lnTo>
                <a:lnTo>
                  <a:pt x="250574" y="225249"/>
                </a:lnTo>
                <a:lnTo>
                  <a:pt x="247414" y="227546"/>
                </a:lnTo>
                <a:lnTo>
                  <a:pt x="245306" y="230069"/>
                </a:lnTo>
                <a:lnTo>
                  <a:pt x="243903" y="232744"/>
                </a:lnTo>
                <a:lnTo>
                  <a:pt x="242966" y="235519"/>
                </a:lnTo>
                <a:lnTo>
                  <a:pt x="241349" y="237369"/>
                </a:lnTo>
                <a:lnTo>
                  <a:pt x="239280" y="238602"/>
                </a:lnTo>
                <a:lnTo>
                  <a:pt x="233568" y="240581"/>
                </a:lnTo>
                <a:lnTo>
                  <a:pt x="230141" y="243498"/>
                </a:lnTo>
                <a:lnTo>
                  <a:pt x="223233" y="2499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MARTInkAnnotation7"/>
          <p:cNvSpPr/>
          <p:nvPr/>
        </p:nvSpPr>
        <p:spPr>
          <a:xfrm>
            <a:off x="8501040" y="4751280"/>
            <a:ext cx="258840" cy="392400"/>
          </a:xfrm>
          <a:custGeom>
            <a:avLst/>
            <a:gdLst>
              <a:gd name="textAreaLeft" fmla="*/ 0 w 258840"/>
              <a:gd name="textAreaRight" fmla="*/ 259200 w 258840"/>
              <a:gd name="textAreaTop" fmla="*/ 0 h 392400"/>
              <a:gd name="textAreaBottom" fmla="*/ 392760 h 392400"/>
            </a:gdLst>
            <a:ahLst/>
            <a:rect l="textAreaLeft" t="textAreaTop" r="textAreaRight" b="textAreaBottom"/>
            <a:pathLst>
              <a:path w="258961" h="392875">
                <a:moveTo>
                  <a:pt x="258960" y="8897"/>
                </a:moveTo>
                <a:lnTo>
                  <a:pt x="242451" y="8897"/>
                </a:lnTo>
                <a:lnTo>
                  <a:pt x="236409" y="6251"/>
                </a:lnTo>
                <a:lnTo>
                  <a:pt x="224012" y="336"/>
                </a:lnTo>
                <a:lnTo>
                  <a:pt x="216275" y="17"/>
                </a:lnTo>
                <a:lnTo>
                  <a:pt x="215620" y="0"/>
                </a:lnTo>
                <a:lnTo>
                  <a:pt x="209959" y="4718"/>
                </a:lnTo>
                <a:lnTo>
                  <a:pt x="207442" y="6111"/>
                </a:lnTo>
                <a:lnTo>
                  <a:pt x="200150" y="8072"/>
                </a:lnTo>
                <a:lnTo>
                  <a:pt x="196556" y="8652"/>
                </a:lnTo>
                <a:lnTo>
                  <a:pt x="188907" y="8865"/>
                </a:lnTo>
                <a:lnTo>
                  <a:pt x="165411" y="8897"/>
                </a:lnTo>
                <a:lnTo>
                  <a:pt x="162860" y="9890"/>
                </a:lnTo>
                <a:lnTo>
                  <a:pt x="155521" y="15035"/>
                </a:lnTo>
                <a:lnTo>
                  <a:pt x="153456" y="16586"/>
                </a:lnTo>
                <a:lnTo>
                  <a:pt x="149893" y="17276"/>
                </a:lnTo>
                <a:lnTo>
                  <a:pt x="142308" y="17664"/>
                </a:lnTo>
                <a:lnTo>
                  <a:pt x="139520" y="17718"/>
                </a:lnTo>
                <a:lnTo>
                  <a:pt x="137662" y="18746"/>
                </a:lnTo>
                <a:lnTo>
                  <a:pt x="136423" y="20425"/>
                </a:lnTo>
                <a:lnTo>
                  <a:pt x="135597" y="22535"/>
                </a:lnTo>
                <a:lnTo>
                  <a:pt x="128134" y="32060"/>
                </a:lnTo>
                <a:lnTo>
                  <a:pt x="120686" y="39950"/>
                </a:lnTo>
                <a:lnTo>
                  <a:pt x="118159" y="41506"/>
                </a:lnTo>
                <a:lnTo>
                  <a:pt x="112707" y="43233"/>
                </a:lnTo>
                <a:lnTo>
                  <a:pt x="110856" y="44687"/>
                </a:lnTo>
                <a:lnTo>
                  <a:pt x="109624" y="46647"/>
                </a:lnTo>
                <a:lnTo>
                  <a:pt x="108801" y="48947"/>
                </a:lnTo>
                <a:lnTo>
                  <a:pt x="106268" y="50480"/>
                </a:lnTo>
                <a:lnTo>
                  <a:pt x="102595" y="51502"/>
                </a:lnTo>
                <a:lnTo>
                  <a:pt x="98162" y="52184"/>
                </a:lnTo>
                <a:lnTo>
                  <a:pt x="95207" y="53630"/>
                </a:lnTo>
                <a:lnTo>
                  <a:pt x="93236" y="55586"/>
                </a:lnTo>
                <a:lnTo>
                  <a:pt x="90055" y="60405"/>
                </a:lnTo>
                <a:lnTo>
                  <a:pt x="82574" y="68938"/>
                </a:lnTo>
                <a:lnTo>
                  <a:pt x="76062" y="75659"/>
                </a:lnTo>
                <a:lnTo>
                  <a:pt x="68067" y="83690"/>
                </a:lnTo>
                <a:lnTo>
                  <a:pt x="66213" y="86540"/>
                </a:lnTo>
                <a:lnTo>
                  <a:pt x="62614" y="95293"/>
                </a:lnTo>
                <a:lnTo>
                  <a:pt x="55704" y="104170"/>
                </a:lnTo>
                <a:lnTo>
                  <a:pt x="50224" y="110111"/>
                </a:lnTo>
                <a:lnTo>
                  <a:pt x="48365" y="113083"/>
                </a:lnTo>
                <a:lnTo>
                  <a:pt x="44756" y="122009"/>
                </a:lnTo>
                <a:lnTo>
                  <a:pt x="40395" y="127960"/>
                </a:lnTo>
                <a:lnTo>
                  <a:pt x="37846" y="129944"/>
                </a:lnTo>
                <a:lnTo>
                  <a:pt x="35152" y="131267"/>
                </a:lnTo>
                <a:lnTo>
                  <a:pt x="32364" y="132150"/>
                </a:lnTo>
                <a:lnTo>
                  <a:pt x="30505" y="133729"/>
                </a:lnTo>
                <a:lnTo>
                  <a:pt x="29267" y="135776"/>
                </a:lnTo>
                <a:lnTo>
                  <a:pt x="27889" y="140694"/>
                </a:lnTo>
                <a:lnTo>
                  <a:pt x="27006" y="151936"/>
                </a:lnTo>
                <a:lnTo>
                  <a:pt x="26934" y="154859"/>
                </a:lnTo>
                <a:lnTo>
                  <a:pt x="25894" y="156807"/>
                </a:lnTo>
                <a:lnTo>
                  <a:pt x="24207" y="158105"/>
                </a:lnTo>
                <a:lnTo>
                  <a:pt x="22092" y="158970"/>
                </a:lnTo>
                <a:lnTo>
                  <a:pt x="20680" y="161532"/>
                </a:lnTo>
                <a:lnTo>
                  <a:pt x="18694" y="172634"/>
                </a:lnTo>
                <a:lnTo>
                  <a:pt x="17969" y="182521"/>
                </a:lnTo>
                <a:lnTo>
                  <a:pt x="15262" y="190575"/>
                </a:lnTo>
                <a:lnTo>
                  <a:pt x="11744" y="199776"/>
                </a:lnTo>
                <a:lnTo>
                  <a:pt x="9762" y="210534"/>
                </a:lnTo>
                <a:lnTo>
                  <a:pt x="9299" y="216915"/>
                </a:lnTo>
                <a:lnTo>
                  <a:pt x="8184" y="220005"/>
                </a:lnTo>
                <a:lnTo>
                  <a:pt x="2865" y="229095"/>
                </a:lnTo>
                <a:lnTo>
                  <a:pt x="1272" y="235086"/>
                </a:lnTo>
                <a:lnTo>
                  <a:pt x="251" y="247017"/>
                </a:lnTo>
                <a:lnTo>
                  <a:pt x="48" y="258928"/>
                </a:lnTo>
                <a:lnTo>
                  <a:pt x="0" y="315506"/>
                </a:lnTo>
                <a:lnTo>
                  <a:pt x="992" y="318475"/>
                </a:lnTo>
                <a:lnTo>
                  <a:pt x="6137" y="327394"/>
                </a:lnTo>
                <a:lnTo>
                  <a:pt x="9095" y="336320"/>
                </a:lnTo>
                <a:lnTo>
                  <a:pt x="16509" y="346462"/>
                </a:lnTo>
                <a:lnTo>
                  <a:pt x="23729" y="354014"/>
                </a:lnTo>
                <a:lnTo>
                  <a:pt x="25428" y="355759"/>
                </a:lnTo>
                <a:lnTo>
                  <a:pt x="25882" y="357217"/>
                </a:lnTo>
                <a:lnTo>
                  <a:pt x="26385" y="361482"/>
                </a:lnTo>
                <a:lnTo>
                  <a:pt x="27513" y="364009"/>
                </a:lnTo>
                <a:lnTo>
                  <a:pt x="34442" y="373369"/>
                </a:lnTo>
                <a:lnTo>
                  <a:pt x="35859" y="373919"/>
                </a:lnTo>
                <a:lnTo>
                  <a:pt x="40080" y="374527"/>
                </a:lnTo>
                <a:lnTo>
                  <a:pt x="42595" y="375682"/>
                </a:lnTo>
                <a:lnTo>
                  <a:pt x="48035" y="379611"/>
                </a:lnTo>
                <a:lnTo>
                  <a:pt x="50874" y="381055"/>
                </a:lnTo>
                <a:lnTo>
                  <a:pt x="58620" y="383088"/>
                </a:lnTo>
                <a:lnTo>
                  <a:pt x="60779" y="383564"/>
                </a:lnTo>
                <a:lnTo>
                  <a:pt x="66735" y="388572"/>
                </a:lnTo>
                <a:lnTo>
                  <a:pt x="69295" y="390006"/>
                </a:lnTo>
                <a:lnTo>
                  <a:pt x="76644" y="392024"/>
                </a:lnTo>
                <a:lnTo>
                  <a:pt x="80257" y="392622"/>
                </a:lnTo>
                <a:lnTo>
                  <a:pt x="87169" y="392799"/>
                </a:lnTo>
                <a:lnTo>
                  <a:pt x="128102" y="392874"/>
                </a:lnTo>
                <a:lnTo>
                  <a:pt x="131041" y="391883"/>
                </a:lnTo>
                <a:lnTo>
                  <a:pt x="136953" y="388134"/>
                </a:lnTo>
                <a:lnTo>
                  <a:pt x="142888" y="385806"/>
                </a:lnTo>
                <a:lnTo>
                  <a:pt x="150042" y="384312"/>
                </a:lnTo>
                <a:lnTo>
                  <a:pt x="156023" y="384053"/>
                </a:lnTo>
                <a:lnTo>
                  <a:pt x="158585" y="383025"/>
                </a:lnTo>
                <a:lnTo>
                  <a:pt x="164079" y="379236"/>
                </a:lnTo>
                <a:lnTo>
                  <a:pt x="169827" y="376891"/>
                </a:lnTo>
                <a:lnTo>
                  <a:pt x="175690" y="375848"/>
                </a:lnTo>
                <a:lnTo>
                  <a:pt x="183576" y="375262"/>
                </a:lnTo>
                <a:lnTo>
                  <a:pt x="189389" y="375063"/>
                </a:lnTo>
                <a:lnTo>
                  <a:pt x="191744" y="375048"/>
                </a:lnTo>
                <a:lnTo>
                  <a:pt x="194305" y="374045"/>
                </a:lnTo>
                <a:lnTo>
                  <a:pt x="201660" y="368884"/>
                </a:lnTo>
                <a:lnTo>
                  <a:pt x="203729" y="367329"/>
                </a:lnTo>
                <a:lnTo>
                  <a:pt x="207294" y="366638"/>
                </a:lnTo>
                <a:lnTo>
                  <a:pt x="214879" y="366249"/>
                </a:lnTo>
                <a:lnTo>
                  <a:pt x="223409" y="366134"/>
                </a:lnTo>
                <a:lnTo>
                  <a:pt x="254906" y="366085"/>
                </a:lnTo>
                <a:lnTo>
                  <a:pt x="250031" y="3660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MARTInkAnnotation8"/>
          <p:cNvSpPr/>
          <p:nvPr/>
        </p:nvSpPr>
        <p:spPr>
          <a:xfrm>
            <a:off x="8796240" y="4697280"/>
            <a:ext cx="231840" cy="384480"/>
          </a:xfrm>
          <a:custGeom>
            <a:avLst/>
            <a:gdLst>
              <a:gd name="textAreaLeft" fmla="*/ 0 w 231840"/>
              <a:gd name="textAreaRight" fmla="*/ 232200 w 231840"/>
              <a:gd name="textAreaTop" fmla="*/ 0 h 384480"/>
              <a:gd name="textAreaBottom" fmla="*/ 384840 h 384480"/>
            </a:gdLst>
            <a:ahLst/>
            <a:rect l="textAreaLeft" t="textAreaTop" r="textAreaRight" b="textAreaBottom"/>
            <a:pathLst>
              <a:path w="232062" h="383977">
                <a:moveTo>
                  <a:pt x="169661" y="8929"/>
                </a:moveTo>
                <a:lnTo>
                  <a:pt x="164920" y="8929"/>
                </a:lnTo>
                <a:lnTo>
                  <a:pt x="163525" y="7937"/>
                </a:lnTo>
                <a:lnTo>
                  <a:pt x="162594" y="6283"/>
                </a:lnTo>
                <a:lnTo>
                  <a:pt x="161973" y="4189"/>
                </a:lnTo>
                <a:lnTo>
                  <a:pt x="161560" y="3785"/>
                </a:lnTo>
                <a:lnTo>
                  <a:pt x="161284" y="4507"/>
                </a:lnTo>
                <a:lnTo>
                  <a:pt x="161101" y="5981"/>
                </a:lnTo>
                <a:lnTo>
                  <a:pt x="159985" y="5972"/>
                </a:lnTo>
                <a:lnTo>
                  <a:pt x="153077" y="983"/>
                </a:lnTo>
                <a:lnTo>
                  <a:pt x="149723" y="436"/>
                </a:lnTo>
                <a:lnTo>
                  <a:pt x="143273" y="25"/>
                </a:lnTo>
                <a:lnTo>
                  <a:pt x="112956" y="0"/>
                </a:lnTo>
                <a:lnTo>
                  <a:pt x="111021" y="992"/>
                </a:lnTo>
                <a:lnTo>
                  <a:pt x="109733" y="2645"/>
                </a:lnTo>
                <a:lnTo>
                  <a:pt x="108873" y="4740"/>
                </a:lnTo>
                <a:lnTo>
                  <a:pt x="107307" y="6137"/>
                </a:lnTo>
                <a:lnTo>
                  <a:pt x="105271" y="7067"/>
                </a:lnTo>
                <a:lnTo>
                  <a:pt x="102922" y="7688"/>
                </a:lnTo>
                <a:lnTo>
                  <a:pt x="101356" y="9094"/>
                </a:lnTo>
                <a:lnTo>
                  <a:pt x="100313" y="11023"/>
                </a:lnTo>
                <a:lnTo>
                  <a:pt x="99615" y="13302"/>
                </a:lnTo>
                <a:lnTo>
                  <a:pt x="98159" y="14821"/>
                </a:lnTo>
                <a:lnTo>
                  <a:pt x="96197" y="15834"/>
                </a:lnTo>
                <a:lnTo>
                  <a:pt x="93897" y="16509"/>
                </a:lnTo>
                <a:lnTo>
                  <a:pt x="92362" y="17951"/>
                </a:lnTo>
                <a:lnTo>
                  <a:pt x="91340" y="19905"/>
                </a:lnTo>
                <a:lnTo>
                  <a:pt x="90658" y="22200"/>
                </a:lnTo>
                <a:lnTo>
                  <a:pt x="89212" y="23730"/>
                </a:lnTo>
                <a:lnTo>
                  <a:pt x="87255" y="24749"/>
                </a:lnTo>
                <a:lnTo>
                  <a:pt x="84958" y="25429"/>
                </a:lnTo>
                <a:lnTo>
                  <a:pt x="79761" y="28830"/>
                </a:lnTo>
                <a:lnTo>
                  <a:pt x="76984" y="31126"/>
                </a:lnTo>
                <a:lnTo>
                  <a:pt x="75135" y="33650"/>
                </a:lnTo>
                <a:lnTo>
                  <a:pt x="71539" y="41940"/>
                </a:lnTo>
                <a:lnTo>
                  <a:pt x="64631" y="50681"/>
                </a:lnTo>
                <a:lnTo>
                  <a:pt x="59151" y="56590"/>
                </a:lnTo>
                <a:lnTo>
                  <a:pt x="57292" y="59555"/>
                </a:lnTo>
                <a:lnTo>
                  <a:pt x="55227" y="65495"/>
                </a:lnTo>
                <a:lnTo>
                  <a:pt x="53685" y="67475"/>
                </a:lnTo>
                <a:lnTo>
                  <a:pt x="51664" y="68796"/>
                </a:lnTo>
                <a:lnTo>
                  <a:pt x="49325" y="69676"/>
                </a:lnTo>
                <a:lnTo>
                  <a:pt x="47766" y="72247"/>
                </a:lnTo>
                <a:lnTo>
                  <a:pt x="46032" y="80396"/>
                </a:lnTo>
                <a:lnTo>
                  <a:pt x="42616" y="87987"/>
                </a:lnTo>
                <a:lnTo>
                  <a:pt x="40316" y="91400"/>
                </a:lnTo>
                <a:lnTo>
                  <a:pt x="37760" y="97838"/>
                </a:lnTo>
                <a:lnTo>
                  <a:pt x="37079" y="100944"/>
                </a:lnTo>
                <a:lnTo>
                  <a:pt x="33675" y="107041"/>
                </a:lnTo>
                <a:lnTo>
                  <a:pt x="31380" y="110056"/>
                </a:lnTo>
                <a:lnTo>
                  <a:pt x="28829" y="116051"/>
                </a:lnTo>
                <a:lnTo>
                  <a:pt x="27392" y="125006"/>
                </a:lnTo>
                <a:lnTo>
                  <a:pt x="27189" y="127985"/>
                </a:lnTo>
                <a:lnTo>
                  <a:pt x="24320" y="136588"/>
                </a:lnTo>
                <a:lnTo>
                  <a:pt x="20729" y="146033"/>
                </a:lnTo>
                <a:lnTo>
                  <a:pt x="18708" y="156930"/>
                </a:lnTo>
                <a:lnTo>
                  <a:pt x="18235" y="163342"/>
                </a:lnTo>
                <a:lnTo>
                  <a:pt x="17117" y="166442"/>
                </a:lnTo>
                <a:lnTo>
                  <a:pt x="13227" y="172532"/>
                </a:lnTo>
                <a:lnTo>
                  <a:pt x="10838" y="181191"/>
                </a:lnTo>
                <a:lnTo>
                  <a:pt x="10202" y="186278"/>
                </a:lnTo>
                <a:lnTo>
                  <a:pt x="10769" y="190662"/>
                </a:lnTo>
                <a:lnTo>
                  <a:pt x="12139" y="194577"/>
                </a:lnTo>
                <a:lnTo>
                  <a:pt x="14046" y="198179"/>
                </a:lnTo>
                <a:lnTo>
                  <a:pt x="14323" y="201573"/>
                </a:lnTo>
                <a:lnTo>
                  <a:pt x="13517" y="204826"/>
                </a:lnTo>
                <a:lnTo>
                  <a:pt x="11988" y="207989"/>
                </a:lnTo>
                <a:lnTo>
                  <a:pt x="10287" y="216794"/>
                </a:lnTo>
                <a:lnTo>
                  <a:pt x="9532" y="226329"/>
                </a:lnTo>
                <a:lnTo>
                  <a:pt x="9195" y="233874"/>
                </a:lnTo>
                <a:lnTo>
                  <a:pt x="6401" y="243181"/>
                </a:lnTo>
                <a:lnTo>
                  <a:pt x="2844" y="252940"/>
                </a:lnTo>
                <a:lnTo>
                  <a:pt x="841" y="264011"/>
                </a:lnTo>
                <a:lnTo>
                  <a:pt x="247" y="274568"/>
                </a:lnTo>
                <a:lnTo>
                  <a:pt x="31" y="296379"/>
                </a:lnTo>
                <a:lnTo>
                  <a:pt x="0" y="315403"/>
                </a:lnTo>
                <a:lnTo>
                  <a:pt x="991" y="318417"/>
                </a:lnTo>
                <a:lnTo>
                  <a:pt x="6135" y="327399"/>
                </a:lnTo>
                <a:lnTo>
                  <a:pt x="7687" y="333365"/>
                </a:lnTo>
                <a:lnTo>
                  <a:pt x="8683" y="345279"/>
                </a:lnTo>
                <a:lnTo>
                  <a:pt x="8818" y="351233"/>
                </a:lnTo>
                <a:lnTo>
                  <a:pt x="9846" y="353218"/>
                </a:lnTo>
                <a:lnTo>
                  <a:pt x="11525" y="354541"/>
                </a:lnTo>
                <a:lnTo>
                  <a:pt x="13636" y="355423"/>
                </a:lnTo>
                <a:lnTo>
                  <a:pt x="18626" y="359049"/>
                </a:lnTo>
                <a:lnTo>
                  <a:pt x="25175" y="364721"/>
                </a:lnTo>
                <a:lnTo>
                  <a:pt x="31049" y="370444"/>
                </a:lnTo>
                <a:lnTo>
                  <a:pt x="34333" y="373683"/>
                </a:lnTo>
                <a:lnTo>
                  <a:pt x="35786" y="374138"/>
                </a:lnTo>
                <a:lnTo>
                  <a:pt x="40047" y="374643"/>
                </a:lnTo>
                <a:lnTo>
                  <a:pt x="42572" y="375769"/>
                </a:lnTo>
                <a:lnTo>
                  <a:pt x="48024" y="379668"/>
                </a:lnTo>
                <a:lnTo>
                  <a:pt x="51930" y="382700"/>
                </a:lnTo>
                <a:lnTo>
                  <a:pt x="55490" y="383408"/>
                </a:lnTo>
                <a:lnTo>
                  <a:pt x="60379" y="383724"/>
                </a:lnTo>
                <a:lnTo>
                  <a:pt x="69783" y="383943"/>
                </a:lnTo>
                <a:lnTo>
                  <a:pt x="110502" y="383976"/>
                </a:lnTo>
                <a:lnTo>
                  <a:pt x="112363" y="382984"/>
                </a:lnTo>
                <a:lnTo>
                  <a:pt x="113603" y="381330"/>
                </a:lnTo>
                <a:lnTo>
                  <a:pt x="114430" y="379236"/>
                </a:lnTo>
                <a:lnTo>
                  <a:pt x="115973" y="377839"/>
                </a:lnTo>
                <a:lnTo>
                  <a:pt x="117995" y="376908"/>
                </a:lnTo>
                <a:lnTo>
                  <a:pt x="122887" y="375874"/>
                </a:lnTo>
                <a:lnTo>
                  <a:pt x="128367" y="375414"/>
                </a:lnTo>
                <a:lnTo>
                  <a:pt x="130226" y="374300"/>
                </a:lnTo>
                <a:lnTo>
                  <a:pt x="131464" y="372564"/>
                </a:lnTo>
                <a:lnTo>
                  <a:pt x="132291" y="370415"/>
                </a:lnTo>
                <a:lnTo>
                  <a:pt x="133834" y="368982"/>
                </a:lnTo>
                <a:lnTo>
                  <a:pt x="135854" y="368028"/>
                </a:lnTo>
                <a:lnTo>
                  <a:pt x="140746" y="366966"/>
                </a:lnTo>
                <a:lnTo>
                  <a:pt x="146228" y="366494"/>
                </a:lnTo>
                <a:lnTo>
                  <a:pt x="149077" y="365377"/>
                </a:lnTo>
                <a:lnTo>
                  <a:pt x="154891" y="361488"/>
                </a:lnTo>
                <a:lnTo>
                  <a:pt x="156839" y="359063"/>
                </a:lnTo>
                <a:lnTo>
                  <a:pt x="158136" y="356453"/>
                </a:lnTo>
                <a:lnTo>
                  <a:pt x="159001" y="353721"/>
                </a:lnTo>
                <a:lnTo>
                  <a:pt x="160571" y="351900"/>
                </a:lnTo>
                <a:lnTo>
                  <a:pt x="162610" y="350686"/>
                </a:lnTo>
                <a:lnTo>
                  <a:pt x="164959" y="349877"/>
                </a:lnTo>
                <a:lnTo>
                  <a:pt x="170218" y="346331"/>
                </a:lnTo>
                <a:lnTo>
                  <a:pt x="176938" y="340711"/>
                </a:lnTo>
                <a:lnTo>
                  <a:pt x="182843" y="334997"/>
                </a:lnTo>
                <a:lnTo>
                  <a:pt x="191851" y="326062"/>
                </a:lnTo>
                <a:lnTo>
                  <a:pt x="193384" y="323538"/>
                </a:lnTo>
                <a:lnTo>
                  <a:pt x="195088" y="318088"/>
                </a:lnTo>
                <a:lnTo>
                  <a:pt x="196534" y="316239"/>
                </a:lnTo>
                <a:lnTo>
                  <a:pt x="198490" y="315006"/>
                </a:lnTo>
                <a:lnTo>
                  <a:pt x="200788" y="314183"/>
                </a:lnTo>
                <a:lnTo>
                  <a:pt x="205985" y="310624"/>
                </a:lnTo>
                <a:lnTo>
                  <a:pt x="208760" y="308285"/>
                </a:lnTo>
                <a:lnTo>
                  <a:pt x="210611" y="305735"/>
                </a:lnTo>
                <a:lnTo>
                  <a:pt x="213823" y="296331"/>
                </a:lnTo>
                <a:lnTo>
                  <a:pt x="214166" y="290428"/>
                </a:lnTo>
                <a:lnTo>
                  <a:pt x="215206" y="287877"/>
                </a:lnTo>
                <a:lnTo>
                  <a:pt x="220419" y="279545"/>
                </a:lnTo>
                <a:lnTo>
                  <a:pt x="221987" y="273732"/>
                </a:lnTo>
                <a:lnTo>
                  <a:pt x="222994" y="262907"/>
                </a:lnTo>
                <a:lnTo>
                  <a:pt x="223218" y="252178"/>
                </a:lnTo>
                <a:lnTo>
                  <a:pt x="223238" y="238015"/>
                </a:lnTo>
                <a:lnTo>
                  <a:pt x="224230" y="235075"/>
                </a:lnTo>
                <a:lnTo>
                  <a:pt x="229377" y="226197"/>
                </a:lnTo>
                <a:lnTo>
                  <a:pt x="230929" y="220256"/>
                </a:lnTo>
                <a:lnTo>
                  <a:pt x="231925" y="208357"/>
                </a:lnTo>
                <a:lnTo>
                  <a:pt x="232061" y="202405"/>
                </a:lnTo>
                <a:lnTo>
                  <a:pt x="231105" y="199428"/>
                </a:lnTo>
                <a:lnTo>
                  <a:pt x="226012" y="190499"/>
                </a:lnTo>
                <a:lnTo>
                  <a:pt x="224473" y="184547"/>
                </a:lnTo>
                <a:lnTo>
                  <a:pt x="223605" y="175617"/>
                </a:lnTo>
                <a:lnTo>
                  <a:pt x="224476" y="172640"/>
                </a:lnTo>
                <a:lnTo>
                  <a:pt x="229448" y="163710"/>
                </a:lnTo>
                <a:lnTo>
                  <a:pt x="230961" y="157758"/>
                </a:lnTo>
                <a:lnTo>
                  <a:pt x="230372" y="154780"/>
                </a:lnTo>
                <a:lnTo>
                  <a:pt x="225794" y="145851"/>
                </a:lnTo>
                <a:lnTo>
                  <a:pt x="224375" y="139898"/>
                </a:lnTo>
                <a:lnTo>
                  <a:pt x="223577" y="130969"/>
                </a:lnTo>
                <a:lnTo>
                  <a:pt x="222472" y="128984"/>
                </a:lnTo>
                <a:lnTo>
                  <a:pt x="220743" y="127661"/>
                </a:lnTo>
                <a:lnTo>
                  <a:pt x="218600" y="126778"/>
                </a:lnTo>
                <a:lnTo>
                  <a:pt x="217170" y="125199"/>
                </a:lnTo>
                <a:lnTo>
                  <a:pt x="216217" y="123153"/>
                </a:lnTo>
                <a:lnTo>
                  <a:pt x="215157" y="118234"/>
                </a:lnTo>
                <a:lnTo>
                  <a:pt x="214686" y="112741"/>
                </a:lnTo>
                <a:lnTo>
                  <a:pt x="213569" y="109887"/>
                </a:lnTo>
                <a:lnTo>
                  <a:pt x="206655" y="99958"/>
                </a:lnTo>
                <a:lnTo>
                  <a:pt x="205947" y="96350"/>
                </a:lnTo>
                <a:lnTo>
                  <a:pt x="205758" y="93999"/>
                </a:lnTo>
                <a:lnTo>
                  <a:pt x="204641" y="91439"/>
                </a:lnTo>
                <a:lnTo>
                  <a:pt x="197725" y="82021"/>
                </a:lnTo>
                <a:lnTo>
                  <a:pt x="192089" y="76116"/>
                </a:lnTo>
                <a:lnTo>
                  <a:pt x="189573" y="74557"/>
                </a:lnTo>
                <a:lnTo>
                  <a:pt x="184133" y="72823"/>
                </a:lnTo>
                <a:lnTo>
                  <a:pt x="178410" y="69407"/>
                </a:lnTo>
                <a:lnTo>
                  <a:pt x="175493" y="67108"/>
                </a:lnTo>
                <a:lnTo>
                  <a:pt x="173549" y="64582"/>
                </a:lnTo>
                <a:lnTo>
                  <a:pt x="172255" y="61907"/>
                </a:lnTo>
                <a:lnTo>
                  <a:pt x="171390" y="59130"/>
                </a:lnTo>
                <a:lnTo>
                  <a:pt x="169822" y="57279"/>
                </a:lnTo>
                <a:lnTo>
                  <a:pt x="167785" y="56045"/>
                </a:lnTo>
                <a:lnTo>
                  <a:pt x="165434" y="55223"/>
                </a:lnTo>
                <a:lnTo>
                  <a:pt x="163867" y="53682"/>
                </a:lnTo>
                <a:lnTo>
                  <a:pt x="162823" y="51663"/>
                </a:lnTo>
                <a:lnTo>
                  <a:pt x="162125" y="49325"/>
                </a:lnTo>
                <a:lnTo>
                  <a:pt x="160669" y="47766"/>
                </a:lnTo>
                <a:lnTo>
                  <a:pt x="158707" y="46727"/>
                </a:lnTo>
                <a:lnTo>
                  <a:pt x="151802" y="4464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MARTInkAnnotation9"/>
          <p:cNvSpPr/>
          <p:nvPr/>
        </p:nvSpPr>
        <p:spPr>
          <a:xfrm>
            <a:off x="8894880" y="5099040"/>
            <a:ext cx="142920" cy="204840"/>
          </a:xfrm>
          <a:custGeom>
            <a:avLst/>
            <a:gdLst>
              <a:gd name="textAreaLeft" fmla="*/ 0 w 142920"/>
              <a:gd name="textAreaRight" fmla="*/ 143280 w 1429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142850" h="205383">
                <a:moveTo>
                  <a:pt x="98200" y="0"/>
                </a:moveTo>
                <a:lnTo>
                  <a:pt x="93055" y="0"/>
                </a:lnTo>
                <a:lnTo>
                  <a:pt x="102918" y="0"/>
                </a:lnTo>
                <a:lnTo>
                  <a:pt x="104322" y="992"/>
                </a:lnTo>
                <a:lnTo>
                  <a:pt x="105259" y="2645"/>
                </a:lnTo>
                <a:lnTo>
                  <a:pt x="106760" y="7688"/>
                </a:lnTo>
                <a:lnTo>
                  <a:pt x="109612" y="11024"/>
                </a:lnTo>
                <a:lnTo>
                  <a:pt x="115683" y="17459"/>
                </a:lnTo>
                <a:lnTo>
                  <a:pt x="115948" y="22482"/>
                </a:lnTo>
                <a:lnTo>
                  <a:pt x="116977" y="23917"/>
                </a:lnTo>
                <a:lnTo>
                  <a:pt x="118656" y="24874"/>
                </a:lnTo>
                <a:lnTo>
                  <a:pt x="120767" y="25512"/>
                </a:lnTo>
                <a:lnTo>
                  <a:pt x="122174" y="26930"/>
                </a:lnTo>
                <a:lnTo>
                  <a:pt x="123113" y="28868"/>
                </a:lnTo>
                <a:lnTo>
                  <a:pt x="124155" y="33665"/>
                </a:lnTo>
                <a:lnTo>
                  <a:pt x="124620" y="39105"/>
                </a:lnTo>
                <a:lnTo>
                  <a:pt x="125734" y="41945"/>
                </a:lnTo>
                <a:lnTo>
                  <a:pt x="129620" y="47746"/>
                </a:lnTo>
                <a:lnTo>
                  <a:pt x="132009" y="53632"/>
                </a:lnTo>
                <a:lnTo>
                  <a:pt x="133070" y="59554"/>
                </a:lnTo>
                <a:lnTo>
                  <a:pt x="133542" y="65495"/>
                </a:lnTo>
                <a:lnTo>
                  <a:pt x="133752" y="71442"/>
                </a:lnTo>
                <a:lnTo>
                  <a:pt x="133886" y="83344"/>
                </a:lnTo>
                <a:lnTo>
                  <a:pt x="134889" y="85328"/>
                </a:lnTo>
                <a:lnTo>
                  <a:pt x="136551" y="86650"/>
                </a:lnTo>
                <a:lnTo>
                  <a:pt x="138649" y="87533"/>
                </a:lnTo>
                <a:lnTo>
                  <a:pt x="140050" y="89112"/>
                </a:lnTo>
                <a:lnTo>
                  <a:pt x="140982" y="91159"/>
                </a:lnTo>
                <a:lnTo>
                  <a:pt x="142019" y="96077"/>
                </a:lnTo>
                <a:lnTo>
                  <a:pt x="142479" y="101570"/>
                </a:lnTo>
                <a:lnTo>
                  <a:pt x="142684" y="107320"/>
                </a:lnTo>
                <a:lnTo>
                  <a:pt x="142828" y="115923"/>
                </a:lnTo>
                <a:lnTo>
                  <a:pt x="142849" y="138195"/>
                </a:lnTo>
                <a:lnTo>
                  <a:pt x="141857" y="140748"/>
                </a:lnTo>
                <a:lnTo>
                  <a:pt x="138108" y="146228"/>
                </a:lnTo>
                <a:lnTo>
                  <a:pt x="135161" y="150152"/>
                </a:lnTo>
                <a:lnTo>
                  <a:pt x="134472" y="153716"/>
                </a:lnTo>
                <a:lnTo>
                  <a:pt x="134027" y="159348"/>
                </a:lnTo>
                <a:lnTo>
                  <a:pt x="133950" y="165064"/>
                </a:lnTo>
                <a:lnTo>
                  <a:pt x="132948" y="166598"/>
                </a:lnTo>
                <a:lnTo>
                  <a:pt x="131287" y="167620"/>
                </a:lnTo>
                <a:lnTo>
                  <a:pt x="129189" y="168301"/>
                </a:lnTo>
                <a:lnTo>
                  <a:pt x="127788" y="169747"/>
                </a:lnTo>
                <a:lnTo>
                  <a:pt x="126855" y="171703"/>
                </a:lnTo>
                <a:lnTo>
                  <a:pt x="126233" y="174000"/>
                </a:lnTo>
                <a:lnTo>
                  <a:pt x="124827" y="175531"/>
                </a:lnTo>
                <a:lnTo>
                  <a:pt x="122896" y="176552"/>
                </a:lnTo>
                <a:lnTo>
                  <a:pt x="120617" y="177232"/>
                </a:lnTo>
                <a:lnTo>
                  <a:pt x="118105" y="178679"/>
                </a:lnTo>
                <a:lnTo>
                  <a:pt x="115439" y="180635"/>
                </a:lnTo>
                <a:lnTo>
                  <a:pt x="108771" y="186162"/>
                </a:lnTo>
                <a:lnTo>
                  <a:pt x="108225" y="187608"/>
                </a:lnTo>
                <a:lnTo>
                  <a:pt x="107617" y="191860"/>
                </a:lnTo>
                <a:lnTo>
                  <a:pt x="106462" y="193391"/>
                </a:lnTo>
                <a:lnTo>
                  <a:pt x="104701" y="194411"/>
                </a:lnTo>
                <a:lnTo>
                  <a:pt x="99484" y="196050"/>
                </a:lnTo>
                <a:lnTo>
                  <a:pt x="96124" y="196273"/>
                </a:lnTo>
                <a:lnTo>
                  <a:pt x="93840" y="196333"/>
                </a:lnTo>
                <a:lnTo>
                  <a:pt x="92318" y="197365"/>
                </a:lnTo>
                <a:lnTo>
                  <a:pt x="91301" y="199045"/>
                </a:lnTo>
                <a:lnTo>
                  <a:pt x="90624" y="201158"/>
                </a:lnTo>
                <a:lnTo>
                  <a:pt x="89181" y="202567"/>
                </a:lnTo>
                <a:lnTo>
                  <a:pt x="87227" y="203505"/>
                </a:lnTo>
                <a:lnTo>
                  <a:pt x="84931" y="204131"/>
                </a:lnTo>
                <a:lnTo>
                  <a:pt x="82409" y="204548"/>
                </a:lnTo>
                <a:lnTo>
                  <a:pt x="79736" y="204826"/>
                </a:lnTo>
                <a:lnTo>
                  <a:pt x="76961" y="205012"/>
                </a:lnTo>
                <a:lnTo>
                  <a:pt x="74118" y="205135"/>
                </a:lnTo>
                <a:lnTo>
                  <a:pt x="64210" y="205349"/>
                </a:lnTo>
                <a:lnTo>
                  <a:pt x="37053" y="205382"/>
                </a:lnTo>
                <a:lnTo>
                  <a:pt x="33652" y="202736"/>
                </a:lnTo>
                <a:lnTo>
                  <a:pt x="31355" y="200642"/>
                </a:lnTo>
                <a:lnTo>
                  <a:pt x="28833" y="199245"/>
                </a:lnTo>
                <a:lnTo>
                  <a:pt x="26157" y="198315"/>
                </a:lnTo>
                <a:lnTo>
                  <a:pt x="19478" y="196820"/>
                </a:lnTo>
                <a:lnTo>
                  <a:pt x="15918" y="196617"/>
                </a:lnTo>
                <a:lnTo>
                  <a:pt x="9315" y="196462"/>
                </a:lnTo>
                <a:lnTo>
                  <a:pt x="6441" y="193811"/>
                </a:lnTo>
                <a:lnTo>
                  <a:pt x="4285" y="191716"/>
                </a:lnTo>
                <a:lnTo>
                  <a:pt x="3840" y="190318"/>
                </a:lnTo>
                <a:lnTo>
                  <a:pt x="4536" y="189386"/>
                </a:lnTo>
                <a:lnTo>
                  <a:pt x="5990" y="188765"/>
                </a:lnTo>
                <a:lnTo>
                  <a:pt x="5970" y="188350"/>
                </a:lnTo>
                <a:lnTo>
                  <a:pt x="4963" y="188075"/>
                </a:lnTo>
                <a:lnTo>
                  <a:pt x="12" y="187527"/>
                </a:lnTo>
                <a:lnTo>
                  <a:pt x="0" y="187526"/>
                </a:lnTo>
                <a:lnTo>
                  <a:pt x="4721" y="187524"/>
                </a:lnTo>
                <a:lnTo>
                  <a:pt x="6116" y="186532"/>
                </a:lnTo>
                <a:lnTo>
                  <a:pt x="7046" y="184877"/>
                </a:lnTo>
                <a:lnTo>
                  <a:pt x="8537" y="179835"/>
                </a:lnTo>
                <a:lnTo>
                  <a:pt x="9651" y="179421"/>
                </a:lnTo>
                <a:lnTo>
                  <a:pt x="13536" y="178961"/>
                </a:lnTo>
                <a:lnTo>
                  <a:pt x="15960" y="178838"/>
                </a:lnTo>
                <a:lnTo>
                  <a:pt x="21300" y="178702"/>
                </a:lnTo>
                <a:lnTo>
                  <a:pt x="74400" y="178593"/>
                </a:lnTo>
                <a:lnTo>
                  <a:pt x="77372" y="179586"/>
                </a:lnTo>
                <a:lnTo>
                  <a:pt x="80346" y="181239"/>
                </a:lnTo>
                <a:lnTo>
                  <a:pt x="83321" y="183334"/>
                </a:lnTo>
                <a:lnTo>
                  <a:pt x="87289" y="184731"/>
                </a:lnTo>
                <a:lnTo>
                  <a:pt x="91918" y="185661"/>
                </a:lnTo>
                <a:lnTo>
                  <a:pt x="96990" y="186282"/>
                </a:lnTo>
                <a:lnTo>
                  <a:pt x="101361" y="187688"/>
                </a:lnTo>
                <a:lnTo>
                  <a:pt x="105269" y="189617"/>
                </a:lnTo>
                <a:lnTo>
                  <a:pt x="108866" y="191895"/>
                </a:lnTo>
                <a:lnTo>
                  <a:pt x="112256" y="193415"/>
                </a:lnTo>
                <a:lnTo>
                  <a:pt x="115509" y="194428"/>
                </a:lnTo>
                <a:lnTo>
                  <a:pt x="118669" y="195103"/>
                </a:lnTo>
                <a:lnTo>
                  <a:pt x="120776" y="196545"/>
                </a:lnTo>
                <a:lnTo>
                  <a:pt x="122179" y="198498"/>
                </a:lnTo>
                <a:lnTo>
                  <a:pt x="124989" y="20538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9010800" y="5126040"/>
            <a:ext cx="1440" cy="360"/>
          </a:xfrm>
          <a:custGeom>
            <a:avLst/>
            <a:gdLst>
              <a:gd name="textAreaLeft" fmla="*/ 0 w 1440"/>
              <a:gd name="textAreaRight" fmla="*/ 1800 w 144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2646" h="1">
                <a:moveTo>
                  <a:pt x="0" y="0"/>
                </a:moveTo>
                <a:lnTo>
                  <a:pt x="2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MARTInkAnnotation11"/>
          <p:cNvSpPr/>
          <p:nvPr/>
        </p:nvSpPr>
        <p:spPr>
          <a:xfrm>
            <a:off x="8867880" y="5126040"/>
            <a:ext cx="123840" cy="44280"/>
          </a:xfrm>
          <a:custGeom>
            <a:avLst/>
            <a:gdLst>
              <a:gd name="textAreaLeft" fmla="*/ 0 w 123840"/>
              <a:gd name="textAreaRight" fmla="*/ 124200 w 12384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125015" h="44649">
                <a:moveTo>
                  <a:pt x="125014" y="0"/>
                </a:moveTo>
                <a:lnTo>
                  <a:pt x="93596" y="0"/>
                </a:lnTo>
                <a:lnTo>
                  <a:pt x="92163" y="992"/>
                </a:lnTo>
                <a:lnTo>
                  <a:pt x="91207" y="2645"/>
                </a:lnTo>
                <a:lnTo>
                  <a:pt x="89329" y="8820"/>
                </a:lnTo>
                <a:lnTo>
                  <a:pt x="86665" y="8880"/>
                </a:lnTo>
                <a:lnTo>
                  <a:pt x="68046" y="8929"/>
                </a:lnTo>
                <a:lnTo>
                  <a:pt x="65208" y="9921"/>
                </a:lnTo>
                <a:lnTo>
                  <a:pt x="62324" y="11575"/>
                </a:lnTo>
                <a:lnTo>
                  <a:pt x="55305" y="16618"/>
                </a:lnTo>
                <a:lnTo>
                  <a:pt x="51699" y="17308"/>
                </a:lnTo>
                <a:lnTo>
                  <a:pt x="45060" y="17827"/>
                </a:lnTo>
                <a:lnTo>
                  <a:pt x="40029" y="17849"/>
                </a:lnTo>
                <a:lnTo>
                  <a:pt x="38592" y="18845"/>
                </a:lnTo>
                <a:lnTo>
                  <a:pt x="37634" y="20500"/>
                </a:lnTo>
                <a:lnTo>
                  <a:pt x="36996" y="22597"/>
                </a:lnTo>
                <a:lnTo>
                  <a:pt x="35578" y="23995"/>
                </a:lnTo>
                <a:lnTo>
                  <a:pt x="33640" y="24926"/>
                </a:lnTo>
                <a:lnTo>
                  <a:pt x="27189" y="26680"/>
                </a:lnTo>
                <a:lnTo>
                  <a:pt x="24321" y="26740"/>
                </a:lnTo>
                <a:lnTo>
                  <a:pt x="22166" y="26757"/>
                </a:lnTo>
                <a:lnTo>
                  <a:pt x="20731" y="27759"/>
                </a:lnTo>
                <a:lnTo>
                  <a:pt x="19773" y="29420"/>
                </a:lnTo>
                <a:lnTo>
                  <a:pt x="19135" y="31519"/>
                </a:lnTo>
                <a:lnTo>
                  <a:pt x="17717" y="32919"/>
                </a:lnTo>
                <a:lnTo>
                  <a:pt x="15781" y="33852"/>
                </a:lnTo>
                <a:lnTo>
                  <a:pt x="10282" y="35350"/>
                </a:lnTo>
                <a:lnTo>
                  <a:pt x="9831" y="36465"/>
                </a:lnTo>
                <a:lnTo>
                  <a:pt x="9530" y="38200"/>
                </a:lnTo>
                <a:lnTo>
                  <a:pt x="9047" y="43374"/>
                </a:lnTo>
                <a:lnTo>
                  <a:pt x="8016" y="43799"/>
                </a:lnTo>
                <a:lnTo>
                  <a:pt x="4225" y="44271"/>
                </a:lnTo>
                <a:lnTo>
                  <a:pt x="32" y="44645"/>
                </a:lnTo>
                <a:lnTo>
                  <a:pt x="2" y="44647"/>
                </a:lnTo>
                <a:lnTo>
                  <a:pt x="0" y="44648"/>
                </a:lnTo>
                <a:lnTo>
                  <a:pt x="4739" y="44648"/>
                </a:lnTo>
                <a:lnTo>
                  <a:pt x="6136" y="43655"/>
                </a:lnTo>
                <a:lnTo>
                  <a:pt x="7067" y="42002"/>
                </a:lnTo>
                <a:lnTo>
                  <a:pt x="8562" y="36959"/>
                </a:lnTo>
                <a:lnTo>
                  <a:pt x="9676" y="36546"/>
                </a:lnTo>
                <a:lnTo>
                  <a:pt x="13561" y="36086"/>
                </a:lnTo>
                <a:lnTo>
                  <a:pt x="15985" y="34972"/>
                </a:lnTo>
                <a:lnTo>
                  <a:pt x="18594" y="33236"/>
                </a:lnTo>
                <a:lnTo>
                  <a:pt x="25169" y="28063"/>
                </a:lnTo>
                <a:lnTo>
                  <a:pt x="26702" y="26646"/>
                </a:lnTo>
                <a:lnTo>
                  <a:pt x="35717" y="1785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MARTInkAnnotation12"/>
          <p:cNvSpPr/>
          <p:nvPr/>
        </p:nvSpPr>
        <p:spPr>
          <a:xfrm>
            <a:off x="8991720" y="5315040"/>
            <a:ext cx="54000" cy="42840"/>
          </a:xfrm>
          <a:custGeom>
            <a:avLst/>
            <a:gdLst>
              <a:gd name="textAreaLeft" fmla="*/ 0 w 54000"/>
              <a:gd name="textAreaRight" fmla="*/ 54360 w 5400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53471" h="43409">
                <a:moveTo>
                  <a:pt x="8822" y="7689"/>
                </a:moveTo>
                <a:lnTo>
                  <a:pt x="0" y="7689"/>
                </a:lnTo>
                <a:lnTo>
                  <a:pt x="2587" y="5043"/>
                </a:lnTo>
                <a:lnTo>
                  <a:pt x="7589" y="0"/>
                </a:lnTo>
                <a:lnTo>
                  <a:pt x="8000" y="579"/>
                </a:lnTo>
                <a:lnTo>
                  <a:pt x="8274" y="1957"/>
                </a:lnTo>
                <a:lnTo>
                  <a:pt x="8817" y="7644"/>
                </a:lnTo>
                <a:lnTo>
                  <a:pt x="8818" y="7659"/>
                </a:lnTo>
                <a:lnTo>
                  <a:pt x="17383" y="7688"/>
                </a:lnTo>
                <a:lnTo>
                  <a:pt x="17506" y="8680"/>
                </a:lnTo>
                <a:lnTo>
                  <a:pt x="17587" y="10334"/>
                </a:lnTo>
                <a:lnTo>
                  <a:pt x="17642" y="12429"/>
                </a:lnTo>
                <a:lnTo>
                  <a:pt x="18671" y="13825"/>
                </a:lnTo>
                <a:lnTo>
                  <a:pt x="20348" y="14757"/>
                </a:lnTo>
                <a:lnTo>
                  <a:pt x="26310" y="16510"/>
                </a:lnTo>
                <a:lnTo>
                  <a:pt x="27426" y="16546"/>
                </a:lnTo>
                <a:lnTo>
                  <a:pt x="-31199" y="16609"/>
                </a:lnTo>
                <a:lnTo>
                  <a:pt x="-30774" y="17605"/>
                </a:lnTo>
                <a:lnTo>
                  <a:pt x="-30492" y="19260"/>
                </a:lnTo>
                <a:lnTo>
                  <a:pt x="-30037" y="24306"/>
                </a:lnTo>
                <a:lnTo>
                  <a:pt x="-29008" y="24721"/>
                </a:lnTo>
                <a:lnTo>
                  <a:pt x="-27328" y="24996"/>
                </a:lnTo>
                <a:lnTo>
                  <a:pt x="-21029" y="25545"/>
                </a:lnTo>
                <a:lnTo>
                  <a:pt x="-12066" y="-31058"/>
                </a:lnTo>
                <a:lnTo>
                  <a:pt x="-12066" y="-221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bing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of matter can be classified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hysical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roperty that can be observed and measured without changing the material’s 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color, hardness, melting point, boiling poi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Chemical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 property that can only be observed by changing the composition of the mater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ability to burn, decompose, ferment, react with other sub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D9E-7C22-4CDE-8E5A-0033222D04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tates of Matte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ates of mat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Sol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a definite shape and definite volu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s are packed tightly toge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Liqu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indefinite shape, takes shape of container, has definite volu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s are close together but are free to flow past one anoth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Comic Sans MS"/>
              </a:rPr>
              <a:t>G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s indefinite shape and indefinite volum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refore, takes both shape and volume of contain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rticles are far apart and can move freel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apo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– a substance that is currently a gas, but normally is a liquid at room temperatu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water gas? or water vapor?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5BDB-9072-4A04-8CFF-6A6D5DA87B5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886200" y="59436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486400" y="609480"/>
            <a:ext cx="33526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ook at the pictures in your notes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Sha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olu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“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closeness” of molecu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of Mat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Main Pha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90C1-21F5-4C57-818F-FFA4CB6AFB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phases"/>
          <p:cNvPicPr/>
          <p:nvPr/>
        </p:nvPicPr>
        <p:blipFill>
          <a:blip r:embed="rId1"/>
          <a:stretch/>
        </p:blipFill>
        <p:spPr>
          <a:xfrm>
            <a:off x="914400" y="2209680"/>
            <a:ext cx="7315200" cy="4356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105" name="Text Box 5"/>
          <p:cNvSpPr/>
          <p:nvPr/>
        </p:nvSpPr>
        <p:spPr>
          <a:xfrm>
            <a:off x="5486400" y="533520"/>
            <a:ext cx="33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Look at the pictures at the bottom of your notes p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Shap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olu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       “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closeness” of molecu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anges Matter Undergo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Comic Sans MS"/>
              </a:rPr>
              <a:t>Physical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nges the appearance of the substance without changing the composition of the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boil, melt, cut, bend, split, cra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be both reversible or irreversib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ersible changes involve a change from one physical state to another (boil, mel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rreversible – cutting hair, cracking an eg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DAAD-974F-4310-8FEA-E408DEC1A9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Physical Changes in Matter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versible physical changes in Mat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Object 9"/>
          <p:cNvGraphicFramePr/>
          <p:nvPr/>
        </p:nvGraphicFramePr>
        <p:xfrm>
          <a:off x="1600200" y="3048120"/>
          <a:ext cx="61722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1722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1"/>
          <p:cNvGraphicFramePr/>
          <p:nvPr/>
        </p:nvGraphicFramePr>
        <p:xfrm>
          <a:off x="4038480" y="3048120"/>
          <a:ext cx="13050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048120"/>
                    <a:ext cx="1305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4369-2CB8-4A96-A416-9DAEE5335F8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3"/>
          <p:cNvGraphicFramePr/>
          <p:nvPr/>
        </p:nvGraphicFramePr>
        <p:xfrm>
          <a:off x="3809880" y="3581280"/>
          <a:ext cx="1905120" cy="2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81280"/>
                    <a:ext cx="19051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4"/>
          <p:cNvGraphicFramePr/>
          <p:nvPr/>
        </p:nvGraphicFramePr>
        <p:xfrm>
          <a:off x="5486400" y="4114800"/>
          <a:ext cx="971640" cy="101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4114800"/>
                    <a:ext cx="97164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5"/>
          <p:cNvGraphicFramePr/>
          <p:nvPr/>
        </p:nvGraphicFramePr>
        <p:xfrm>
          <a:off x="5257800" y="3886200"/>
          <a:ext cx="809640" cy="88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57800" y="3886200"/>
                    <a:ext cx="80964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6"/>
          <p:cNvGraphicFramePr/>
          <p:nvPr/>
        </p:nvGraphicFramePr>
        <p:xfrm>
          <a:off x="2666880" y="4267080"/>
          <a:ext cx="762120" cy="81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66880" y="4267080"/>
                    <a:ext cx="76212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7"/>
          <p:cNvGraphicFramePr/>
          <p:nvPr/>
        </p:nvGraphicFramePr>
        <p:xfrm>
          <a:off x="2895480" y="3962520"/>
          <a:ext cx="809640" cy="876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5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3962520"/>
                    <a:ext cx="80964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Changes Matter Undergo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Comic Sans MS"/>
              </a:rPr>
              <a:t>Chemical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hange where a new form of matter is creat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 – rust, burn, decompose, fer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BADD-96D9-44AF-8B78-919C62819D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20:47:26Z</dcterms:created>
  <dc:creator> </dc:creator>
  <dc:description/>
  <dc:language>en-US</dc:language>
  <cp:lastModifiedBy>Everton Henriques</cp:lastModifiedBy>
  <dcterms:modified xsi:type="dcterms:W3CDTF">2010-09-21T16:23:37Z</dcterms:modified>
  <cp:revision>45</cp:revision>
  <dc:subject/>
  <dc:title>Chapter 2:  Matter and Change</dc:title>
</cp:coreProperties>
</file>