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14648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87F45-C9AC-40CE-ACF1-9B9BDEA2FF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C889C-0E49-4EA4-9678-CCF83C0C2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D90DF-C259-4B8B-8EFF-B968D9D6E0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s can test soil to see if it contains the right right chemicals to grow a crop or grass – fertilizer or l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icides previously were non-specific insect killer thus they would kill insects that were useful. Today chemists can design pesticides and insecticides that can targ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from a jellyfish that causes it to glow. When that same chemical is added to a potato crop, it can tell the farmer when to water the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B26D9-4229-4E73-B2E9-426591AE4B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ant is a material that is found in air, water or soil that is harmful to humans or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use lead graph transparency if time a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F3175-FA3A-4F67-915E-044443691F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rly 1800s scientists began to study the composition of stars by analyzing the light they transmitted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have analyzed 850 pounds of moon rock brought back during science explo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56E8C-8D87-4BBF-91D2-ADFFF4E725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xample of Flashlight not work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– Batteries ar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 – Replace bat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 does not prove my hypothesis so I modify hypothesis to Replace light bulb and try experiment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DFDD9-EAD5-4878-B742-E278439BC5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0080C-B3A7-4F11-9782-1CDB23B0ED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00E11-8ABB-4941-89FC-D62E66A93B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D126A-F9ED-45D4-A180-99ABF2B3BD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30039-0428-4CDB-800A-F7B2FAF9F6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umn – Visitors to New England: color changes in leaves – Bright pigments are produced by a complex chemical process which depend upon changes in temperature and hours of daylight. The color pigments are matter or “STUF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you breathe is an example of “invisible”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why some creatures can survive in deep ocean without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foods taste bitter and sw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re are different shampoos for oily and dry 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examples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14C9B-A234-4404-AB76-383C1ABC6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informed Citizen – space exploration but NASA research caused cordless tools, scratch resistant plastic lenses, heart monitors, flat screen TVs, smoke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do not need to have the word Chemist in your job title to benefit from knowing chemistry.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fighter – what types of chemical on a fire. Don’t put water on certain f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er – asked to gather information on a story about say Indian Point or some chemical 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rmacist – interaction of chemicals in medicine so people do not get ha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Materials specialist – haz Mat te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eum curator – how to preserve artifacts or ancient books or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ant – Friend that must do inventories for a chemical company or oil refinery and find out quantities of their produ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can help you satisfy your natural desire to understand how things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68B86-8FDC-4144-94F3-8CC93654BC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s turn brown because iron in apple reacts with air similar to how an iron object ru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 dissolves faster because molecules move faster and draw apart the suga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mother or father may add salt to a pot of water while boiling to make spaghetti or pasta – Causes water to boil at a higher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yeast (a single celled fungus) to bread consumes sugar and releases carbon dioxide and 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release oxygen – draw in water and carbon dioxide and form sugar and oxy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ctivities – It will be hard to find any that do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what you eat, the products you use for personal hygiene, normal mode of transportation, and their h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604F8-2AEA-4A2D-A24E-E322E7098F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F5D0A-72BE-4728-86B7-B2FB55DD7E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8 while walking through the woods of native Switzerland – George de Mestral took a close look at those pesky burrs under magnification – he saw that each burr was covered with tiny little hooks that latched onto the loops in the woven cloth of his so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word is Scop which means “to look a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 – Greek word Makr meaning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– Greek word Mikr meaning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1432E-7EE8-4932-AF96-DAB0191B3F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ion – Fiberglass – air is a good barrier to thermal energy as long as air is not moving. Fiberglass is thin fibers woven together but allows air pock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ion designed from seaweed. A gelatin-like mixture of agar and water is freeze dried to remove the water . SEAg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ing of oil, coal, petroleum and natural gas – Supply of fossil fuels is limited particularly oil/ gasoline maybe within next 50 to 100 years no more oil or gas – What do we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for power, heat demand constantly rising but supply is lim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sel and gasoline produce an irritating exhaust when it burns but biodiesel would smell like French Fries!!!!! Less sulfur in diesel so less pollution or smo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greatest challenges in future come up with new sources of fuel and stop greenhouse effect (production of 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by NASA to allow astronauts to drill through the Moon’s surface to collect samples. – Electric cars – Solar power stor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D2465-C8FC-4082-BD93-C04A89E9D3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leming  - transparency of Mold on O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d arteries can be replaced with plastic tubes – organic chemistry that will be covered later in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hips or knees are made from metals–plastics–ceramics and can replace worn out joints and allow people to walk without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 victims can benefit from a plastic “skin” that can heal itself when the plastic cracks. Chemicals that repair the damage are released from tiny capsules in the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Genome project was to identify all the genes in human DNA and determining the sequences of base pai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ture scientists expect to use gene therapy to treat some diseases. A gene that is not working properly would be replaced with one that will work proper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4987-D585-404C-AE2E-9EC96A3A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724-51DD-4401-A6AC-AF1EC2AB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FF7-49F3-49CF-91DB-6B05AF38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481-685F-4935-B9C2-912974B2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6FF8-B229-483C-BC67-59EE8EFD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9148-0133-47CB-9C7D-95DEAB3B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183F-B10D-411D-890E-C790D7F9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4888-DB50-4078-8E50-4A41556B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17A7-F004-4730-A78C-E418E66A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A0A2-253B-48D6-98E4-6CA3AC87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60AB-F5C0-4B11-B109-EB05EAA0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0FE-6F1F-4FA5-A66A-1A837BE9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3540-A42C-4FCC-8AEB-D0BE8F85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CDE9-454C-4232-B065-8539A0EA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8A20-A6D3-4B54-942F-54CC5B56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268F-3949-42A5-9A08-E2701DEB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9A6C-80F7-465A-B28D-A9E43AFC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EB8B-594E-4BF0-BF16-7EC02ECE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D8B-5007-4437-9DB2-46B1B080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D0A-1CE9-4C63-9412-D5D9F2EB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3E7-A5A8-488C-BBA3-78F83915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9E4-5D66-4403-A50E-C5070A6F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1E0-2D05-4773-B2B5-90A41AE6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A46-01FF-448E-A3A7-6E8EFD5B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027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1028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29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137B-1A80-4C92-8CD7-C3D6EDA38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CEDF-F730-488D-9449-8DE80FF9F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endigo.com/usrimage/ctg46.gif&amp;imgrefurl=http://www.fendigo.com/catalog.htm&amp;h=150&amp;w=150&amp;sz=18&amp;hl=en&amp;start=13&amp;tbnid=4CEI2zm8OhboUM:&amp;tbnh=96&amp;tbnw=96&amp;prev=/images%3Fq%3Dinsecticides%26gbv%3D2%26svnum%3D10%26hl%3Den" TargetMode="External"/><Relationship Id="rId2" Type="http://schemas.openxmlformats.org/officeDocument/2006/relationships/hyperlink" Target="http://images.google.com/imgres?imgurl=http://www.fendigo.com/usrimage/ctg46.gif&amp;imgrefurl=http://www.fendigo.com/catalog.htm&amp;h=150&amp;w=150&amp;sz=18&amp;hl=en&amp;start=13&amp;tbnid=4CEI2zm8OhboUM:&amp;tbnh=96&amp;tbnw=96&amp;prev=/images%3Fq%3Dinsecticides%26gbv%3D2%26svnum%3D10%26hl%3De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su.edu/~moorean4/TestSite/chemistry-stuff.jpg&amp;imgrefurl=http://www.msu.edu/~moorean4/TestSite/chemistrymain.htm&amp;h=333&amp;w=350&amp;sz=25&amp;hl=en&amp;start=5&amp;tbnid=tRXfJ1O6yQjzgM:&amp;tbnh=114&amp;tbnw=120&amp;prev=/images%3Fq%3Dchemistry%2B%26gbv%3D2%26svnum%3D10%26hl%3De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iles.turbosquid.com/Preview/Content_on_2_26_2005_13_38_09/DNA8-400.jpg71abe163-6969-448a-8c20-b7209efeefb0Large.jpg&amp;imgrefurl=http://www.turbosquid.com/FullPreview/Index.cfm/ID/255352&amp;h=300&amp;w=400&amp;sz=36&amp;hl=en&amp;start=6&amp;tbnid=XOzrBk0lh6J-bM:&amp;tbnh=93&amp;tbnw=124&amp;prev=/images%3Fq%3DDNA%26gbv%3D2%26svnum%3D10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C0F0-9194-4903-9EA7-4C5A94E43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hapter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3880" y="18284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tion to Chemist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ohnochem"/>
          <p:cNvPicPr/>
          <p:nvPr/>
        </p:nvPicPr>
        <p:blipFill>
          <a:blip r:embed="rId1"/>
          <a:stretch/>
        </p:blipFill>
        <p:spPr>
          <a:xfrm>
            <a:off x="2666880" y="2819520"/>
            <a:ext cx="4095720" cy="3065400"/>
          </a:xfrm>
          <a:prstGeom prst="rect">
            <a:avLst/>
          </a:prstGeom>
          <a:ln w="25560">
            <a:solidFill>
              <a:srgbClr val="22130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FF6D-DC39-43E6-8BCE-A69A76E13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Agriculture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mists help to develop more productive crops and safer more effective ways to protect crop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ease resistant pla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ecticides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Arial"/>
                <a:hlinkClick r:id="rI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t growth horm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ervation of wa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5" descr="ctg4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29400" y="4191120"/>
            <a:ext cx="170640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2E06-70F8-408F-9FA2-B9944E666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The Environment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mists help to identify pollutants and prevent poll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lutants need to be identified and preven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d pa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inking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bon diox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obal wa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05D8-9588-432E-B54C-F12E33073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The Universe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mists gather data from afar and analyze matter that is brought back to Ear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sition of pla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ze moon roc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ets atmosphe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fe on other planet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EarthAS17"/>
          <p:cNvPicPr/>
          <p:nvPr/>
        </p:nvPicPr>
        <p:blipFill>
          <a:blip r:embed="rId1"/>
          <a:stretch/>
        </p:blipFill>
        <p:spPr>
          <a:xfrm>
            <a:off x="6095880" y="4191120"/>
            <a:ext cx="207324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E7CB-09B3-4402-9942-3E5A00861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The Scientific Method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gical approach to solving problems or answering ques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s with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observ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ing and recording information and f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Hypothe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roposed explanation for the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be tes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ing </a:t>
            </a:r>
            <a:r>
              <a:rPr b="1" lang="en-US" sz="2800" spc="-1" strike="noStrike">
                <a:solidFill>
                  <a:srgbClr val="336600"/>
                </a:solidFill>
                <a:latin typeface="Comic Sans MS"/>
              </a:rPr>
              <a:t>theori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4355-3540-4FF4-B939-13FDCA865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teps in the Scientific Method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uses your sen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antitativ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volves numbers such as 95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lsi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alitativ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word description such as h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ds to ques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ulating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hypothes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sible explanation for the observed set of fa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ducated gu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forming 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Experim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her new information to help decide whether the hypothesis is val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CF14-35DA-471A-885B-7278F9E77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Scientific Method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led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xperim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ed to test the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hypothes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two possible answ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Hypothesi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suppor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Hypothesi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refu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gather data and 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y doing the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xperim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ify the </a:t>
            </a: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hypothe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f needed and repeat th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D285-3E70-4F98-BCD2-2A55769C9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Scientific Method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7:55 min) Scientific Method – Holy Grail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://www.youtube.com/watch?v=GUQUqV0_PT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4:40 min) Reliability vs. Validity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://www.youtube.com/watch?v=1brINlIxvKU&amp;feature=re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A713-BBA7-4DAF-9C56-BBF4AC469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Section 1.1 Chemistry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i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reasons to study chemis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chemistry-stuf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583160"/>
            <a:ext cx="160020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F3D4-CF8E-41EB-BF2E-431B07457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What is Chemistry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hemist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tudy of the composition, structure, and properties of matter and the changes matter undergo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thing that has mass and takes up space.  You don’t have to be able to see it and it can be living or non-li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s: you, desk, I-pod, cell phone, air you brea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hemist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ffects all aspects of life and most natural events becaus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t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living and non-li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2014-F777-4364-9F7D-1339BC751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Why Study Chemistry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ryone and everything around us involves chemis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explains our wor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ps you make better, more informed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sible career in your future (COLLEGE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d to attain a specific go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1C6A-BA1C-4921-91BD-297D4026C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Why Study Chemistry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mistry explains wh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es turn brown after cut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gar dissolves faster in hot wa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yeast to bread dough makes it ri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ople add salt to water when making pa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ts release oxy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6122-1D8D-42A0-A689-EB1C88755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Section 1.2 – Chemistry Far and Wide</a:t>
            </a: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i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some areas of research affected by chemis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ss some examples of research in chemis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inguish between macroscopic and microscopic vie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1C02-6A7D-49ED-907B-8EAA854B6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Materials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mists design materials to fit specific nee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lcro, perfume, steel, ceramics, plastics, rubber, paints, nonstick utensils, fiberglas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different ways to view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Macroscop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large enough to see with the unaided ey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Microscop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an be seen only under magnif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1D0A-7CE8-4DCC-80BD-1C6E8B34E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nergy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need energy to meet the needs of our modern socie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eed is constantly increa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can conserve, produce and store energy to help meet these deman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e – insul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duction – oil from soybeans to make biodies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age – rechargeable batte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99CD-9800-441A-85F1-EC033BC89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Comic Sans MS"/>
              </a:rPr>
              <a:t>Medicines and Biotechnology</a:t>
            </a: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mistry supplies the medicines, materials, and technology that doctors use to treat their pati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nicillin, aspirin, vitamin C , Ant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tery transplants, and hip replace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an Genome Project, recombinant DNA technolo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DNA8-4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5257800"/>
            <a:ext cx="202716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21:55:11Z</dcterms:created>
  <dc:creator> </dc:creator>
  <dc:description/>
  <dc:language>en-US</dc:language>
  <cp:lastModifiedBy>Everton Henriques</cp:lastModifiedBy>
  <dcterms:modified xsi:type="dcterms:W3CDTF">2010-09-17T12:46:57Z</dcterms:modified>
  <cp:revision>40</cp:revision>
  <dc:subject/>
  <dc:title>Chapter 1</dc:title>
</cp:coreProperties>
</file>