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14648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CC8D8-5C46-4EE2-93D7-DD77B70024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DE0D5-CA55-41F7-B3BD-E88FF748F3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05634-31E8-476D-B115-5D830F6328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s can test soil to see if it contains the right right chemicals to grow a crop or grass – fertilizer or l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icides previously were non-specific insect killer thus they would kill insects that were useful. Today chemists can design pesticides and insecticides that can targ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from a jellyfish that causes it to glow. When that same chemical is added to a potato crop, it can tell the farmer when to water the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8A7B3-8B38-4BF1-B39C-06B956E9B9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ant is a material that is found in air, water or soil that is harmful to humans or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use lead graph transparency if time all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16F09-4AD0-4A0E-9AE7-9A73A8091B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arly 1800s scientists began to study the composition of stars by analyzing the light they transmitted to ea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sts have analyzed 850 pounds of moon rock brought back during science explo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2F6CA-207C-46E1-9BC5-DA7CE91FBF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example of Flashlight not work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hesis – Batteries are d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 – Replace bat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 does not prove my hypothesis so I modify hypothesis to Replace light bulb and try experiment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DFF0E-D887-4CA5-B81E-6963827020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93B08-CF39-482F-A121-6471F6A483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D9E7E-F490-4FB3-83AB-64C54CEFE6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FA9CD-E813-4CFA-A2CD-4944AEE08C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943EB-5AE0-4BA8-AD2C-F57C4350C4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umn – Visitors to New England: color changes in leaves – Bright pigments are produced by a complex chemical process which depend upon changes in temperature and hours of daylight. The color pigments are matter or “STUF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you breathe is an example of “invisible”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s why some creatures can survive in deep ocean without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foods taste bitter and sw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re are different shampoos for oily and dry 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examples of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31708-A558-4557-94AD-13F7FDA863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informed Citizen – space exploration but NASA research caused cordless tools, scratch resistant plastic lenses, heart monitors, flat screen TVs, smoke det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do not need to have the word Chemist in your job title to benefit from knowing chemistry.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fighter – what types of chemical on a fire. Don’t put water on certain f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er – asked to gather information on a story about say Indian Point or some chemical 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rmacist – interaction of chemicals in medicine so people do not get ha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zardous Materials specialist – haz Mat te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eum curator – how to preserve artifacts or ancient books or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ant – Friend that must do inventories for a chemical company or oil refinery and find out quantities of their produ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can help you satisfy your natural desire to understand how things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0745F-A568-4C50-8FC1-7610B5E81F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s turn brown because iron in apple reacts with air similar to how an iron object ru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 dissolves faster because molecules move faster and draw apart the suga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mother or father may add salt to a pot of water while boiling to make spaghetti or pasta – Causes water to boil at a higher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yeast (a single celled fungus) to bread consumes sugar and releases carbon dioxide and alcoh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release oxygen – draw in water and carbon dioxide and form sugar and oxy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Activities – It will be hard to find any that do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what you eat, the products you use for personal hygiene, normal mode of transportation, and their h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CADB2-E9A1-499F-B838-528A54D614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7FDBA-C1EB-43EE-9698-CC74F9CA69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48 while walking through the woods of native Switzerland – George de Mestral took a close look at those pesky burrs under magnification – he saw that each burr was covered with tiny little hooks that latched onto the loops in the woven cloth of his so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word is Scop which means “to look a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 – Greek word Makr meaning 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 – Greek word Mikr meaning sm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0F923-FB7A-4653-A1C5-C0476A3E0B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ion – Fiberglass – air is a good barrier to thermal energy as long as air is not moving. Fiberglass is thin fibers woven together but allows air pock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ion designed from seaweed. A gelatin-like mixture of agar and water is freeze dried to remove the water . SEAg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ing of oil, coal, petroleum and natural gas – Supply of fossil fuels is limited particularly oil/ gasoline maybe within next 50 to 100 years no more oil or gas – What do we d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for power, heat demand constantly rising but supply is limi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esel and gasoline produce an irritating exhaust when it burns but biodiesel would smell like French Fries!!!!! Less sulfur in diesel so less pollution or smo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greatest challenges in future come up with new sources of fuel and stop greenhouse effect (production of CO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by NASA to allow astronauts to drill through the Moon’s surface to collect samples. – Electric cars – Solar power stor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6480" y="9120240"/>
            <a:ext cx="3168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D8627-3E36-4E6A-AB1E-A0CC0E5A00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Fleming  - transparency of Mold on O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d arteries can be replaced with plastic tubes – organic chemistry that will be covered later in th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ficial hips or knees are made from metals–plastics–ceramics and can replace worn out joints and allow people to walk without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n victims can benefit from a plastic “skin” that can heal itself when the plastic cracks. Chemicals that repair the damage are released from tiny capsules in the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Genome project was to identify all the genes in human DNA and determining the sequences of base pai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ture scientists expect to use gene therapy to treat some diseases. A gene that is not working properly would be replaced with one that will work proper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9B6A-A06F-4359-A54F-2F60F002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209D-8144-4B7C-8E7C-3683D51E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17A3-0419-4E47-A054-F4944EF8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BFA-9362-45EE-9C60-BAE44F55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0060-40A6-42A2-AFC5-75D7FDCA0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8F17-080B-4354-9BD6-51662B68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8005-A7A2-4C63-8168-91529F04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17B3-F988-48E7-A39B-4AB8F74F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BAED-C217-4383-B56A-9FD8BA1D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4130-D2BC-4295-94E6-CD6D184B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DF0B-7A7B-4AAD-AFC0-5AA4F8F2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35BB-AEA9-4D70-AD11-494C2DA5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2D3B-5AE1-40B6-80CB-BCBC65E2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E068-BDC3-46C9-A841-382CA066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0467-43FB-486C-8BB4-F0F3F8D4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AD5D-20A8-4F25-81C3-7061E8D3D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E0EC-5B4B-4968-BD97-D5215785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E59D-282F-4473-A9BC-922DC6B6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7E7D-9D19-45C0-AAB3-B32E52CC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19D-0FFD-4BA1-A285-A554BE32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88D8-0A17-435F-859F-0DA4BB94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4098-A9BB-444A-88C7-FC748238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F8BB-8555-4688-8EDC-A1BDE96C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37F7-21D6-453B-8011-58CFF6D8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027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1028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29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129E-A312-466A-BC9B-E84B0467D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55D8-07B5-4058-ADD5-03AF7DAAF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endigo.com/usrimage/ctg46.gif&amp;imgrefurl=http://www.fendigo.com/catalog.htm&amp;h=150&amp;w=150&amp;sz=18&amp;hl=en&amp;start=13&amp;tbnid=4CEI2zm8OhboUM:&amp;tbnh=96&amp;tbnw=96&amp;prev=/images%3Fq%3Dinsecticides%26gbv%3D2%26svnum%3D10%26hl%3Den" TargetMode="External"/><Relationship Id="rId2" Type="http://schemas.openxmlformats.org/officeDocument/2006/relationships/hyperlink" Target="http://images.google.com/imgres?imgurl=http://www.fendigo.com/usrimage/ctg46.gif&amp;imgrefurl=http://www.fendigo.com/catalog.htm&amp;h=150&amp;w=150&amp;sz=18&amp;hl=en&amp;start=13&amp;tbnid=4CEI2zm8OhboUM:&amp;tbnh=96&amp;tbnw=96&amp;prev=/images%3Fq%3Dinsecticides%26gbv%3D2%26svnum%3D10%26hl%3De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su.edu/~moorean4/TestSite/chemistry-stuff.jpg&amp;imgrefurl=http://www.msu.edu/~moorean4/TestSite/chemistrymain.htm&amp;h=333&amp;w=350&amp;sz=25&amp;hl=en&amp;start=5&amp;tbnid=tRXfJ1O6yQjzgM:&amp;tbnh=114&amp;tbnw=120&amp;prev=/images%3Fq%3Dchemistry%2B%26gbv%3D2%26svnum%3D10%26hl%3De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iles.turbosquid.com/Preview/Content_on_2_26_2005_13_38_09/DNA8-400.jpg71abe163-6969-448a-8c20-b7209efeefb0Large.jpg&amp;imgrefurl=http://www.turbosquid.com/FullPreview/Index.cfm/ID/255352&amp;h=300&amp;w=400&amp;sz=36&amp;hl=en&amp;start=6&amp;tbnid=XOzrBk0lh6J-bM:&amp;tbnh=93&amp;tbnw=124&amp;prev=/images%3Fq%3DDNA%26gbv%3D2%26svnum%3D10%26hl%3D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BA4D-1AE1-4ACA-B0BF-37CD49D51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Chapter 1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23880" y="18284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troduction to Chemist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ohnochem"/>
          <p:cNvPicPr/>
          <p:nvPr/>
        </p:nvPicPr>
        <p:blipFill>
          <a:blip r:embed="rId1"/>
          <a:stretch/>
        </p:blipFill>
        <p:spPr>
          <a:xfrm>
            <a:off x="2666880" y="2819520"/>
            <a:ext cx="4095720" cy="3065400"/>
          </a:xfrm>
          <a:prstGeom prst="rect">
            <a:avLst/>
          </a:prstGeom>
          <a:ln w="25560">
            <a:solidFill>
              <a:srgbClr val="22130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98E2-ECE8-4D09-BE9E-C3B546E15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Agriculture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mists help to develop more productive crops and safer more effective ways to protect crop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ease resistant pla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ecticides 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Arial"/>
                <a:hlinkClick r:id="rI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t growth horm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ervation of wa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5" descr="ctg4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29400" y="4191120"/>
            <a:ext cx="170640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3CBD-EABD-41C2-A16A-B4A3432AB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The Environment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mists help to identify pollutants and prevent pollu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lutants need to be identified and prevent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d pai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inking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bon dioxi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obal war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A9D7-A7D6-4414-8E37-C527C045B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The Universe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mists gather data from afar and analyze matter that is brought back to Ear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sition of pla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alyze moon roc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ets atmosphe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fe on other planet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EarthAS17"/>
          <p:cNvPicPr/>
          <p:nvPr/>
        </p:nvPicPr>
        <p:blipFill>
          <a:blip r:embed="rId1"/>
          <a:stretch/>
        </p:blipFill>
        <p:spPr>
          <a:xfrm>
            <a:off x="6095880" y="4191120"/>
            <a:ext cx="207324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543F-1D03-4EAD-BFC5-61532D3B6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The Scientific Method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gical approach to solving problems or answering ques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s with 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observ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ing and recording information and f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Hypothe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roposed explanation for the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t be tes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ing </a:t>
            </a:r>
            <a:r>
              <a:rPr b="1" lang="en-US" sz="2800" spc="-1" strike="noStrike">
                <a:solidFill>
                  <a:srgbClr val="336600"/>
                </a:solidFill>
                <a:latin typeface="Comic Sans MS"/>
              </a:rPr>
              <a:t>theori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478C-7AE8-4D0F-804D-A852DF47C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teps in the Scientific Method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Observat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uses your sens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antitativ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volves numbers such as 95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lsi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ualitativ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word description such as h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ads to ques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mulating </a:t>
            </a: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hypothesi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ssible explanation for the observed set of fa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ducated gu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forming 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Experime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ther new information to help decide whether the hypothesis is val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CD89-6F8D-4468-890E-1406765E3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Scientific Method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rolled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xperime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gned to test the 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hypothesi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two possible answ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Hypothesi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suppor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omic Sans MS"/>
              </a:rPr>
              <a:t>Hypothesi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refu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gather data and </a:t>
            </a: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observation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y doing the </a:t>
            </a: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experim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ify the </a:t>
            </a: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hypothe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f needed and repeat th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7E45-A5A6-4AE4-AD07-D8957B580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Scientific Method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7:55 min) Scientific Method – Holy Grail: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ttp://www.youtube.com/watch?v=GUQUqV0_PT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4:40 min) Reliability vs. Validity: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ttp://www.youtube.com/watch?v=1brINlIxvKU&amp;feature=rel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49BE-09CF-4CA5-B528-7E08DAD09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Section 1.1 Chemistry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iv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reasons to study chemis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chemistry-stuf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583160"/>
            <a:ext cx="160020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B6D7-F0C8-40BE-89DE-DB5B3AD61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What is Chemistry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Chemist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tudy of the composition, structure, and properties of matter and the changes matter undergo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a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ything that has mass and takes up space.  You don’t have to be able to see it and it can be living or non-li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s: you, desk, I-pod, cell phone, air you brea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Chemistr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ffects all aspects of life and most natural events becaus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att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living and non-li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EB7A-7825-4C6B-BC12-DEBC50E98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Why Study Chemistry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ryone and everything around us involves chemis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explains our worl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ps you make better, more informed 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sible career in your future (COLLEGE!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d to attain a specific go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9A79-CB83-4F1F-B2C0-804881393A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Why Study Chemistry?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mistry explains why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es turn brown after cut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gar dissolves faster in hot wa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ng yeast to bread dough makes it ri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ople add salt to water when making pa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ts release oxy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D48D-38DA-4DE5-8EB9-FA3F2EFA3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Section 1.2 – Chemistry Far and Wide</a:t>
            </a: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iv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some areas of research affected by chemis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ss some examples of research in chemis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tinguish between macroscopic and microscopic view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086F-9C75-4458-A451-82EEF605D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Materials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mists design materials to fit specific nee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lcro, perfume, steel, ceramics, plastics, rubber, paints, nonstick utensils, fiberglas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different ways to view the wor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Comic Sans MS"/>
              </a:rPr>
              <a:t>Macroscop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large enough to see with the unaided ey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Microscop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can be seen only under magnif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6361-CC0A-4188-9C08-60BF74243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nergy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need energy to meet the needs of our modern socie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need is constantly increas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can conserve, produce and store energy to help meet these deman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erve – insula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duction – oil from soybeans to make biodies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orage – rechargeable batte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719B-08AF-42B8-B8BA-F5EC50A74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Comic Sans MS"/>
              </a:rPr>
              <a:t>Medicines and Biotechnology</a:t>
            </a: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mistry supplies the medicines, materials, and technology that doctors use to treat their pati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nicillin, aspirin, vitamin C , Antac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rtery transplants, and hip replace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an Genome Project, recombinant DNA technolo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5" descr="DNA8-4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5257800"/>
            <a:ext cx="202716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21:55:11Z</dcterms:created>
  <dc:creator> </dc:creator>
  <dc:description/>
  <dc:language>en-US</dc:language>
  <cp:lastModifiedBy>Everton Henriques</cp:lastModifiedBy>
  <dcterms:modified xsi:type="dcterms:W3CDTF">2010-09-17T12:46:57Z</dcterms:modified>
  <cp:revision>40</cp:revision>
  <dc:subject/>
  <dc:title>Chapter 1</dc:title>
</cp:coreProperties>
</file>